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F62-1697-45C4-8338-DDC0486E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319-41F1-45A3-A2F8-F911AFBC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6A5-43E3-4BF5-A73F-DB8C04E5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237-5B04-4983-A322-E432740A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8C4-ACA9-46C3-93F9-75E480B6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9B8-71CF-468A-A0A0-973C4F79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DF3-F8CF-4FD8-BA2D-DC63F157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42A-75BE-47AC-ACC2-B0E2AAB4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0AF-CDFA-4706-93C2-A76FE864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45C-33B0-4E7E-BF8F-2A94BE73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C91-4D70-46FB-B8AC-DFEAAFA2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7A4-B91E-42CF-ABBA-919B8B58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1FDDC-AE8C-4BE1-975A-58E861FC456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10AF5-4BEF-4433-BBE6-08BE6FC17A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6 Five Number 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Include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low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Quartile (Q1):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the middle value; 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per Quartile (Q3): the 7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QR (Interquartile range): measure of how spread out the data is; Q3-Q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DE to Qu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STAT then go over to CALC then to 1:1-VarStats then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the calculator where the information is (ex. L1) then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to see the Five Number Summ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x Plots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Y= then Plot 1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light “On”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o down to Type, hit the over arrow to highlight the box plot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t your window (use your data to find xmin and xmax; ymin = -2, ymax = 10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GRAPH; You can hit TRACE to find the five number summar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2:26:29Z</dcterms:created>
  <dc:creator>Jennifer Dugan</dc:creator>
  <dc:description/>
  <dc:language>en-US</dc:language>
  <cp:lastModifiedBy>Jennifer Dugan</cp:lastModifiedBy>
  <dcterms:modified xsi:type="dcterms:W3CDTF">2009-10-26T13:50:00Z</dcterms:modified>
  <cp:revision>2</cp:revision>
  <dc:subject/>
  <dc:title>T-6 Five Number Summary</dc:title>
</cp:coreProperties>
</file>