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6FC-B253-46F8-BE04-8BEFBFED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E49-3B0B-4D8B-8FE5-9D4586D1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7CA6-406C-47F6-9305-0F539AE8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857-0017-44F0-A637-98D91197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D76A-3504-43D6-AD33-D8552710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205-50E6-4BFF-8589-29085936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61C-83BF-4AAC-82C4-19F4438F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681-7ACD-46C9-A7D3-89A7D07E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EC3-C374-41ED-A2B6-295B6E89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F615-2C2B-436E-83B8-88DEA952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731C-9C0E-4A92-98DE-ACCC99EC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3ED-25E2-4967-8B6B-670B2741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53108-DD46-4FA3-8D85-8FF3684489CE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4AF7E-FF07-4B70-A11B-D475B79B0A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6 Five Number 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Include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nimum: the lowest value in the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Quartile (Q1): the 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an: the middle value; 5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pper Quartile (Q3): the 7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ximum: the highest value in the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QR (Interquartile range): measure of how spread out the data is; Q3-Q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on the Calculator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 the data into a li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MODE to Qu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STAT then go over to CALC then to 1:1-VarStats then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ll the calculator where the information is (ex. L1) then 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roll down to see the Five Number Summa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ox Plots on the Calculat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ter the data into a lis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Y= then Plot 1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ghlight “On”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o down to Type, hit the over arrow to highlight the box plot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ll the calculator where the information 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t your window (use your data to find xmin and xmax; ymin = -2, ymax = 10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t GRAPH; You can hit TRACE to find the five number summar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2:26:29Z</dcterms:created>
  <dc:creator>Jennifer Dugan</dc:creator>
  <dc:description/>
  <dc:language>en-US</dc:language>
  <cp:lastModifiedBy>Jennifer Dugan</cp:lastModifiedBy>
  <dcterms:modified xsi:type="dcterms:W3CDTF">2009-10-26T13:50:00Z</dcterms:modified>
  <cp:revision>2</cp:revision>
  <dc:subject/>
  <dc:title>T-6 Five Number Summary</dc:title>
</cp:coreProperties>
</file>