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D2A-0684-4ED8-852F-83DB87C1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732-90BA-4300-87E0-466C3E92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402-7B78-426B-ADA9-C40F7642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46C-0A34-43A2-BBE4-E96CB111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D2F-FED9-4DBA-9984-6C6EAEA9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206-5973-4C23-91E4-5B620655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0B9-AF1A-41CA-99A6-E4E9AD6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5C5-39B7-436F-8D65-E5C461CD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BF4-874D-484E-9887-8A375FC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A83-00A5-4C74-A4EF-8611CCE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07C-6861-4A7C-A47A-102231D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652-E54C-4471-ADDA-6CD37E8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01729-5AE6-42CA-BBDE-3029282364B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79DBA-3111-4B16-8AF2-305A70D50E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6 Five Number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Includ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low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middle value;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QR (Interquartile range): measure of how spread out the data is; Q3-Q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 to Q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STAT then go over to CALC then to 1:1-VarStats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the information is 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the Five Number Summ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x Plots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= then Plot 1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light “On”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 down to Type, hit the over arrow to highlight the box plot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t your window (use your data to find xmin and xmax; ymin = -2, ymax = 10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GRAPH; You can hit TRACE to find the five number summa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26:29Z</dcterms:created>
  <dc:creator>Jennifer Dugan</dc:creator>
  <dc:description/>
  <dc:language>en-US</dc:language>
  <cp:lastModifiedBy>Jennifer Dugan</cp:lastModifiedBy>
  <dcterms:modified xsi:type="dcterms:W3CDTF">2009-10-26T13:50:00Z</dcterms:modified>
  <cp:revision>2</cp:revision>
  <dc:subject/>
  <dc:title>T-6 Five Number Summary</dc:title>
</cp:coreProperties>
</file>