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928-E0D8-47B1-85E8-23964DD4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DBE-E8B5-4B2F-B2E7-8D83AB7A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F45-AB52-4E9C-8FB2-0329421A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62D-25BA-47D1-AED2-7D8BA7E2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9CF-9436-4FD5-8C44-AA481009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25E-41BA-4225-945F-42E776AB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A5E-DEC8-4660-B2CF-BAA5B554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41C-098B-4DED-86C9-F2F0FD5A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4F8-8D08-44A0-B8B4-9FB26AAD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B19-F673-4347-9AD7-39AE365D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2ED-A0A3-440B-9276-D124F104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95E-03AE-4591-A42D-0114B4E5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45E31-5132-4A90-912C-9D6A3566E71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58111-9044-4241-9784-4699F07ACF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6 Five Number 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Include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lowest value in the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Quartile (Q1):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the middle value; 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per Quartile (Q3): the 7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highest value in the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QR (Interquartile range): measure of how spread out the data is; Q3-Q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the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DE to Qu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STAT then go over to CALC then to 1:1-VarStats then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 the calculator where the information is (ex. L1) then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to see the Five Number Summa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ox Plots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the data into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Y= then Plot 1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light “On”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o down to Type, hit the over arrow to highlight the box plot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the calculator where the information 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t your window (use your data to find xmin and xmax; ymin = -2, ymax = 10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GRAPH; You can hit TRACE to find the five number summar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2:26:29Z</dcterms:created>
  <dc:creator>Jennifer Dugan</dc:creator>
  <dc:description/>
  <dc:language>en-US</dc:language>
  <cp:lastModifiedBy>Jennifer Dugan</cp:lastModifiedBy>
  <dcterms:modified xsi:type="dcterms:W3CDTF">2009-10-26T13:50:00Z</dcterms:modified>
  <cp:revision>2</cp:revision>
  <dc:subject/>
  <dc:title>T-6 Five Number Summary</dc:title>
</cp:coreProperties>
</file>