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A9F0-1854-4BCF-8DD4-35649AC1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87B-E70B-4DB3-AAA5-1F5A4020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B25B-A3FF-445F-9A90-3D08587A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C0C-678A-4F3B-BC11-3A0B3FE2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F8A3-E11F-49FA-A0C1-388D5818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290E-98CB-43CA-88AA-36C4538A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1753-DB77-4AB5-B234-44C3873A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6D6-8CE7-4C7E-932E-5467711D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77F-F8B4-4489-BECB-19F0658D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8B8-7E3B-4ADC-8D4C-A820C99D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7CD9-514A-4EBD-926B-DF769F7F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6ADA-C4ED-41F7-87ED-C0382509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253F2-69D3-4CC9-8665-F967287FEE99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80BC7-B060-42BD-8B38-C0F3FDC628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6 Five Number Summ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Include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nimum: the lowest value in the data s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Quartile (Q1): the 2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dian: the middle value; 5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pper Quartile (Q3): the 7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ximum: the highest value in the data s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QR (Interquartile range): measure of how spread out the data is; Q3-Q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on the Calculator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ter the data into a li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MODE to Qu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STAT then go over to CALC then to 1:1-VarStats then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ll the calculator where the information is (ex. L1) then hit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roll down to see the Five Number Summa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ox Plots on the Calculat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ter the data into a lis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Y= then Plot 1 then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ghlight “On” then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o down to Type, hit the over arrow to highlight the box plot then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ll the calculator where the information i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t your window (use your data to find xmin and xmax; ymin = -2, ymax = 10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t GRAPH; You can hit TRACE to find the five number summar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2:26:29Z</dcterms:created>
  <dc:creator>Jennifer Dugan</dc:creator>
  <dc:description/>
  <dc:language>en-US</dc:language>
  <cp:lastModifiedBy>Jennifer Dugan</cp:lastModifiedBy>
  <dcterms:modified xsi:type="dcterms:W3CDTF">2009-10-26T13:50:00Z</dcterms:modified>
  <cp:revision>2</cp:revision>
  <dc:subject/>
  <dc:title>T-6 Five Number Summary</dc:title>
</cp:coreProperties>
</file>