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934-95B0-49CE-A23D-2799FA02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010-F508-4EFA-BCB0-5A638950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273-45F1-4B9A-B740-FCB16E7F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339-AC8F-496B-A12A-F738DA4E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9E3-7180-4AAE-A543-00BF74D6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450-4A14-4332-8A6D-5C87410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0BA-776D-445B-BE16-BD8E7132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FA6-BE36-49E0-BBAF-4A12FCF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00B-122F-49C6-B707-B65D4489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F04-026D-4114-BAB4-8C326FE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344-4FA0-444F-829E-6B17E9D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EE0-ADC3-4525-BC1A-36D1035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779B7-6FA9-418A-AE78-4B23990A43B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A1EF4-A7DA-4208-8218-75CC5E3C05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6 Five Number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Includ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low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middle value;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highest value in the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QR (Interquartile range): measure of how spread out the data is; Q3-Q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 to Qu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STAT then go over to CALC then to 1:1-VarStats then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the information is 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the Five Number Summ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x Plots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the data into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= then Plot 1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light “On”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 down to Type, hit the over arrow to highlight the box plot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the calculator where the information 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t your window (use your data to find xmin and xmax; ymin = -2, ymax = 10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GRAPH; You can hit TRACE to find the five number summa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2:26:29Z</dcterms:created>
  <dc:creator>Jennifer Dugan</dc:creator>
  <dc:description/>
  <dc:language>en-US</dc:language>
  <cp:lastModifiedBy>Jennifer Dugan</cp:lastModifiedBy>
  <dcterms:modified xsi:type="dcterms:W3CDTF">2009-10-26T13:50:00Z</dcterms:modified>
  <cp:revision>2</cp:revision>
  <dc:subject/>
  <dc:title>T-6 Five Number Summary</dc:title>
</cp:coreProperties>
</file>