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B0D1-F797-4862-B354-72131B8F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4452-148B-4608-A5FC-4D342ADF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6704-86BE-4E38-87E6-2F8C37E3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2C0D-9851-49E7-9B5D-2366CBF5F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8531-3812-4068-9222-C234CC79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7752-A47B-4A3F-B4E5-1BDC058A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42FD-095B-49D0-BCB5-4644D335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2D4F-4244-4913-8E04-21512917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340A-6921-4A00-B467-AE5ABCEE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C2EF-97DF-4B8B-A5B6-C619F7AD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9E16-4EFE-4C37-A8BA-B76872F0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4114-8752-4B8A-AB9D-196359D8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66E117-4FAD-492B-901A-9040073EB31E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41E421-91C7-4995-8B26-A38A68BB50B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-5 Mean, Median and Mo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ean: the average; add up the numbers in your list and divide by how many numbers you hav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edian: the middle value in an ordered list of values (from least to greatest); for even data sets, take the average of the two middle valu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de: the value that appears most often; you can have zero, one, or more than one mod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esistant to Outliers: the value will not be greatly changed if an outlier is added to or taken away from the data se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an on the Calculato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nter data into a lis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MODE to Quit list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STAT then over to MATH; down to 3:mean(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it EN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ell the calculator where the information is (ex. L1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ose parenthesis; hit EN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r the median, follow the same steps except go down to 4:median(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4:08:37Z</dcterms:created>
  <dc:creator>Jennifer Dugan</dc:creator>
  <dc:description/>
  <dc:language>en-US</dc:language>
  <cp:lastModifiedBy>Jennifer Dugan</cp:lastModifiedBy>
  <dcterms:modified xsi:type="dcterms:W3CDTF">2009-10-02T18:38:11Z</dcterms:modified>
  <cp:revision>3</cp:revision>
  <dc:subject/>
  <dc:title>T-5 Mean, Median and Mode</dc:title>
</cp:coreProperties>
</file>