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6AD-B634-48B2-BE66-7523CACC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CD4-8580-40B9-A291-B44319DF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148-6438-460D-A429-10ED0F41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76C-F9BC-4253-8428-979E6F93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323-2C04-47FF-9AE3-65914B5B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7DB-2E02-4FEE-BFDE-EF41D2C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1CB-4780-43F7-95C5-033F8124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84E-53EB-466B-A96A-B4D9338A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F92-E083-41BE-882A-959E56DA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DC0-B4C4-425D-8594-5648223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DAD-E6F4-43FD-9D55-61A1680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6B1-7116-4818-A068-D2D88666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12F47-4B94-4508-95FA-ADF6EA2FC34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63836-2321-4E2C-ADAA-49CC148DDF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5 Mean, Median and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an: the average; add up the numbers in your list and divide by how many numbers you ha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n: the middle value in an ordered list of values (from least to greatest); for even data sets, take the average of the two middle valu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de: the value that appears most often; you can have zero, one, or more than one mo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sistant to Outliers: the value will not be greatly changed if an outlier is added to or taken away from the data s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ODE to Quit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STAT then over to MATH; down to 3:mean(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 (ex. L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ose parenthesis;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r the median, follow the same steps except go down to 4:median(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08:37Z</dcterms:created>
  <dc:creator>Jennifer Dugan</dc:creator>
  <dc:description/>
  <dc:language>en-US</dc:language>
  <cp:lastModifiedBy>Jennifer Dugan</cp:lastModifiedBy>
  <dcterms:modified xsi:type="dcterms:W3CDTF">2009-10-02T18:38:11Z</dcterms:modified>
  <cp:revision>3</cp:revision>
  <dc:subject/>
  <dc:title>T-5 Mean, Median and Mode</dc:title>
</cp:coreProperties>
</file>