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1AC-4146-4E9A-A31F-A27DBE5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DCC-8127-407A-9EA9-91DC42B0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B9F-253A-4778-ADBD-B6DEC873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6DE-1288-4E77-9378-3F67147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F35-C7CF-4630-83FA-CCACF16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81D-CB85-4421-9180-836C1D6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F63-E2FF-458C-8630-4FDFE6D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792-1AE1-471A-B02A-CE1655C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193-B39A-48E1-BCAC-F2CE032E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A73-D93E-4DC5-B852-BFEACEA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D7B-E34C-41AC-BBC3-61988C0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EF8-08D0-4D71-8C32-13803D8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8E053-AA75-4F1B-8D7A-E20B747160B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083E4-F8C6-4836-BCEF-14F1355D85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5 Mean, Median and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an: the average; add up the numbers in your list and divide by how many numbers you ha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n: the middle value in an ordered list of values (from least to greatest); for even data sets, take the average of the two middle valu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de: the value that appears most often; you can have zero, one, or more than one mo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sistant to Outliers: the value will not be greatly changed if an outlier is added to or taken away from the data s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ODE to Quit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STAT then over to MATH; down to 3:mean(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 (ex. L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ose parenthesis;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r the median, follow the same steps except go down to 4:median(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08:37Z</dcterms:created>
  <dc:creator>Jennifer Dugan</dc:creator>
  <dc:description/>
  <dc:language>en-US</dc:language>
  <cp:lastModifiedBy>Jennifer Dugan</cp:lastModifiedBy>
  <dcterms:modified xsi:type="dcterms:W3CDTF">2009-10-02T18:38:11Z</dcterms:modified>
  <cp:revision>3</cp:revision>
  <dc:subject/>
  <dc:title>T-5 Mean, Median and Mode</dc:title>
</cp:coreProperties>
</file>