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7AD-B5FF-429C-BA65-06E3B127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F3A-C0F0-4B42-8F76-C37EC96B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A9D-5FD2-46F1-ACF8-BCA0AB52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CEE-E56C-4653-8BAD-CB14211C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98F-A870-439C-A06D-562656AF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C4B-F9FF-477A-B0BF-32E35544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978-CC50-42A9-B57F-2399047C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1AF-297E-442C-86FF-3F5A55A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C21-9DF6-427B-B568-EDA73084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325-3549-4136-9A1F-05741E4F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C58-F36B-4E32-8C9A-C5933BA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55E-A99B-4131-B14D-25C9676F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55A97-8C00-4979-AEDD-0596BE2001F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7A06E-4C07-4080-81CD-BF6EBE7AD7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5 Mean, Median and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an: the average; add up the numbers in your list and divide by how many numbers you ha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dian: the middle value in an ordered list of values (from least to greatest); for even data sets, take the average of the two middle valu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de: the value that appears most often; you can have zero, one, or more than one mo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sistant to Outliers: the value will not be greatly changed if an outlier is added to or taken away from the data s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MODE to Quit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STAT then over to MATH; down to 3:mean(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 (ex. L1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ose parenthesis;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r the median, follow the same steps except go down to 4:median(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4:08:37Z</dcterms:created>
  <dc:creator>Jennifer Dugan</dc:creator>
  <dc:description/>
  <dc:language>en-US</dc:language>
  <cp:lastModifiedBy>Jennifer Dugan</cp:lastModifiedBy>
  <dcterms:modified xsi:type="dcterms:W3CDTF">2009-10-02T18:38:11Z</dcterms:modified>
  <cp:revision>3</cp:revision>
  <dc:subject/>
  <dc:title>T-5 Mean, Median and Mode</dc:title>
</cp:coreProperties>
</file>