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3C2-DDAC-46DD-9E63-2125448B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A77-57EB-47E2-8C1C-081D5DFE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79B-FE97-4BFC-B7B1-2603AC2E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ACD-73CB-4340-BD7B-C7F7016C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F54-1601-4F48-9042-E74603AA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45B-DF55-4E7F-8C6E-F4F8D728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BA2-8795-41B3-AAE8-2D33F621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7C2-6180-40B5-B099-5252BBDB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375-0143-4BF5-B4C5-35A089D0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F43-4ECE-426D-B432-6FBE5CC4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55B-592C-4416-BEC6-F7E5E38C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B68-0790-424A-83FA-A05E0B94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BF71D-C467-4992-B02E-F9C538C712A1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6C5B9-DEBD-41E3-8070-C227F455D7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4 Entering Data, Setting a Window, and Histo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ulator Steps and Instru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tering Data Into a Li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s STAT then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in your data and press ENTER after each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clear an entire list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light the name of the list (ex. L1) then hit CLEAR then EN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 NOT hit DELET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ways double check that your information is accurate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a Wind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s WIND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-min: make this value a little smaller than your smallest x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-max: make this value a little bigger than your biggest x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Xscl: this is what you count by on the x-ax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a histogram, it tells how wide the bars will 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y to use nice numbers like 1, 2, 5, 10, 25 or numbers ending in zer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a Wind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-min: make this a little smaller than your smallest y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histograms, this should always be -3 since you don’t have any y-value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-max: make this a little bigger than your biggest y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histograms, this value is usually between 5 and 20; you need it to be high enough to see the tallest b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scl: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a Histogram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Y=  then hit ENTER on Plot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light “On” and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down to Type then over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ird choice and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down to the list and tell the calculator where the information is (Ex. L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 your Wind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" name="Group 13"/>
          <p:cNvGrpSpPr/>
          <p:nvPr/>
        </p:nvGrpSpPr>
        <p:grpSpPr>
          <a:xfrm>
            <a:off x="7009920" y="3276720"/>
            <a:ext cx="762480" cy="879480"/>
            <a:chOff x="7009920" y="3276720"/>
            <a:chExt cx="762480" cy="879480"/>
          </a:xfrm>
        </p:grpSpPr>
        <p:grpSp>
          <p:nvGrpSpPr>
            <p:cNvPr id="52" name="Group 7"/>
            <p:cNvGrpSpPr/>
            <p:nvPr/>
          </p:nvGrpSpPr>
          <p:grpSpPr>
            <a:xfrm>
              <a:off x="7009920" y="3276720"/>
              <a:ext cx="762480" cy="879480"/>
              <a:chOff x="7009920" y="3276720"/>
              <a:chExt cx="762480" cy="879480"/>
            </a:xfrm>
          </p:grpSpPr>
          <p:sp>
            <p:nvSpPr>
              <p:cNvPr id="53" name="Straight Connector 4"/>
              <p:cNvSpPr/>
              <p:nvPr/>
            </p:nvSpPr>
            <p:spPr>
              <a:xfrm flipH="1">
                <a:off x="7009920" y="3276720"/>
                <a:ext cx="1080" cy="878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Straight Connector 6"/>
              <p:cNvSpPr/>
              <p:nvPr/>
            </p:nvSpPr>
            <p:spPr>
              <a:xfrm>
                <a:off x="7010280" y="4155120"/>
                <a:ext cx="76212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7010280" y="3627360"/>
              <a:ext cx="176400" cy="52776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7186680" y="3803040"/>
              <a:ext cx="176400" cy="35172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7363080" y="3920400"/>
              <a:ext cx="176400" cy="23580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7539480" y="4121280"/>
              <a:ext cx="176400" cy="34920"/>
            </a:xfrm>
            <a:prstGeom prst="rect">
              <a:avLst/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2:45:42Z</dcterms:created>
  <dc:creator>Jennifer Dugan</dc:creator>
  <dc:description/>
  <dc:language>en-US</dc:language>
  <cp:lastModifiedBy>Jennifer Dugan</cp:lastModifiedBy>
  <dcterms:modified xsi:type="dcterms:W3CDTF">2009-10-02T18:37:52Z</dcterms:modified>
  <cp:revision>3</cp:revision>
  <dc:subject/>
  <dc:title>T-4 Entering Data, Setting a Window, and Histograms</dc:title>
</cp:coreProperties>
</file>