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E8F-DD04-4F0B-B063-B582A58B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141-7ED0-40E0-9FE7-E2C1E8C7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299-E7C3-4B18-A2F0-A4DA752E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90B-2516-4451-9272-325C032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F5E-B95D-44E2-9E69-1F9870E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1CA-1C64-4DBE-982F-3D544F8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7C9-864B-4360-BF07-0CCB923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A23-3065-414B-B9A2-5C7BBD0E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5C5-895A-4C26-A4E0-8EDB353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287-5014-422C-A39D-499A3A6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7E9-82CB-4FF1-8F17-89ADCFD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1FB-EF9E-4974-93AA-D1EDAD1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02545-BD34-4BBE-A8FA-F77B05EFBD1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4B422-E4D1-4A65-A293-EE4425C732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4 Entering Data, Setting a Window, and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ulator Steps and Instru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tering Data Into a 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STAT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in your data and press ENTER after each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clear an entire list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light the name of the list (ex. L1) then hit CLEAR then E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NOT hit DELET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double check that your information is accurat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in: make this value a little smaller than your small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ax: make this value a little bigger than your bigg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scl: this is what you count by on the x-ax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a histogram, it tells how wide the bars will 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y to use nice numbers like 1, 2, 5, 10, 25 or numbers ending in zer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in: make this a little smaller than your small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should always be -3 since you don’t have any y-valu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ax: make this a little bigger than your bigg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value is usually between 5 and 20; you need it to be high enough to see the tallest b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scl: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a Histogram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  then hit ENTER on Plot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ype then over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choice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he list and tell the calculator where the information is (Ex. L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13"/>
          <p:cNvGrpSpPr/>
          <p:nvPr/>
        </p:nvGrpSpPr>
        <p:grpSpPr>
          <a:xfrm>
            <a:off x="7009920" y="3276720"/>
            <a:ext cx="762480" cy="879480"/>
            <a:chOff x="7009920" y="3276720"/>
            <a:chExt cx="762480" cy="879480"/>
          </a:xfrm>
        </p:grpSpPr>
        <p:grpSp>
          <p:nvGrpSpPr>
            <p:cNvPr id="52" name="Group 7"/>
            <p:cNvGrpSpPr/>
            <p:nvPr/>
          </p:nvGrpSpPr>
          <p:grpSpPr>
            <a:xfrm>
              <a:off x="7009920" y="3276720"/>
              <a:ext cx="762480" cy="879480"/>
              <a:chOff x="7009920" y="3276720"/>
              <a:chExt cx="762480" cy="879480"/>
            </a:xfrm>
          </p:grpSpPr>
          <p:sp>
            <p:nvSpPr>
              <p:cNvPr id="53" name="Straight Connector 4"/>
              <p:cNvSpPr/>
              <p:nvPr/>
            </p:nvSpPr>
            <p:spPr>
              <a:xfrm flipH="1">
                <a:off x="7009920" y="3276720"/>
                <a:ext cx="1080" cy="878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Straight Connector 6"/>
              <p:cNvSpPr/>
              <p:nvPr/>
            </p:nvSpPr>
            <p:spPr>
              <a:xfrm>
                <a:off x="7010280" y="4155120"/>
                <a:ext cx="76212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7010280" y="3627360"/>
              <a:ext cx="176400" cy="52776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186680" y="3803040"/>
              <a:ext cx="176400" cy="3517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7363080" y="3920400"/>
              <a:ext cx="176400" cy="23580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539480" y="4121280"/>
              <a:ext cx="176400" cy="349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45:42Z</dcterms:created>
  <dc:creator>Jennifer Dugan</dc:creator>
  <dc:description/>
  <dc:language>en-US</dc:language>
  <cp:lastModifiedBy>Jennifer Dugan</cp:lastModifiedBy>
  <dcterms:modified xsi:type="dcterms:W3CDTF">2009-10-02T18:37:52Z</dcterms:modified>
  <cp:revision>3</cp:revision>
  <dc:subject/>
  <dc:title>T-4 Entering Data, Setting a Window, and Histograms</dc:title>
</cp:coreProperties>
</file>