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773-6CEC-43BE-ABE7-5FC279F3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81-A30E-4885-AA85-DBE98C5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1C6-F06A-4B7B-A6F9-264917F7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2FC-ABEB-4EB6-B4F0-FB0FD78E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960-5536-4651-965F-B8079533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3FB-4403-4F03-905F-22DA9954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FF4-9916-4061-8F1D-2F37DCE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882-F2B7-42D8-AB4F-4462B5B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736-52A6-4FDA-97D7-E3A67E7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6F6-3552-4AB8-A4F0-60D2A92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20B-EBA9-47A9-A976-4EC7803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719-F11D-4975-A4B1-612E2E5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38CAE-62C5-4AFE-8E54-3B4B7DC2762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92B94-0E27-42AF-A031-96D2B71B6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4 Entering Data, Setting a Window, and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ulator Steps and Instru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tering Data Into a 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STAT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in your data and press ENTER after each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clear an entire list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light the name of the list (ex. L1) then hit CLEAR then E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NOT hit DELET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double check that your information is accurat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in: make this value a little smaller than your small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ax: make this value a little bigger than your bigg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scl: this is what you count by on the x-ax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a histogram, it tells how wide the bars will 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y to use nice numbers like 1, 2, 5, 10, 25 or numbers ending in zer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in: make this a little smaller than your small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should always be -3 since you don’t have any y-valu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ax: make this a little bigger than your bigg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value is usually between 5 and 20; you need it to be high enough to see the tallest b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scl: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a Histogram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  then hit ENTER on Plot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ype then over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choice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he list and tell the calculator where the information is (Ex. L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13"/>
          <p:cNvGrpSpPr/>
          <p:nvPr/>
        </p:nvGrpSpPr>
        <p:grpSpPr>
          <a:xfrm>
            <a:off x="7009920" y="3276720"/>
            <a:ext cx="762480" cy="879480"/>
            <a:chOff x="7009920" y="3276720"/>
            <a:chExt cx="762480" cy="879480"/>
          </a:xfrm>
        </p:grpSpPr>
        <p:grpSp>
          <p:nvGrpSpPr>
            <p:cNvPr id="52" name="Group 7"/>
            <p:cNvGrpSpPr/>
            <p:nvPr/>
          </p:nvGrpSpPr>
          <p:grpSpPr>
            <a:xfrm>
              <a:off x="7009920" y="3276720"/>
              <a:ext cx="762480" cy="879480"/>
              <a:chOff x="7009920" y="3276720"/>
              <a:chExt cx="762480" cy="879480"/>
            </a:xfrm>
          </p:grpSpPr>
          <p:sp>
            <p:nvSpPr>
              <p:cNvPr id="53" name="Straight Connector 4"/>
              <p:cNvSpPr/>
              <p:nvPr/>
            </p:nvSpPr>
            <p:spPr>
              <a:xfrm flipH="1">
                <a:off x="7009920" y="3276720"/>
                <a:ext cx="1080" cy="878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Straight Connector 6"/>
              <p:cNvSpPr/>
              <p:nvPr/>
            </p:nvSpPr>
            <p:spPr>
              <a:xfrm>
                <a:off x="7010280" y="4155120"/>
                <a:ext cx="76212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7010280" y="3627360"/>
              <a:ext cx="176400" cy="52776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186680" y="3803040"/>
              <a:ext cx="176400" cy="3517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7363080" y="3920400"/>
              <a:ext cx="176400" cy="23580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539480" y="4121280"/>
              <a:ext cx="176400" cy="349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45:42Z</dcterms:created>
  <dc:creator>Jennifer Dugan</dc:creator>
  <dc:description/>
  <dc:language>en-US</dc:language>
  <cp:lastModifiedBy>Jennifer Dugan</cp:lastModifiedBy>
  <dcterms:modified xsi:type="dcterms:W3CDTF">2009-10-02T18:37:52Z</dcterms:modified>
  <cp:revision>3</cp:revision>
  <dc:subject/>
  <dc:title>T-4 Entering Data, Setting a Window, and Histograms</dc:title>
</cp:coreProperties>
</file>