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79B-D9A8-4424-B341-DCF892F5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CF9-03A6-4132-BFA7-5FE41634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C2B-41E0-4861-8482-5B8FE539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06B-2402-4788-8604-CDDCF71C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EAD-F413-49EA-8274-6799E376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427-4E76-46B2-ABF9-74F3BBEA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B26-F182-47F8-A4F8-9802B9CE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19A2-391F-444C-9EEB-683E4B07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4E4-F96A-481C-80C7-5C54DA06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3F4E-D3B9-4CBA-AAA0-21F3ADA4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9C63-327F-4913-BCEF-01CB430C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80A-DBEF-4D02-A60F-B16EC08F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5FC52-5ABD-4A8E-9695-D55631EF25E1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318B9-D81E-40D9-96F9-0D3A908DE6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4 Entering Data, Setting a Window, and Histo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lculator Steps and Instru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tering Data Into a Li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s STAT then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in your data and press ENTER after each 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clear an entire list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ghlight the name of the list (ex. L1) then hit CLEAR then EN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 NOT hit DELET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ways double check that your information is accurate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tting a Wind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s WIND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-min: make this value a little smaller than your smallest x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-max: make this value a little bigger than your biggest x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scl: this is what you count by on the x-ax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a histogram, it tells how wide the bars will b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y to use nice numbers like 1, 2, 5, 10, 25 or numbers ending in zer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tting a Wind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-min: make this a little smaller than your smallest y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histograms, this should always be -3 since you don’t have any y-value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-max: make this a little bigger than your biggest y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histograms, this value is usually between 5 and 20; you need it to be high enough to see the tallest b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scl: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a Histogram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data into a li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Y=  then hit ENTER on Plot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light “On” and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 down to Type then over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hird choice and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 down to the list and tell the calculator where the information is (Ex. L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t your Wind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1" name="Group 13"/>
          <p:cNvGrpSpPr/>
          <p:nvPr/>
        </p:nvGrpSpPr>
        <p:grpSpPr>
          <a:xfrm>
            <a:off x="7009920" y="3276720"/>
            <a:ext cx="762480" cy="879480"/>
            <a:chOff x="7009920" y="3276720"/>
            <a:chExt cx="762480" cy="879480"/>
          </a:xfrm>
        </p:grpSpPr>
        <p:grpSp>
          <p:nvGrpSpPr>
            <p:cNvPr id="52" name="Group 7"/>
            <p:cNvGrpSpPr/>
            <p:nvPr/>
          </p:nvGrpSpPr>
          <p:grpSpPr>
            <a:xfrm>
              <a:off x="7009920" y="3276720"/>
              <a:ext cx="762480" cy="879480"/>
              <a:chOff x="7009920" y="3276720"/>
              <a:chExt cx="762480" cy="879480"/>
            </a:xfrm>
          </p:grpSpPr>
          <p:sp>
            <p:nvSpPr>
              <p:cNvPr id="53" name="Straight Connector 4"/>
              <p:cNvSpPr/>
              <p:nvPr/>
            </p:nvSpPr>
            <p:spPr>
              <a:xfrm flipH="1">
                <a:off x="7009920" y="3276720"/>
                <a:ext cx="1080" cy="878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Straight Connector 6"/>
              <p:cNvSpPr/>
              <p:nvPr/>
            </p:nvSpPr>
            <p:spPr>
              <a:xfrm>
                <a:off x="7010280" y="4155120"/>
                <a:ext cx="76212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7010280" y="3627360"/>
              <a:ext cx="176400" cy="52776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7186680" y="3803040"/>
              <a:ext cx="176400" cy="35172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7363080" y="3920400"/>
              <a:ext cx="176400" cy="23580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7539480" y="4121280"/>
              <a:ext cx="176400" cy="3492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2:45:42Z</dcterms:created>
  <dc:creator>Jennifer Dugan</dc:creator>
  <dc:description/>
  <dc:language>en-US</dc:language>
  <cp:lastModifiedBy>Jennifer Dugan</cp:lastModifiedBy>
  <dcterms:modified xsi:type="dcterms:W3CDTF">2009-10-02T18:37:52Z</dcterms:modified>
  <cp:revision>3</cp:revision>
  <dc:subject/>
  <dc:title>T-4 Entering Data, Setting a Window, and Histograms</dc:title>
</cp:coreProperties>
</file>