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9A2-228E-4FA4-BAD5-11E4F3C2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904-EBB4-4FF1-8017-E59D223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42B-E885-4D23-A9B2-F299DB0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3B3-2510-47AE-97F4-26A3DBD4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95A-4B65-43F2-BA84-E945EAC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CD5-B85A-4715-9121-20D00497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11F-2DC7-4025-8ECE-AE14C5B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5F6-1BC8-4ECA-814F-86A91825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34E-CD74-436F-9421-9A41AEBD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912-88F0-4BD8-918D-595A03E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02A-08C6-4DEE-AC3F-4472B5D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089-D4B6-456C-B31C-BD7849D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1586F-F416-4B9B-B262-921D2AF744D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4ECD4-604D-4D91-90FB-5A5195E7A2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3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istogram is a special type of bar graph that measures the frequency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izontal axis: represents values in the data set; you must count by the same value to get to the next interval; this is the x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tical axis: measures the frequency of the data (or how often it occurs); When drawing a histogram by hand, the y-axis should start at zer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histograms for larger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alue on the edge of a bar is counted in the bar to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making a histogram, make sure you alway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a tit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el your x-axis and y-axis (the y-axis is always Frequency!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27:44Z</dcterms:created>
  <dc:creator>Jennifer Dugan</dc:creator>
  <dc:description/>
  <dc:language>en-US</dc:language>
  <cp:lastModifiedBy>Jennifer Dugan</cp:lastModifiedBy>
  <dcterms:modified xsi:type="dcterms:W3CDTF">2009-10-02T18:37:37Z</dcterms:modified>
  <cp:revision>3</cp:revision>
  <dc:subject/>
  <dc:title>T-3 Histograms</dc:title>
</cp:coreProperties>
</file>