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393A-5F93-414C-9C82-81D895BB2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33B9-9381-4AF6-A051-E1AD044F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15D7-D10F-494B-B871-A6E66BA10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770D-38F1-4289-AD71-304D37AAC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9BF6-8692-4FC3-85D5-CA896075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547F-2D10-4525-B27A-84D83D1E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3477-3B05-4981-A8B1-B84F02C8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A8E4-320C-4AA6-ABDC-8DB9B915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4707-6A09-404A-AD09-1A8EDC39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10B1-47E6-47CE-8FC9-12B460E2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623E-A572-48AA-A8C2-B51AB851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F4E7-F9B9-4A0C-A92C-660C5FE6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E481D5-69CC-4DCD-8BCF-E0E512EAAA0C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BC18AD-2FD9-42D8-BAEA-89165799C19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-3 Histogra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istogram Ba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histogram is a special type of bar graph that measures the frequency of dat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rizontal axis: represents values in the data set; you must count by the same value to get to the next interval; this is the x-ax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ertical axis: measures the frequency of the data (or how often it occurs); When drawing a histogram by hand, the y-axis should start at zer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istogram Ba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use histograms for larger sets of dat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value on the edge of a bar is counted in the bar to the r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making a histogram, make sure you always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ave a tit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abel your x-axis and y-axis (the y-axis is always Frequency!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3:27:44Z</dcterms:created>
  <dc:creator>Jennifer Dugan</dc:creator>
  <dc:description/>
  <dc:language>en-US</dc:language>
  <cp:lastModifiedBy>Jennifer Dugan</cp:lastModifiedBy>
  <dcterms:modified xsi:type="dcterms:W3CDTF">2009-10-02T18:37:37Z</dcterms:modified>
  <cp:revision>3</cp:revision>
  <dc:subject/>
  <dc:title>T-3 Histograms</dc:title>
</cp:coreProperties>
</file>