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C1F7-5125-4D11-A989-DDA63B6B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054-55D5-4A0E-9793-22B7FF78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E5C-7452-4B0C-B7AC-2B43F542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3F53-16D2-425D-9936-94FD4D67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21E-5219-4F78-8D75-51864331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9A2-7239-48F9-8604-15C16266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0F7-0C82-43DF-9858-1AB4D569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2EC-ADA0-4DA9-B663-B9DCD225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FE0-C763-4F14-BCA7-012723C3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195-97A3-4351-9B80-521B76D8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2A3-FDA3-4BA6-9F62-29D87ED6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684-E15A-4C1E-A5F5-086C7189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56AB9-FA5E-40DA-B01E-3604D900D457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76B7F-A1CF-4425-9F77-973862C63B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3 Histo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istogram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histogram is a special type of bar graph that measures the frequency of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rizontal axis: represents values in the data set; you must count by the same value to get to the next interval; this is the x-ax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tical axis: measures the frequency of the data (or how often it occurs); When drawing a histogram by hand, the y-axis should start at zer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istogram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use histograms for larger sets of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value on the edge of a bar is counted in the bar to the r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making a histogram, make sure you always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ve a tit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bel your x-axis and y-axis (the y-axis is always Frequency!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27:44Z</dcterms:created>
  <dc:creator>Jennifer Dugan</dc:creator>
  <dc:description/>
  <dc:language>en-US</dc:language>
  <cp:lastModifiedBy>Jennifer Dugan</cp:lastModifiedBy>
  <dcterms:modified xsi:type="dcterms:W3CDTF">2009-10-02T18:37:37Z</dcterms:modified>
  <cp:revision>3</cp:revision>
  <dc:subject/>
  <dc:title>T-3 Histograms</dc:title>
</cp:coreProperties>
</file>