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C8D-19D4-4883-BF91-A742110E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118-6EA2-4F81-B5EC-19901515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34E-C8E0-472E-8A5D-6B7DEEEB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0B7-DBF9-4A64-BA1E-E4391D8A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2C2-9E57-40E1-8D56-E653209E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838-F036-4DA2-BAC3-0CC2886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C41-448E-45E4-A4AF-724E97B7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0B5-98E6-4CE6-8C7F-24CB6707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39D-896F-4F02-AA53-F086BF19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BB8-2AF7-4D13-ADD5-E9B05390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C9B-C89E-44A7-967B-2521AA76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4E9-5E05-403E-A954-836DB11C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DC5C9-1AB4-4F86-BC45-6E756812F12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3593D-1243-46E1-A8DF-4E75602D40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3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istogram is a special type of bar graph that measures the frequency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izontal axis: represents values in the data set; you must count by the same value to get to the next interval; this is the x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tical axis: measures the frequency of the data (or how often it occurs); When drawing a histogram by hand, the y-axis should start at zer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stogram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histograms for larger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value on the edge of a bar is counted in the bar to the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making a histogram, make sure you alway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ve a tit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bel your x-axis and y-axis (the y-axis is always Frequency!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27:44Z</dcterms:created>
  <dc:creator>Jennifer Dugan</dc:creator>
  <dc:description/>
  <dc:language>en-US</dc:language>
  <cp:lastModifiedBy>Jennifer Dugan</cp:lastModifiedBy>
  <dcterms:modified xsi:type="dcterms:W3CDTF">2009-10-02T18:37:37Z</dcterms:modified>
  <cp:revision>3</cp:revision>
  <dc:subject/>
  <dc:title>T-3 Histograms</dc:title>
</cp:coreProperties>
</file>