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2167-5711-4489-87D7-0B7A1A7EE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5B43-E0B6-4A3E-AF10-B292E8278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6BE0-B159-47DE-9B5B-A0AE16341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A50D-E698-4F2D-9FA7-0CFB1BB46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8C71-D1B6-46FA-B26F-8C60307A5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8B7C-8031-4EA6-8DB6-BE9E3CAC4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AC7A-8A59-44A7-8343-34159321A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50C2-E9E2-44E8-9E76-3BA4BBEB7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CE03-859D-4FC5-A5DD-C002D646E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C34C-28F1-4330-BBC2-6FC54A0FA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C282-6544-43F1-A3AC-55CACAC70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1009-D951-4721-BA51-F3735F3CC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2D053F-836B-431F-B8E4-E7449ABBCC25}" type="datetime">
              <a:rPr b="0" lang="en-US" sz="1200" spc="-1" strike="noStrike">
                <a:solidFill>
                  <a:srgbClr val="ffffff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C50766-7A29-4A5C-9057-112111811DC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-2 Describing Distribu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Defini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istribution: how the data is spread out or how the data looks on a graph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ymmetric: when a graph is cut in half, it looks the same on both sid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Outliers: an unusually high or low value; it is far away from the other valu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aps: an empty space between other pieces of data; it must have a beginning and an end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Defini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Calibri"/>
              <a:buAutoNum type="arabicPeriod" startAt="5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eaks: a high point in your graph; you can have more than on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Calibri"/>
              <a:buAutoNum type="arabicPeriod" startAt="5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uster: a group of data with no gap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Calibri"/>
              <a:buAutoNum type="arabicPeriod" startAt="5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enter: the balancing point of  your dat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Calibri"/>
              <a:buAutoNum type="arabicPeriod" startAt="5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pread: how close together or far apart your data i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Calibri"/>
              <a:buAutoNum type="arabicPeriod" startAt="5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kewed to the right: the data is stretched to the right; the tail is on the righ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Defini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Calibri"/>
              <a:buAutoNum type="arabicPeriod" startAt="10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kewed to the left: the data is stretched to the left; the tail is on the lef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Calibri"/>
              <a:buAutoNum type="arabicPeriod" startAt="10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inimum: the smallest value in the data set or on the graph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Calibri"/>
              <a:buAutoNum type="arabicPeriod" startAt="10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aximum: the highest value in the data set or on the graph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Calibri"/>
              <a:buAutoNum type="arabicPeriod" startAt="10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ange: the difference between the highest and lowest values; max - mi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7T13:40:06Z</dcterms:created>
  <dc:creator>Jennifer Dugan</dc:creator>
  <dc:description/>
  <dc:language>en-US</dc:language>
  <cp:lastModifiedBy>Jennifer Dugan</cp:lastModifiedBy>
  <dcterms:modified xsi:type="dcterms:W3CDTF">2009-10-02T18:37:19Z</dcterms:modified>
  <cp:revision>3</cp:revision>
  <dc:subject/>
  <dc:title>T-2 Describing Distributions</dc:title>
</cp:coreProperties>
</file>