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6808-5517-4367-907C-02B4CC490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3990-F77E-4AD4-9D36-BDB0C8B55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E34F-FEC7-484F-A38B-2C2BC70F9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9704-AAF2-4D74-AEDD-F1ED8AC0F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4C13-9FCF-429D-9D3C-F45976F1B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323F-9508-4D4E-A18D-8749F3807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3C57-4CE0-4D1C-A1F8-52ED2F78F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F85E-7C1A-4E28-B6DB-B1FFDE465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E4D8-E80A-4C70-A5C6-2EA0CB3EB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465E-DAF2-49FB-BB1A-07106D4D2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8142-E684-4A65-A2BE-3CC42EEE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828E-5E16-4132-A635-CBA741D4C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FC30DE-6FC5-4E27-A68E-E8804A66AE06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405ECB-238C-4326-AF63-D6E2B9D6CF2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-2 Describing Distribu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fini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stribution: how the data is spread out or how the data looks on a grap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ymmetric: when a graph is cut in half, it looks the same on both sid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utliers: an unusually high or low value; it is far away from the other valu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aps: an empty space between other pieces of data; it must have a beginning and an en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fini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 startAt="5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eaks: a high point in your graph; you can have more than on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 startAt="5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uster: a group of data with no gap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 startAt="5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enter: the balancing point of  your dat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 startAt="5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pread: how close together or far apart your data i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 startAt="5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kewed to the right: the data is stretched to the right; the tail is on the righ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fini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 startAt="10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kewed to the left: the data is stretched to the left; the tail is on the lef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 startAt="10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inimum: the smallest value in the data set or on the grap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 startAt="10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ximum: the highest value in the data set or on the grap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 startAt="10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ange: the difference between the highest and lowest values; max - mi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7T13:40:06Z</dcterms:created>
  <dc:creator>Jennifer Dugan</dc:creator>
  <dc:description/>
  <dc:language>en-US</dc:language>
  <cp:lastModifiedBy>Jennifer Dugan</cp:lastModifiedBy>
  <dcterms:modified xsi:type="dcterms:W3CDTF">2009-10-02T18:37:19Z</dcterms:modified>
  <cp:revision>3</cp:revision>
  <dc:subject/>
  <dc:title>T-2 Describing Distributions</dc:title>
</cp:coreProperties>
</file>