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287-A2A2-4571-8925-CE38208D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A96-5894-45D8-B863-AA07B5E9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BB6-6DA1-497C-A3C1-26CBCF2F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7CE-1701-407F-A7D5-FD548425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286-AD0E-498C-9D6F-3073F5C1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1B4-7A04-4D42-8D67-EFC5716D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C75-B9C1-45ED-999F-64B4ABB0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A7C-2C8C-403E-8627-199A4208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F56-5912-4EB3-9947-1C7F8C14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AC0-0352-43F4-B348-983C6A8D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29D-87C9-419C-9500-E9C9E212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85E-E89B-47EE-8CDD-C7C4D286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B1D4D-C333-42C9-A2D5-E048AA3AF8D6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0D5FD-8630-40F0-87B9-4B1BEE4DF7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2 Describing Distribu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ribution: how the data is spread out or how the data looks on a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mmetric: when a graph is cut in half, it looks the same on both sid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utliers: an unusually high or low value; it is far away from the oth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ps: an empty space between other pieces of data; it must have a beginning and an e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aks: a high point in your graph; you can have more than 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uster: a group of data with no ga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enter: the balancing point of  your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read: how close together or far apart your data 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ewed to the right: the data is stretched to the right; the tail is on the 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ewed to the left: the data is stretched to the left; the tail is on the lef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nimum: the smallest value in the data set or on the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ximum: the highest value in the data set or on the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nge: the difference between the highest and lowest values; max - m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3:40:06Z</dcterms:created>
  <dc:creator>Jennifer Dugan</dc:creator>
  <dc:description/>
  <dc:language>en-US</dc:language>
  <cp:lastModifiedBy>Jennifer Dugan</cp:lastModifiedBy>
  <dcterms:modified xsi:type="dcterms:W3CDTF">2009-10-02T18:37:19Z</dcterms:modified>
  <cp:revision>3</cp:revision>
  <dc:subject/>
  <dc:title>T-2 Describing Distributions</dc:title>
</cp:coreProperties>
</file>