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6B5-6474-4EF5-BA98-67C2A675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A6A-5161-432E-A410-AA3CF49B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D0F-EA8F-4933-9CBA-2618B606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FA1-1884-49D0-B93C-9DCEB353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500-65CE-489C-8F68-352FF474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306-9B99-4A91-BA22-1679D6ED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913-00EA-4990-9E8D-B0B8F9B2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C17-A3D4-4BEC-9FFD-32883FFD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51D-4917-4A17-B811-882B8454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569-B3DF-4DC9-B29C-BC91CBF7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55F-4182-4688-A7E2-5A9DF902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A10-2A17-4DC7-86E1-0B7AC88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416EF-D1CA-4471-8832-773FABF25AA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4B5E1-6ADA-4FB6-A517-6ED5DE2C74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2 Describing Distribu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ribution: how the data is spread out or how the data looks on a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metric: when a graph is cut in half, it looks the same on both sid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tliers: an unusually high or low value; it is far away from the oth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ps: an empty space between other pieces of data; it must have a beginning and an e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aks: a high point in your graph; you can have more than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uster: a group of data with no ga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nter: the balancing point of  your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read: how close together or far apart your data 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right: the data is stretched to the right; the tail is on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left: the data is stretched to the left; the tail is on the lef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small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nge: the difference between the highest and lowest values; max - m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3:40:06Z</dcterms:created>
  <dc:creator>Jennifer Dugan</dc:creator>
  <dc:description/>
  <dc:language>en-US</dc:language>
  <cp:lastModifiedBy>Jennifer Dugan</cp:lastModifiedBy>
  <dcterms:modified xsi:type="dcterms:W3CDTF">2009-10-02T18:37:19Z</dcterms:modified>
  <cp:revision>3</cp:revision>
  <dc:subject/>
  <dc:title>T-2 Describing Distributions</dc:title>
</cp:coreProperties>
</file>