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E08-34FE-4823-8312-51595D03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BDA-4AE4-4E09-91FE-6063E2B1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FD1-0C96-47BC-9C5C-EEAEB4F4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0F0-D936-4083-B2D2-81EA90EF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198-6BA5-4E4D-8782-78CE8B33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768-6FCC-4B71-A926-8F1CFBAE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0B5-75BC-4574-AE3C-5A681742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3F3-C7AE-4EB5-8C1A-1099E69E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F58-3622-400F-AB33-FA1E5ED5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C4F-81A4-4406-A1CB-F8279D01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724-1AD4-4D38-A255-6613F33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06F-1DE4-4E8C-AFCB-A8247397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1DA81-21DF-4EC7-A33A-D3C86E6BA09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88800-F016-4F54-852C-232AE9384B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2 Describing Distribu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ribution: how the data is spread out or how the data looks on a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metric: when a graph is cut in half, it looks the same on both sid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utliers: an unusually high or low value; it is far away from the oth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ps: an empty space between other pieces of data; it must have a beginning and an e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aks: a high point in your graph; you can have more than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uster: a group of data with no ga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nter: the balancing point of  your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read: how close together or far apart your data 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ewed to the right: the data is stretched to the right; the tail is on the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kewed to the left: the data is stretched to the left; the tail is on the lef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smallest value in the data set or on the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highest value in the data set or on the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1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nge: the difference between the highest and lowest values; max - m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3:40:06Z</dcterms:created>
  <dc:creator>Jennifer Dugan</dc:creator>
  <dc:description/>
  <dc:language>en-US</dc:language>
  <cp:lastModifiedBy>Jennifer Dugan</cp:lastModifiedBy>
  <dcterms:modified xsi:type="dcterms:W3CDTF">2009-10-02T18:37:19Z</dcterms:modified>
  <cp:revision>3</cp:revision>
  <dc:subject/>
  <dc:title>T-2 Describing Distributions</dc:title>
</cp:coreProperties>
</file>