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38D-836C-437F-AC22-E9F94FB4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0E8-9D41-421B-81FB-52A6BB41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7A9-056F-42A8-8254-AD3F467A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784-AD3B-4237-B2CD-B14C672E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6942-68CA-4315-A3BA-46387FDF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3AB-4AFB-46B4-A1A8-25813BE8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726-658F-4A96-8F78-A46D6918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3EF9-D7DC-4868-B055-B198F84F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59C-A5B2-4D5F-9131-89DD5B26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0BE1-4584-4DE9-86B4-B8919AC3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5FE-D943-44A4-A4B7-BEA3D6C3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657-9A67-44E6-9BDA-57AF6CEC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CDD66-3F38-4D9F-A720-8D2265575AF0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93A7B-9623-4057-A3BE-B67B232332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2 Describing Distribu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ribution: how the data is spread out or how the data looks on a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mmetric: when a graph is cut in half, it looks the same on both sid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utliers: an unusually high or low value; it is far away from the oth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ps: an empty space between other pieces of data; it must have a beginning and an e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aks: a high point in your graph; you can have more than 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uster: a group of data with no ga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enter: the balancing point of  your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read: how close together or far apart your data 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ewed to the right: the data is stretched to the right; the tail is on the 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ewed to the left: the data is stretched to the left; the tail is on the lef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nimum: the smallest value in the data set or on the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ximum: the highest value in the data set or on the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nge: the difference between the highest and lowest values; max - m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3:40:06Z</dcterms:created>
  <dc:creator>Jennifer Dugan</dc:creator>
  <dc:description/>
  <dc:language>en-US</dc:language>
  <cp:lastModifiedBy>Jennifer Dugan</cp:lastModifiedBy>
  <dcterms:modified xsi:type="dcterms:W3CDTF">2009-10-02T18:37:19Z</dcterms:modified>
  <cp:revision>3</cp:revision>
  <dc:subject/>
  <dc:title>T-2 Describing Distributions</dc:title>
</cp:coreProperties>
</file>