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5.png" ContentType="image/png"/>
  <Override PartName="/ppt/media/image9.pct" ContentType="image/x-pict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22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21.pct" ContentType="image/x-pict"/>
  <Override PartName="/ppt/media/image1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120-0AB6-4796-9778-75A4025B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039-3547-44F2-B467-C0FAC04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251-A607-424E-B985-FD6DF3BB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284-04B4-46A7-977C-34DA5F32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AE8-0C78-445B-B8AC-05B35004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B37-2FD5-4E9D-943C-CB3BAF4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871-D079-4016-9D04-2A1C2CE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D43-8F7D-40BB-A23B-40C9FC3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295-906D-4EF8-AE65-640B2A3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308-791B-4342-B8EF-B4D3565D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556-5BCC-42EC-9CEC-FAD2C5E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018-8FE9-45BC-A86D-3CA7672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7A12C-30DF-40D2-8828-6ADD9D40E85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415B-C18A-4696-95B2-7140B19810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 and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4419720" y="20574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an example. Get rid of any sides you don’t ne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609480" y="4572000"/>
            <a:ext cx="1067040" cy="98280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1677240" y="4570560"/>
            <a:ext cx="2133720" cy="2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1675800" y="2805120"/>
            <a:ext cx="106668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30"/>
          <p:cNvSpPr/>
          <p:nvPr/>
        </p:nvSpPr>
        <p:spPr>
          <a:xfrm>
            <a:off x="4419720" y="3733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abel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36"/>
          <p:cNvSpPr/>
          <p:nvPr/>
        </p:nvSpPr>
        <p:spPr>
          <a:xfrm>
            <a:off x="4572000" y="4572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, b, and c are the sides of the base (triang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37"/>
          <p:cNvSpPr/>
          <p:nvPr/>
        </p:nvSpPr>
        <p:spPr>
          <a:xfrm>
            <a:off x="4648320" y="58276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 is the height of the base (triangle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19720" y="23288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, plug the values into the formula to solve for the surface are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798720" y="3733920"/>
          <a:ext cx="52898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3733920"/>
                    <a:ext cx="52898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02200" y="4724280"/>
          <a:ext cx="353700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4724280"/>
                    <a:ext cx="35370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327640" y="5641920"/>
          <a:ext cx="2884320" cy="5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27640" y="5641920"/>
                    <a:ext cx="28843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lume is similar to how much water is inside a plastic water bott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914400" y="275580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are finding out how many cubic units are in a 3-D space shape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the right, are examples of rectangular prisms broken up into cubic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5194440" y="2298600"/>
            <a:ext cx="32637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6"/>
          <p:cNvSpPr/>
          <p:nvPr/>
        </p:nvSpPr>
        <p:spPr>
          <a:xfrm rot="16200000">
            <a:off x="1899360" y="3805920"/>
            <a:ext cx="1304640" cy="23605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98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457200" y="2590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step in finding volume is to find the area of the base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2286000" y="52578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3222720" y="473544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30760" y="3662280"/>
          <a:ext cx="189864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0760" y="3662280"/>
                    <a:ext cx="1898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727520" y="4491000"/>
          <a:ext cx="2712960" cy="8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4491000"/>
                    <a:ext cx="27129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678200" y="5203800"/>
          <a:ext cx="271332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203800"/>
                    <a:ext cx="2713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325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7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5720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 we must take the area of the base and multiply it by the height of the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4038480"/>
          <a:ext cx="137160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038480"/>
                    <a:ext cx="13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26"/>
          <p:cNvSpPr/>
          <p:nvPr/>
        </p:nvSpPr>
        <p:spPr>
          <a:xfrm>
            <a:off x="4648320" y="35100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ula for finding the volume of any prism is…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r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area of the base and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height of the prism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590920" y="4094280"/>
          <a:ext cx="1069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094280"/>
                    <a:ext cx="1069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786280" y="4443480"/>
          <a:ext cx="2062440" cy="70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86280" y="4443480"/>
                    <a:ext cx="20624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523880" y="4627440"/>
          <a:ext cx="1524240" cy="52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4627440"/>
                    <a:ext cx="1524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182600" y="5211720"/>
          <a:ext cx="220680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2600" y="5211720"/>
                    <a:ext cx="2206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123920" y="5762520"/>
          <a:ext cx="2246400" cy="60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23920" y="5762520"/>
                    <a:ext cx="2246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32"/>
          <p:cNvSpPr/>
          <p:nvPr/>
        </p:nvSpPr>
        <p:spPr>
          <a:xfrm>
            <a:off x="3660840" y="6365880"/>
            <a:ext cx="54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ember that Volume is measured in cubic uni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1523880" y="56610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 for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Box 11"/>
          <p:cNvSpPr/>
          <p:nvPr/>
        </p:nvSpPr>
        <p:spPr>
          <a:xfrm>
            <a:off x="4572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use the following formula to find the volume of any prism. You can customize it to come up with formulas that work for specific shap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457200" y="3200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 = (area of the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86200" y="3838680"/>
          <a:ext cx="18288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3838680"/>
                    <a:ext cx="1828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14"/>
          <p:cNvSpPr/>
          <p:nvPr/>
        </p:nvSpPr>
        <p:spPr>
          <a:xfrm>
            <a:off x="457200" y="3895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tangular Pris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45720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ngular Prism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*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27520" y="4329000"/>
          <a:ext cx="249696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7520" y="4329000"/>
                    <a:ext cx="24969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Box 17"/>
          <p:cNvSpPr/>
          <p:nvPr/>
        </p:nvSpPr>
        <p:spPr>
          <a:xfrm>
            <a:off x="457200" y="5800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*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height of the triangle;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height of the pr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419720" y="13716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look at our triangular prism from a previou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30"/>
          <p:cNvSpPr/>
          <p:nvPr/>
        </p:nvSpPr>
        <p:spPr>
          <a:xfrm>
            <a:off x="4419720" y="2959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values would you need to plug in to find the volum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36"/>
          <p:cNvSpPr/>
          <p:nvPr/>
        </p:nvSpPr>
        <p:spPr>
          <a:xfrm>
            <a:off x="4495680" y="46483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8 is the base, 12 is the height of the triangle, and 22 is the height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532400" y="2666880"/>
          <a:ext cx="410184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2400" y="2666880"/>
                    <a:ext cx="4101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00560" y="4114800"/>
          <a:ext cx="27640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00560" y="4114800"/>
                    <a:ext cx="2764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olume/Surface Area of a Cylind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Can 4"/>
          <p:cNvSpPr/>
          <p:nvPr/>
        </p:nvSpPr>
        <p:spPr>
          <a:xfrm>
            <a:off x="457200" y="1676520"/>
            <a:ext cx="3352680" cy="4724280"/>
          </a:xfrm>
          <a:prstGeom prst="can">
            <a:avLst>
              <a:gd name="adj" fmla="val 17740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Straight Connector 6"/>
          <p:cNvSpPr/>
          <p:nvPr/>
        </p:nvSpPr>
        <p:spPr>
          <a:xfrm>
            <a:off x="2057400" y="2057400"/>
            <a:ext cx="17524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2819520" y="15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Straight Connector 9"/>
          <p:cNvSpPr/>
          <p:nvPr/>
        </p:nvSpPr>
        <p:spPr>
          <a:xfrm flipH="1">
            <a:off x="3808440" y="2057400"/>
            <a:ext cx="1440" cy="403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3429000" y="273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457200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surface area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48000" y="2743200"/>
          <a:ext cx="443412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8000" y="2743200"/>
                    <a:ext cx="4434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13"/>
          <p:cNvSpPr/>
          <p:nvPr/>
        </p:nvSpPr>
        <p:spPr>
          <a:xfrm>
            <a:off x="4572000" y="389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volume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330880" y="4925880"/>
          <a:ext cx="23144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0880" y="4925880"/>
                    <a:ext cx="2314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4"/>
          <p:cNvSpPr/>
          <p:nvPr/>
        </p:nvSpPr>
        <p:spPr>
          <a:xfrm>
            <a:off x="4038480" y="571500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you have a problem where the diameter is given, remember to divide the diameter by two to get the radiu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" y="26668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3.14 for pi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the sum of the areas of all faces on a three dimensional obje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measured in squared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the amount of space inside a three dimensional objec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measured in cubic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2514600" y="3502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914400" y="4340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4920" y="1473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otal Surface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33256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 = B(height of pris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558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the area of the base of the 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area is similar to the amount of wrapping paper needed to wrap a gif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57200" y="244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find surface area, you must find the 2-D areas of all the faces of the space shape.  Add all of the areas together to find the total surface a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57200" y="39704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any faces does a rectangular prism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57200" y="5257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said si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4" name="Group 43"/>
          <p:cNvGrpSpPr/>
          <p:nvPr/>
        </p:nvGrpSpPr>
        <p:grpSpPr>
          <a:xfrm>
            <a:off x="4495680" y="3646440"/>
            <a:ext cx="4267440" cy="2220840"/>
            <a:chOff x="4495680" y="3646440"/>
            <a:chExt cx="4267440" cy="2220840"/>
          </a:xfrm>
        </p:grpSpPr>
        <p:sp>
          <p:nvSpPr>
            <p:cNvPr id="55" name="Straight Connector 19"/>
            <p:cNvSpPr/>
            <p:nvPr/>
          </p:nvSpPr>
          <p:spPr>
            <a:xfrm>
              <a:off x="4495680" y="45795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20"/>
            <p:cNvSpPr/>
            <p:nvPr/>
          </p:nvSpPr>
          <p:spPr>
            <a:xfrm>
              <a:off x="4495680" y="58658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V="1">
              <a:off x="4495680" y="364644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V="1">
              <a:off x="7772400" y="365796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V="1">
              <a:off x="449568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 flipV="1">
              <a:off x="777240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5486400" y="36579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5486400" y="49514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 flipH="1">
              <a:off x="7771680" y="459360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30"/>
            <p:cNvSpPr/>
            <p:nvPr/>
          </p:nvSpPr>
          <p:spPr>
            <a:xfrm flipH="1">
              <a:off x="4495680" y="45723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31"/>
            <p:cNvSpPr/>
            <p:nvPr/>
          </p:nvSpPr>
          <p:spPr>
            <a:xfrm flipH="1">
              <a:off x="876168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32"/>
            <p:cNvSpPr/>
            <p:nvPr/>
          </p:nvSpPr>
          <p:spPr>
            <a:xfrm flipH="1">
              <a:off x="548460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TextBox 35"/>
          <p:cNvSpPr/>
          <p:nvPr/>
        </p:nvSpPr>
        <p:spPr>
          <a:xfrm rot="174600">
            <a:off x="6400800" y="39704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6705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594360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 rot="19348800">
            <a:off x="7914600" y="453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9"/>
          <p:cNvSpPr/>
          <p:nvPr/>
        </p:nvSpPr>
        <p:spPr>
          <a:xfrm rot="19348800">
            <a:off x="4726440" y="447660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41"/>
          <p:cNvSpPr/>
          <p:nvPr/>
        </p:nvSpPr>
        <p:spPr>
          <a:xfrm rot="174000">
            <a:off x="6172200" y="5268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tt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7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304920" y="2666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’re going to have to find the area of all six fac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9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0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0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TextBox 41"/>
            <p:cNvSpPr/>
            <p:nvPr/>
          </p:nvSpPr>
          <p:spPr>
            <a:xfrm>
              <a:off x="7718400" y="56505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1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304920" y="248904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nd the area of all the rectangles. Remember that area for a rectangle is A = l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3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4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4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3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62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4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304920" y="2362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w add up all six are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79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5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86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2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93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9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304920" y="2921040"/>
            <a:ext cx="45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 348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49"/>
          <p:cNvSpPr/>
          <p:nvPr/>
        </p:nvSpPr>
        <p:spPr>
          <a:xfrm>
            <a:off x="295200" y="289548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Oval 50"/>
          <p:cNvSpPr/>
          <p:nvPr/>
        </p:nvSpPr>
        <p:spPr>
          <a:xfrm>
            <a:off x="3755880" y="2816280"/>
            <a:ext cx="968400" cy="612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11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3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51"/>
          <p:cNvSpPr/>
          <p:nvPr/>
        </p:nvSpPr>
        <p:spPr>
          <a:xfrm>
            <a:off x="457200" y="2598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ould also use the formula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733920"/>
          <a:ext cx="7118640" cy="70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711864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01720" y="4626000"/>
          <a:ext cx="7648560" cy="70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720" y="4626000"/>
                    <a:ext cx="76485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838080" y="5432400"/>
          <a:ext cx="2476800" cy="66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5432400"/>
                    <a:ext cx="2476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Oval 56"/>
          <p:cNvSpPr/>
          <p:nvPr/>
        </p:nvSpPr>
        <p:spPr>
          <a:xfrm>
            <a:off x="1447920" y="54324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57200" y="12952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iangular prism, we can substitute into the general formula to come up with a formula that will work for all triangular pris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base is a triangle, you can replace B with ½bh. The new formula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45720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45720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*a, b, and c are the sides of the triang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8:17Z</dcterms:created>
  <dc:creator>Jennifer Dugan</dc:creator>
  <dc:description/>
  <dc:language>en-US</dc:language>
  <cp:lastModifiedBy>Jennifer Dugan</cp:lastModifiedBy>
  <dcterms:modified xsi:type="dcterms:W3CDTF">2010-05-06T13:12:06Z</dcterms:modified>
  <cp:revision>68</cp:revision>
  <dc:subject/>
  <dc:title>Linear Regression on the Calculator</dc:title>
</cp:coreProperties>
</file>