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5.png" ContentType="image/png"/>
  <Override PartName="/ppt/media/image9.pct" ContentType="image/x-pict"/>
  <Override PartName="/ppt/media/image12.pct" ContentType="image/x-pict"/>
  <Override PartName="/ppt/media/image24.png" ContentType="image/png"/>
  <Override PartName="/ppt/media/image7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10.pct" ContentType="image/x-pict"/>
  <Override PartName="/ppt/media/image22.png" ContentType="image/png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4.pct" ContentType="image/x-pict"/>
  <Override PartName="/ppt/media/image5.pct" ContentType="image/x-pict"/>
  <Override PartName="/ppt/media/image8.png" ContentType="image/png"/>
  <Override PartName="/ppt/media/image21.pct" ContentType="image/x-pict"/>
  <Override PartName="/ppt/media/image1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4AF-1380-41B3-855B-409B7C17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BBA-BC9B-414D-8448-7FC5FF97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A0F-0D86-4F0D-BB2E-883A6F6C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EA1-039E-42D9-A999-34866488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283-BE18-47BA-8568-F8D511E1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799-BF46-4CF4-8708-495301A7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212-96BB-4767-B125-6BF08FBA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5EF-40DA-4A90-83B2-BCB78687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F48-4F27-4B9D-BA78-47BD177F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810-4751-4522-B4A6-0A9E5634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4F9-5AC1-47AA-AA21-1350A0D4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ECF-DEDB-4B56-A85E-0965CACA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17154-86A7-4F71-8042-13CD9F5C356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4255F-274F-48D1-B777-B388DF5447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ct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ct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 and 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4419720" y="20574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take a look at an example. Get rid of any sides you don’t ne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16"/>
          <p:cNvSpPr/>
          <p:nvPr/>
        </p:nvSpPr>
        <p:spPr>
          <a:xfrm flipV="1">
            <a:off x="609480" y="4572000"/>
            <a:ext cx="1067040" cy="98280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1677240" y="4570560"/>
            <a:ext cx="2133720" cy="2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20"/>
          <p:cNvSpPr/>
          <p:nvPr/>
        </p:nvSpPr>
        <p:spPr>
          <a:xfrm flipV="1">
            <a:off x="1675800" y="2805120"/>
            <a:ext cx="106668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457200" y="1417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30"/>
          <p:cNvSpPr/>
          <p:nvPr/>
        </p:nvSpPr>
        <p:spPr>
          <a:xfrm>
            <a:off x="4419720" y="3733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label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31"/>
          <p:cNvSpPr/>
          <p:nvPr/>
        </p:nvSpPr>
        <p:spPr>
          <a:xfrm>
            <a:off x="295200" y="43434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2124000" y="47196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33"/>
          <p:cNvSpPr/>
          <p:nvPr/>
        </p:nvSpPr>
        <p:spPr>
          <a:xfrm>
            <a:off x="1133640" y="57913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34"/>
          <p:cNvSpPr/>
          <p:nvPr/>
        </p:nvSpPr>
        <p:spPr>
          <a:xfrm>
            <a:off x="1362240" y="50245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35"/>
          <p:cNvSpPr/>
          <p:nvPr/>
        </p:nvSpPr>
        <p:spPr>
          <a:xfrm>
            <a:off x="2666880" y="52578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eight of pr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36"/>
          <p:cNvSpPr/>
          <p:nvPr/>
        </p:nvSpPr>
        <p:spPr>
          <a:xfrm>
            <a:off x="4572000" y="45720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, b, and c are the sides of the base (triangle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37"/>
          <p:cNvSpPr/>
          <p:nvPr/>
        </p:nvSpPr>
        <p:spPr>
          <a:xfrm>
            <a:off x="4648320" y="58276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 is the height of the base (triangle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4419720" y="232884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, plug the values into the formula to solve for the surface are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457200" y="1417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TextBox 31"/>
          <p:cNvSpPr/>
          <p:nvPr/>
        </p:nvSpPr>
        <p:spPr>
          <a:xfrm>
            <a:off x="295200" y="43434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Box 32"/>
          <p:cNvSpPr/>
          <p:nvPr/>
        </p:nvSpPr>
        <p:spPr>
          <a:xfrm>
            <a:off x="2124000" y="47196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Box 33"/>
          <p:cNvSpPr/>
          <p:nvPr/>
        </p:nvSpPr>
        <p:spPr>
          <a:xfrm>
            <a:off x="1133640" y="57913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TextBox 34"/>
          <p:cNvSpPr/>
          <p:nvPr/>
        </p:nvSpPr>
        <p:spPr>
          <a:xfrm>
            <a:off x="1362240" y="50245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Box 35"/>
          <p:cNvSpPr/>
          <p:nvPr/>
        </p:nvSpPr>
        <p:spPr>
          <a:xfrm>
            <a:off x="2666880" y="52578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eight of pr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798720" y="3733920"/>
          <a:ext cx="528984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8720" y="3733920"/>
                    <a:ext cx="52898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002200" y="4724280"/>
          <a:ext cx="3537000" cy="4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2200" y="4724280"/>
                    <a:ext cx="35370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327640" y="5641920"/>
          <a:ext cx="2884320" cy="58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27640" y="5641920"/>
                    <a:ext cx="28843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lume is similar to how much water is inside a plastic water bott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914400" y="2755800"/>
            <a:ext cx="350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are finding out how many cubic units are in a 3-D space shape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the right, are examples of rectangular prisms broken up into cubic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5194440" y="2298600"/>
            <a:ext cx="32637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6"/>
          <p:cNvSpPr/>
          <p:nvPr/>
        </p:nvSpPr>
        <p:spPr>
          <a:xfrm rot="16200000">
            <a:off x="1899360" y="3805920"/>
            <a:ext cx="1304640" cy="23605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olume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298" name="Straight Connector 6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Straight Connector 7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Straight Connector 8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1" name="Straight Connector 9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2" name="Straight Connector 10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Straight Connector 11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Straight Connector 12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5" name="Straight Connector 13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Straight Connector 14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7" name="Straight Connector 15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8" name="Straight Connector 16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Straight Connector 17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TextBox 18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Box 19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21"/>
          <p:cNvSpPr/>
          <p:nvPr/>
        </p:nvSpPr>
        <p:spPr>
          <a:xfrm>
            <a:off x="457200" y="25909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irst step in finding volume is to find the area of the base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2286000" y="52578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3222720" y="473544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730760" y="3662280"/>
          <a:ext cx="1898640" cy="7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0760" y="3662280"/>
                    <a:ext cx="189864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727520" y="4491000"/>
          <a:ext cx="2712960" cy="8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7520" y="4491000"/>
                    <a:ext cx="27129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678200" y="5203800"/>
          <a:ext cx="2713320" cy="81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78200" y="5203800"/>
                    <a:ext cx="27133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olume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325" name="Straight Connector 6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Straight Connector 7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Straight Connector 8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Straight Connector 9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Straight Connector 10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Straight Connector 11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Straight Connector 12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2" name="Straight Connector 13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3" name="Straight Connector 14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4" name="Straight Connector 15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5" name="Straight Connector 16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6" name="Straight Connector 17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37" name="TextBox 18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Box 19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45720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xt we must take the area of the base and multiply it by the height of the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85800" y="4038480"/>
          <a:ext cx="137160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038480"/>
                    <a:ext cx="13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Box 26"/>
          <p:cNvSpPr/>
          <p:nvPr/>
        </p:nvSpPr>
        <p:spPr>
          <a:xfrm>
            <a:off x="4648320" y="3510000"/>
            <a:ext cx="396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ula for finding the volume of any prism is…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re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the area of the base and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the height of the prism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590920" y="4094280"/>
          <a:ext cx="106992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4094280"/>
                    <a:ext cx="1069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5786280" y="4443480"/>
          <a:ext cx="2062440" cy="706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86280" y="4443480"/>
                    <a:ext cx="206244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1523880" y="4627440"/>
          <a:ext cx="1524240" cy="522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4627440"/>
                    <a:ext cx="15242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1182600" y="5211720"/>
          <a:ext cx="2206800" cy="4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2600" y="5211720"/>
                    <a:ext cx="2206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123920" y="5762520"/>
          <a:ext cx="2246400" cy="603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23920" y="5762520"/>
                    <a:ext cx="22464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Box 32"/>
          <p:cNvSpPr/>
          <p:nvPr/>
        </p:nvSpPr>
        <p:spPr>
          <a:xfrm>
            <a:off x="3660840" y="6365880"/>
            <a:ext cx="54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member that Volume is measured in cubic unit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Oval 33"/>
          <p:cNvSpPr/>
          <p:nvPr/>
        </p:nvSpPr>
        <p:spPr>
          <a:xfrm>
            <a:off x="1523880" y="5661000"/>
            <a:ext cx="2286000" cy="8920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l Formula for 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Box 11"/>
          <p:cNvSpPr/>
          <p:nvPr/>
        </p:nvSpPr>
        <p:spPr>
          <a:xfrm>
            <a:off x="457200" y="1600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use the following formula to find the volume of any prism. You can customize it to come up with formulas that work for specific shap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457200" y="3200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 = (area of the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86200" y="3838680"/>
          <a:ext cx="182880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3838680"/>
                    <a:ext cx="1828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14"/>
          <p:cNvSpPr/>
          <p:nvPr/>
        </p:nvSpPr>
        <p:spPr>
          <a:xfrm>
            <a:off x="457200" y="3895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tangular Pris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Box 16"/>
          <p:cNvSpPr/>
          <p:nvPr/>
        </p:nvSpPr>
        <p:spPr>
          <a:xfrm>
            <a:off x="45720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iangular Prism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*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827520" y="4329000"/>
          <a:ext cx="249696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27520" y="4329000"/>
                    <a:ext cx="249696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Box 17"/>
          <p:cNvSpPr/>
          <p:nvPr/>
        </p:nvSpPr>
        <p:spPr>
          <a:xfrm>
            <a:off x="457200" y="5800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*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 height of the triangle;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height of the pr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 of a Triangular P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4419720" y="13716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look at our triangular prism from a previous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212840" y="1219320"/>
          <a:ext cx="2497320" cy="13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1219320"/>
                    <a:ext cx="2497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TextBox 30"/>
          <p:cNvSpPr/>
          <p:nvPr/>
        </p:nvSpPr>
        <p:spPr>
          <a:xfrm>
            <a:off x="4419720" y="2959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values would you need to plug in to find the volum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TextBox 36"/>
          <p:cNvSpPr/>
          <p:nvPr/>
        </p:nvSpPr>
        <p:spPr>
          <a:xfrm>
            <a:off x="4495680" y="464832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8 is the base, 12 is the height of the triangle, and 22 is the height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 of a Triangular P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12840" y="1219320"/>
          <a:ext cx="2497320" cy="13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1219320"/>
                    <a:ext cx="2497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4532400" y="2666880"/>
          <a:ext cx="410184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32400" y="2666880"/>
                    <a:ext cx="410184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200560" y="4114800"/>
          <a:ext cx="276408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00560" y="4114800"/>
                    <a:ext cx="2764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Volume/Surface Area of a Cylind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Can 4"/>
          <p:cNvSpPr/>
          <p:nvPr/>
        </p:nvSpPr>
        <p:spPr>
          <a:xfrm>
            <a:off x="457200" y="1676520"/>
            <a:ext cx="3352680" cy="4724280"/>
          </a:xfrm>
          <a:prstGeom prst="can">
            <a:avLst>
              <a:gd name="adj" fmla="val 17740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Straight Connector 6"/>
          <p:cNvSpPr/>
          <p:nvPr/>
        </p:nvSpPr>
        <p:spPr>
          <a:xfrm>
            <a:off x="2057400" y="2057400"/>
            <a:ext cx="175248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2819520" y="15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Straight Connector 9"/>
          <p:cNvSpPr/>
          <p:nvPr/>
        </p:nvSpPr>
        <p:spPr>
          <a:xfrm flipH="1">
            <a:off x="3808440" y="2057400"/>
            <a:ext cx="1440" cy="403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TextBox 10"/>
          <p:cNvSpPr/>
          <p:nvPr/>
        </p:nvSpPr>
        <p:spPr>
          <a:xfrm>
            <a:off x="3429000" y="2738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TextBox 11"/>
          <p:cNvSpPr/>
          <p:nvPr/>
        </p:nvSpPr>
        <p:spPr>
          <a:xfrm>
            <a:off x="4572000" y="16002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rmula for the surface area of a cylinder is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248000" y="2743200"/>
          <a:ext cx="4434120" cy="7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8000" y="2743200"/>
                    <a:ext cx="4434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13"/>
          <p:cNvSpPr/>
          <p:nvPr/>
        </p:nvSpPr>
        <p:spPr>
          <a:xfrm>
            <a:off x="4572000" y="3894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rmula for the volume of a cylinder is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330880" y="4925880"/>
          <a:ext cx="2314440" cy="78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0880" y="4925880"/>
                    <a:ext cx="2314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Box 14"/>
          <p:cNvSpPr/>
          <p:nvPr/>
        </p:nvSpPr>
        <p:spPr>
          <a:xfrm>
            <a:off x="4038480" y="571500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f you have a problem where the diameter is given, remember to divide the diameter by two to get the radiu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457200" y="266688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3.14 for pi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rface area is the sum of the areas of all faces on a three dimensional obje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rface area is measured in squared uni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olume is the amount of space inside a three dimensional object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olume is measured in cubic uni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457200" y="1417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surface area and volume of the following space shapes.  Don’t forget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457200" y="1417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surface area and volume of the following space shapes.  Don’t forget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2" name="Picture 7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424" name="TextBox 5"/>
          <p:cNvSpPr/>
          <p:nvPr/>
        </p:nvSpPr>
        <p:spPr>
          <a:xfrm>
            <a:off x="2514600" y="3502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914400" y="43401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l Formul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4920" y="14731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otal Surface Are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B + (perimeter of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04920" y="33256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Vol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 = B(height of prism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04920" y="5587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the area of the base of the p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face area is similar to the amount of wrapping paper needed to wrap a gif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57200" y="2446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find surface area, you must find the 2-D areas of all the faces of the space shape.  Add all of the areas together to find the total surface are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57200" y="397044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many faces does a rectangular prism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457200" y="5257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have said si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4" name="Group 43"/>
          <p:cNvGrpSpPr/>
          <p:nvPr/>
        </p:nvGrpSpPr>
        <p:grpSpPr>
          <a:xfrm>
            <a:off x="4495680" y="3646440"/>
            <a:ext cx="4267440" cy="2220840"/>
            <a:chOff x="4495680" y="3646440"/>
            <a:chExt cx="4267440" cy="2220840"/>
          </a:xfrm>
        </p:grpSpPr>
        <p:sp>
          <p:nvSpPr>
            <p:cNvPr id="55" name="Straight Connector 19"/>
            <p:cNvSpPr/>
            <p:nvPr/>
          </p:nvSpPr>
          <p:spPr>
            <a:xfrm>
              <a:off x="4495680" y="457956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20"/>
            <p:cNvSpPr/>
            <p:nvPr/>
          </p:nvSpPr>
          <p:spPr>
            <a:xfrm>
              <a:off x="4495680" y="586584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V="1">
              <a:off x="4495680" y="364644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V="1">
              <a:off x="7772400" y="365796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V="1">
              <a:off x="4495680" y="493272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 flipV="1">
              <a:off x="7772400" y="493272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5486400" y="365796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5486400" y="495144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9"/>
            <p:cNvSpPr/>
            <p:nvPr/>
          </p:nvSpPr>
          <p:spPr>
            <a:xfrm flipH="1">
              <a:off x="7771680" y="459360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30"/>
            <p:cNvSpPr/>
            <p:nvPr/>
          </p:nvSpPr>
          <p:spPr>
            <a:xfrm flipH="1">
              <a:off x="4495680" y="45723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31"/>
            <p:cNvSpPr/>
            <p:nvPr/>
          </p:nvSpPr>
          <p:spPr>
            <a:xfrm flipH="1">
              <a:off x="8761680" y="36579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32"/>
            <p:cNvSpPr/>
            <p:nvPr/>
          </p:nvSpPr>
          <p:spPr>
            <a:xfrm flipH="1">
              <a:off x="5484600" y="36579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7" name="TextBox 35"/>
          <p:cNvSpPr/>
          <p:nvPr/>
        </p:nvSpPr>
        <p:spPr>
          <a:xfrm rot="174600">
            <a:off x="6400800" y="39704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6705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5943600" y="4952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38"/>
          <p:cNvSpPr/>
          <p:nvPr/>
        </p:nvSpPr>
        <p:spPr>
          <a:xfrm rot="19348800">
            <a:off x="7914600" y="453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39"/>
          <p:cNvSpPr/>
          <p:nvPr/>
        </p:nvSpPr>
        <p:spPr>
          <a:xfrm rot="19348800">
            <a:off x="4726440" y="447660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41"/>
          <p:cNvSpPr/>
          <p:nvPr/>
        </p:nvSpPr>
        <p:spPr>
          <a:xfrm rot="174000">
            <a:off x="6172200" y="5268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tt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76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8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304920" y="26668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’re going to have to find the area of all six fac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2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93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9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00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6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07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TextBox 41"/>
            <p:cNvSpPr/>
            <p:nvPr/>
          </p:nvSpPr>
          <p:spPr>
            <a:xfrm>
              <a:off x="7718400" y="56505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116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8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304920" y="248904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nd the area of all the rectangles. Remember that area for a rectangle is A = lw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2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133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9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40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6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47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TextBox 41"/>
            <p:cNvSpPr/>
            <p:nvPr/>
          </p:nvSpPr>
          <p:spPr>
            <a:xfrm>
              <a:off x="7718400" y="5639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3" name="TextBox 42"/>
          <p:cNvSpPr/>
          <p:nvPr/>
        </p:nvSpPr>
        <p:spPr>
          <a:xfrm>
            <a:off x="380880" y="60310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18288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44"/>
          <p:cNvSpPr/>
          <p:nvPr/>
        </p:nvSpPr>
        <p:spPr>
          <a:xfrm>
            <a:off x="341964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45"/>
          <p:cNvSpPr/>
          <p:nvPr/>
        </p:nvSpPr>
        <p:spPr>
          <a:xfrm>
            <a:off x="50292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Box 46"/>
          <p:cNvSpPr/>
          <p:nvPr/>
        </p:nvSpPr>
        <p:spPr>
          <a:xfrm>
            <a:off x="6848640" y="4572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Box 47"/>
          <p:cNvSpPr/>
          <p:nvPr/>
        </p:nvSpPr>
        <p:spPr>
          <a:xfrm>
            <a:off x="68580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162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3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1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2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3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4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304920" y="23623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w add up all six are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8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179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5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86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2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93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TextBox 41"/>
            <p:cNvSpPr/>
            <p:nvPr/>
          </p:nvSpPr>
          <p:spPr>
            <a:xfrm>
              <a:off x="7718400" y="5639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9" name="TextBox 42"/>
          <p:cNvSpPr/>
          <p:nvPr/>
        </p:nvSpPr>
        <p:spPr>
          <a:xfrm>
            <a:off x="380880" y="60310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Box 43"/>
          <p:cNvSpPr/>
          <p:nvPr/>
        </p:nvSpPr>
        <p:spPr>
          <a:xfrm>
            <a:off x="18288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44"/>
          <p:cNvSpPr/>
          <p:nvPr/>
        </p:nvSpPr>
        <p:spPr>
          <a:xfrm>
            <a:off x="341964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45"/>
          <p:cNvSpPr/>
          <p:nvPr/>
        </p:nvSpPr>
        <p:spPr>
          <a:xfrm>
            <a:off x="50292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6848640" y="4572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Box 47"/>
          <p:cNvSpPr/>
          <p:nvPr/>
        </p:nvSpPr>
        <p:spPr>
          <a:xfrm>
            <a:off x="68580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48"/>
          <p:cNvSpPr/>
          <p:nvPr/>
        </p:nvSpPr>
        <p:spPr>
          <a:xfrm>
            <a:off x="304920" y="2921040"/>
            <a:ext cx="45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= 60 + 60 + 90 + 90 + 24 + 24 = 348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Box 49"/>
          <p:cNvSpPr/>
          <p:nvPr/>
        </p:nvSpPr>
        <p:spPr>
          <a:xfrm>
            <a:off x="295200" y="2895480"/>
            <a:ext cx="45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= 60 + 60 + 90 + 90 + 24 + 24 =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Oval 50"/>
          <p:cNvSpPr/>
          <p:nvPr/>
        </p:nvSpPr>
        <p:spPr>
          <a:xfrm>
            <a:off x="3755880" y="2816280"/>
            <a:ext cx="968400" cy="612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211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3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51"/>
          <p:cNvSpPr/>
          <p:nvPr/>
        </p:nvSpPr>
        <p:spPr>
          <a:xfrm>
            <a:off x="457200" y="25988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could also use the formula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8080" y="3733920"/>
          <a:ext cx="7118640" cy="70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733920"/>
                    <a:ext cx="711864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801720" y="4626000"/>
          <a:ext cx="7648560" cy="70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720" y="4626000"/>
                    <a:ext cx="76485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838080" y="5432400"/>
          <a:ext cx="2476800" cy="66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5432400"/>
                    <a:ext cx="24768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Oval 56"/>
          <p:cNvSpPr/>
          <p:nvPr/>
        </p:nvSpPr>
        <p:spPr>
          <a:xfrm>
            <a:off x="1447920" y="5432400"/>
            <a:ext cx="2286000" cy="8920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457200" y="129528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a triangular prism, we can substitute into the general formula to come up with a formula that will work for all triangular pris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457200" y="342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TSA = 2B + (perimeter of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457200" y="4114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base is a triangle, you can replace B with ½bh. The new formula would b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45720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457200" y="6019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*a, b, and c are the sides of the triang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5:08:17Z</dcterms:created>
  <dc:creator>Jennifer Dugan</dc:creator>
  <dc:description/>
  <dc:language>en-US</dc:language>
  <cp:lastModifiedBy>Jennifer Dugan</cp:lastModifiedBy>
  <dcterms:modified xsi:type="dcterms:W3CDTF">2010-05-06T13:12:06Z</dcterms:modified>
  <cp:revision>68</cp:revision>
  <dc:subject/>
  <dc:title>Linear Regression on the Calculator</dc:title>
</cp:coreProperties>
</file>