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1522-3615-47E4-82B4-BB9AB9014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67A4-FBB0-481B-8822-0D4063CCF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9689-7A9D-44FF-9341-1549D2CC9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37E5-D9EA-47F0-9261-827C8B60A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2B90-BBA0-4A9B-92B0-410AC4522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FFC1-DB2F-4510-9B12-11046EC36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8001-3D96-404A-B7F4-71FBACA33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5A5D-E153-4C86-8C6D-EDAB7BA5D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A118-5B4E-4848-872F-AE4F01DDB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EBF7-3B61-4DAE-B59E-F03F73F2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EEA9-01A0-4ACE-A0F1-FC9C0CE5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0C98-2E71-40E1-8320-408D7B00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1AC778-6A6B-49CC-BB48-5CA029A3F173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2FF403-1132-4958-BE0C-82B37756F38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tem and Leaf Plo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lease view this tutorial and answer the follow-up questions on loose leaf to turn in to your teacher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king a Stem-and-Leaf 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85800" y="1417680"/>
          <a:ext cx="952560" cy="4871880"/>
        </p:xfrm>
        <a:graphic>
          <a:graphicData uri="http://schemas.openxmlformats.org/drawingml/2006/table">
            <a:tbl>
              <a:tblPr/>
              <a:tblGrid>
                <a:gridCol w="952560"/>
              </a:tblGrid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TextBox 8"/>
          <p:cNvSpPr/>
          <p:nvPr/>
        </p:nvSpPr>
        <p:spPr>
          <a:xfrm>
            <a:off x="2438280" y="2722680"/>
            <a:ext cx="297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mplete the stem- and-leaf plot by filling in the leaves using the remaining information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5410080" y="2133720"/>
          <a:ext cx="3594240" cy="1904760"/>
        </p:xfrm>
        <a:graphic>
          <a:graphicData uri="http://schemas.openxmlformats.org/drawingml/2006/table">
            <a:tbl>
              <a:tblPr/>
              <a:tblGrid>
                <a:gridCol w="952560"/>
                <a:gridCol w="152640"/>
                <a:gridCol w="355320"/>
                <a:gridCol w="355680"/>
                <a:gridCol w="355680"/>
                <a:gridCol w="355680"/>
                <a:gridCol w="355320"/>
                <a:gridCol w="355680"/>
                <a:gridCol w="355680"/>
              </a:tblGrid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24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king a Stem-and-Leaf 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5800" y="1417680"/>
          <a:ext cx="952560" cy="4871880"/>
        </p:xfrm>
        <a:graphic>
          <a:graphicData uri="http://schemas.openxmlformats.org/drawingml/2006/table">
            <a:tbl>
              <a:tblPr/>
              <a:tblGrid>
                <a:gridCol w="952560"/>
              </a:tblGrid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TextBox 5"/>
          <p:cNvSpPr/>
          <p:nvPr/>
        </p:nvSpPr>
        <p:spPr>
          <a:xfrm>
            <a:off x="2133720" y="25909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You should have gotten the stem-and-leaf plot on the right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5410080" y="2133720"/>
          <a:ext cx="3594240" cy="1904760"/>
        </p:xfrm>
        <a:graphic>
          <a:graphicData uri="http://schemas.openxmlformats.org/drawingml/2006/table">
            <a:tbl>
              <a:tblPr/>
              <a:tblGrid>
                <a:gridCol w="952560"/>
                <a:gridCol w="152640"/>
                <a:gridCol w="355320"/>
                <a:gridCol w="355680"/>
                <a:gridCol w="355680"/>
                <a:gridCol w="355680"/>
                <a:gridCol w="355320"/>
                <a:gridCol w="355680"/>
                <a:gridCol w="355680"/>
              </a:tblGrid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24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228600" y="18288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following are player’s ages from a soccer team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3, 28, 32, 27, 27, 24, 26, 24, 19, 30, 42, 31, 30, 24, 29, 23, 30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0" y="34178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nstruct a stem and leaf plot of the data above. Please submit the stem and leaf plot to your teacher. It does not need to be submitted on the wikispac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ctr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ctr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(Note: Do not click to move on to the next slide until you finish this question.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0" y="419112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Using the stem and leaf plot above, answer the following questions. Submit these answers on the Wikispac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arenR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Why are there the three fives after the 9’s stem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arenR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What does the six after the 12’s stem mean?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arenR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Why is there a blank space in the 7’s stem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TextBox 4"/>
          <p:cNvSpPr/>
          <p:nvPr/>
        </p:nvSpPr>
        <p:spPr>
          <a:xfrm>
            <a:off x="1447920" y="1417680"/>
            <a:ext cx="5715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4 6 8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8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0 2 2 3 4 5 8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9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4 5 5 5 6 9 9 9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0 1 1 2 3 3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1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3 7 8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2  6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Straight Connector 6"/>
          <p:cNvSpPr/>
          <p:nvPr/>
        </p:nvSpPr>
        <p:spPr>
          <a:xfrm flipH="1">
            <a:off x="1906560" y="1417680"/>
            <a:ext cx="1440" cy="26780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tem-and-Leaf Plot Basic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stem-and-leaf plot is a graphical representation of data where the ones digits are listed as “leaves” off the stem and the numbers to the left of the ones are listed in the “stems” colum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“leaves” are always listed in order from least to greates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774880" y="2133720"/>
          <a:ext cx="3594240" cy="1904760"/>
        </p:xfrm>
        <a:graphic>
          <a:graphicData uri="http://schemas.openxmlformats.org/drawingml/2006/table">
            <a:tbl>
              <a:tblPr/>
              <a:tblGrid>
                <a:gridCol w="952560"/>
                <a:gridCol w="152280"/>
                <a:gridCol w="355680"/>
                <a:gridCol w="355680"/>
                <a:gridCol w="355680"/>
                <a:gridCol w="355320"/>
                <a:gridCol w="355680"/>
                <a:gridCol w="355680"/>
                <a:gridCol w="355680"/>
              </a:tblGrid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24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TextBox 5"/>
          <p:cNvSpPr/>
          <p:nvPr/>
        </p:nvSpPr>
        <p:spPr>
          <a:xfrm>
            <a:off x="1447920" y="1676520"/>
            <a:ext cx="132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tem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5685480" y="1600200"/>
            <a:ext cx="10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av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Right Arrow 7"/>
          <p:cNvSpPr/>
          <p:nvPr/>
        </p:nvSpPr>
        <p:spPr>
          <a:xfrm rot="1202400">
            <a:off x="2368080" y="2139480"/>
            <a:ext cx="1067040" cy="335160"/>
          </a:xfrm>
          <a:prstGeom prst="rightArrow">
            <a:avLst>
              <a:gd name="adj1" fmla="val 50000"/>
              <a:gd name="adj2" fmla="val 49966"/>
            </a:avLst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Right Arrow 8"/>
          <p:cNvSpPr/>
          <p:nvPr/>
        </p:nvSpPr>
        <p:spPr>
          <a:xfrm rot="7825200">
            <a:off x="5361120" y="2313360"/>
            <a:ext cx="1066680" cy="335160"/>
          </a:xfrm>
          <a:prstGeom prst="rightArrow">
            <a:avLst>
              <a:gd name="adj1" fmla="val 50000"/>
              <a:gd name="adj2" fmla="val 49949"/>
            </a:avLst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TextBox 9"/>
          <p:cNvSpPr/>
          <p:nvPr/>
        </p:nvSpPr>
        <p:spPr>
          <a:xfrm>
            <a:off x="1219320" y="464832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presents the number 72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presents 110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219320" y="4637160"/>
          <a:ext cx="1460520" cy="380880"/>
        </p:xfrm>
        <a:graphic>
          <a:graphicData uri="http://schemas.openxmlformats.org/drawingml/2006/table">
            <a:tbl>
              <a:tblPr/>
              <a:tblGrid>
                <a:gridCol w="952560"/>
                <a:gridCol w="152280"/>
                <a:gridCol w="355680"/>
              </a:tblGrid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219320" y="5467320"/>
          <a:ext cx="1460520" cy="380880"/>
        </p:xfrm>
        <a:graphic>
          <a:graphicData uri="http://schemas.openxmlformats.org/drawingml/2006/table">
            <a:tbl>
              <a:tblPr/>
              <a:tblGrid>
                <a:gridCol w="952560"/>
                <a:gridCol w="152280"/>
                <a:gridCol w="355680"/>
              </a:tblGrid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2"/>
          <p:cNvSpPr/>
          <p:nvPr/>
        </p:nvSpPr>
        <p:spPr>
          <a:xfrm>
            <a:off x="457200" y="605808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otice that the “leaves” are ordered from least to greatest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king a Stem-and-Leaf 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lways organize your data from least to greatest!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n easy way to do this is                                to enter your data into a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ist then hit STAT and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:SortA(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7" name="Picture 3" descr="Picture 1.png"/>
          <p:cNvPicPr/>
          <p:nvPr/>
        </p:nvPicPr>
        <p:blipFill>
          <a:blip r:embed="rId1"/>
          <a:stretch/>
        </p:blipFill>
        <p:spPr>
          <a:xfrm>
            <a:off x="3352680" y="4267080"/>
            <a:ext cx="3124440" cy="2291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Picture 3.png"/>
          <p:cNvPicPr/>
          <p:nvPr/>
        </p:nvPicPr>
        <p:blipFill>
          <a:blip r:embed="rId2"/>
          <a:stretch/>
        </p:blipFill>
        <p:spPr>
          <a:xfrm>
            <a:off x="5578560" y="2438280"/>
            <a:ext cx="2895480" cy="1600200"/>
          </a:xfrm>
          <a:prstGeom prst="rect">
            <a:avLst/>
          </a:prstGeom>
          <a:ln w="0">
            <a:noFill/>
          </a:ln>
        </p:spPr>
      </p:pic>
      <p:sp>
        <p:nvSpPr>
          <p:cNvPr id="59" name="Right Arrow 6"/>
          <p:cNvSpPr/>
          <p:nvPr/>
        </p:nvSpPr>
        <p:spPr>
          <a:xfrm rot="9159000">
            <a:off x="7206480" y="2882160"/>
            <a:ext cx="685800" cy="304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Right Arrow 7"/>
          <p:cNvSpPr/>
          <p:nvPr/>
        </p:nvSpPr>
        <p:spPr>
          <a:xfrm rot="1683000">
            <a:off x="2711160" y="4657680"/>
            <a:ext cx="685800" cy="304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king a Stem-and-Leaf 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714680" y="1417680"/>
          <a:ext cx="952200" cy="4871880"/>
        </p:xfrm>
        <a:graphic>
          <a:graphicData uri="http://schemas.openxmlformats.org/drawingml/2006/table">
            <a:tbl>
              <a:tblPr/>
              <a:tblGrid>
                <a:gridCol w="952200"/>
              </a:tblGrid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6629400" y="1417680"/>
          <a:ext cx="952560" cy="4871880"/>
        </p:xfrm>
        <a:graphic>
          <a:graphicData uri="http://schemas.openxmlformats.org/drawingml/2006/table">
            <a:tbl>
              <a:tblPr/>
              <a:tblGrid>
                <a:gridCol w="952560"/>
              </a:tblGrid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Box 5"/>
          <p:cNvSpPr/>
          <p:nvPr/>
        </p:nvSpPr>
        <p:spPr>
          <a:xfrm>
            <a:off x="3429000" y="281952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ut your information in order from least to greates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king a Stem-and-Leaf 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85800" y="1417680"/>
          <a:ext cx="952560" cy="4871880"/>
        </p:xfrm>
        <a:graphic>
          <a:graphicData uri="http://schemas.openxmlformats.org/drawingml/2006/table">
            <a:tbl>
              <a:tblPr/>
              <a:tblGrid>
                <a:gridCol w="952560"/>
              </a:tblGrid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TextBox 4"/>
          <p:cNvSpPr/>
          <p:nvPr/>
        </p:nvSpPr>
        <p:spPr>
          <a:xfrm>
            <a:off x="2286000" y="126036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cide on a starting value for your stems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2286000" y="2362320"/>
            <a:ext cx="304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nce 49 is your lowest value, 4 would be a good choice for the first stem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TextBox 8"/>
          <p:cNvSpPr/>
          <p:nvPr/>
        </p:nvSpPr>
        <p:spPr>
          <a:xfrm>
            <a:off x="2286000" y="4549680"/>
            <a:ext cx="41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nce 86 is your highest value, continue your stems sequentially (counting by ones) up to 8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5410080" y="2057400"/>
          <a:ext cx="1105200" cy="1905120"/>
        </p:xfrm>
        <a:graphic>
          <a:graphicData uri="http://schemas.openxmlformats.org/drawingml/2006/table">
            <a:tbl>
              <a:tblPr/>
              <a:tblGrid>
                <a:gridCol w="952560"/>
                <a:gridCol w="152640"/>
              </a:tblGrid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24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24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king a Stem-and-Leaf 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85800" y="1417680"/>
          <a:ext cx="952560" cy="4871880"/>
        </p:xfrm>
        <a:graphic>
          <a:graphicData uri="http://schemas.openxmlformats.org/drawingml/2006/table">
            <a:tbl>
              <a:tblPr/>
              <a:tblGrid>
                <a:gridCol w="952560"/>
              </a:tblGrid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TextBox 7"/>
          <p:cNvSpPr/>
          <p:nvPr/>
        </p:nvSpPr>
        <p:spPr>
          <a:xfrm>
            <a:off x="2743200" y="2666880"/>
            <a:ext cx="297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ven though there is no value in the 50s, you still need to include the 5 in the stems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410080" y="2057400"/>
          <a:ext cx="1105200" cy="1905120"/>
        </p:xfrm>
        <a:graphic>
          <a:graphicData uri="http://schemas.openxmlformats.org/drawingml/2006/table">
            <a:tbl>
              <a:tblPr/>
              <a:tblGrid>
                <a:gridCol w="952560"/>
                <a:gridCol w="152640"/>
              </a:tblGrid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24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24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king a Stem-and-Leaf 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85800" y="1417680"/>
          <a:ext cx="952560" cy="4871880"/>
        </p:xfrm>
        <a:graphic>
          <a:graphicData uri="http://schemas.openxmlformats.org/drawingml/2006/table">
            <a:tbl>
              <a:tblPr/>
              <a:tblGrid>
                <a:gridCol w="952560"/>
              </a:tblGrid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TextBox 5"/>
          <p:cNvSpPr/>
          <p:nvPr/>
        </p:nvSpPr>
        <p:spPr>
          <a:xfrm>
            <a:off x="2133720" y="1905120"/>
            <a:ext cx="3352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egin entering your data into the stem-and-leaf plot by placing the ones digits in the appropriate leaf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5410080" y="2133720"/>
          <a:ext cx="3594240" cy="1904760"/>
        </p:xfrm>
        <a:graphic>
          <a:graphicData uri="http://schemas.openxmlformats.org/drawingml/2006/table">
            <a:tbl>
              <a:tblPr/>
              <a:tblGrid>
                <a:gridCol w="952560"/>
                <a:gridCol w="152640"/>
                <a:gridCol w="355320"/>
                <a:gridCol w="355680"/>
                <a:gridCol w="355680"/>
                <a:gridCol w="355680"/>
                <a:gridCol w="355320"/>
                <a:gridCol w="355680"/>
                <a:gridCol w="355680"/>
              </a:tblGrid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24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5410080" y="2133720"/>
          <a:ext cx="1105200" cy="1904760"/>
        </p:xfrm>
        <a:graphic>
          <a:graphicData uri="http://schemas.openxmlformats.org/drawingml/2006/table">
            <a:tbl>
              <a:tblPr/>
              <a:tblGrid>
                <a:gridCol w="952560"/>
                <a:gridCol w="152640"/>
              </a:tblGrid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24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king a Stem-and-Leaf 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85800" y="1417680"/>
          <a:ext cx="952560" cy="4871880"/>
        </p:xfrm>
        <a:graphic>
          <a:graphicData uri="http://schemas.openxmlformats.org/drawingml/2006/table">
            <a:tbl>
              <a:tblPr/>
              <a:tblGrid>
                <a:gridCol w="952560"/>
              </a:tblGrid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TextBox 7"/>
          <p:cNvSpPr/>
          <p:nvPr/>
        </p:nvSpPr>
        <p:spPr>
          <a:xfrm>
            <a:off x="2209680" y="1295280"/>
            <a:ext cx="365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re are no leaves in the 5 row because there are no values in the 50s. Do NOT put a zero if there are no numbers in a row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TextBox 9"/>
          <p:cNvSpPr/>
          <p:nvPr/>
        </p:nvSpPr>
        <p:spPr>
          <a:xfrm>
            <a:off x="2133720" y="373392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re are two 0’s in the 6 row because there are two values of 60 in our data set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4495680" y="530388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re are two 3’s in the 6 row because there are two values of 63 in the data set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410080" y="2133720"/>
          <a:ext cx="3594240" cy="1904760"/>
        </p:xfrm>
        <a:graphic>
          <a:graphicData uri="http://schemas.openxmlformats.org/drawingml/2006/table">
            <a:tbl>
              <a:tblPr/>
              <a:tblGrid>
                <a:gridCol w="952560"/>
                <a:gridCol w="152640"/>
                <a:gridCol w="355320"/>
                <a:gridCol w="355680"/>
                <a:gridCol w="355680"/>
                <a:gridCol w="355680"/>
                <a:gridCol w="355320"/>
                <a:gridCol w="355680"/>
                <a:gridCol w="355680"/>
              </a:tblGrid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24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1T15:34:15Z</dcterms:created>
  <dc:creator>Jennifer Dugan</dc:creator>
  <dc:description/>
  <dc:language>en-US</dc:language>
  <cp:lastModifiedBy>Jennifer Dugan</cp:lastModifiedBy>
  <dcterms:modified xsi:type="dcterms:W3CDTF">2009-10-01T15:35:09Z</dcterms:modified>
  <cp:revision>26</cp:revision>
  <dc:subject/>
  <dc:title>Stem and Leaf Plots</dc:title>
</cp:coreProperties>
</file>