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537-9C5A-4836-8F4E-D9F72712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B8F-7D82-4C5A-A298-BE49B518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27B-18FA-4F04-8DB9-7B85395D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8C7-0F95-4CB5-9F22-48FC06E2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388-BD1B-43E8-8E6B-8740589A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32A-5A6F-493E-A711-2E4CA856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D55-007C-406F-A341-778653FB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D45-35FB-4BA5-AE63-34EF6AF8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E89-34F3-40CB-AF75-B78468A9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973-0B38-406A-8AC7-9593B9E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5A2-6B22-4D84-9120-01A69F34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7DE-13CB-47B4-9783-E09BC3C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45EE5-3D86-4E25-9E35-211F6C50BBC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B7969-7CEA-4984-AF4E-6CC123548F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em and Leaf 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8"/>
          <p:cNvSpPr/>
          <p:nvPr/>
        </p:nvSpPr>
        <p:spPr>
          <a:xfrm>
            <a:off x="2438280" y="27226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te the stem- and-leaf plot by filling in the leaves using the remaining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Box 5"/>
          <p:cNvSpPr/>
          <p:nvPr/>
        </p:nvSpPr>
        <p:spPr>
          <a:xfrm>
            <a:off x="2133720" y="2590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have gotten the stem-and-leaf plot on the righ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28600" y="1828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llowing are player’s ages from a soccer tea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, 28, 32, 27, 27, 24, 26, 24, 19, 30, 42, 31, 30, 24, 29, 23, 3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0" y="3417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ruct a stem and leaf plot of the data above. Please submit the stem and leaf plot to your teacher. It does not need to be submitted on the wikispa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Note: Do not click to move on to the next slide until you finish this question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0" y="4191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ing the stem and leaf plot above, answer the following questions. Submit these answers on the Wikispa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y are there the three fives after the 9’s ste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at does the six after the 12’s stem mean?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hy is there a blank space in the 7’s ste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447920" y="141768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4 6 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0 2 2 3 4 5 8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4 5 5 5 6 9 9 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0 1 1 2 3 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3 7 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  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Straight Connector 6"/>
          <p:cNvSpPr/>
          <p:nvPr/>
        </p:nvSpPr>
        <p:spPr>
          <a:xfrm flipH="1">
            <a:off x="1906560" y="1417680"/>
            <a:ext cx="1440" cy="2678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em-and-Leaf Plo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tem-and-leaf plot is a graphical representation of data where the ones digits are listed as “leaves” off the stem and the numbers to the left of the ones are listed in the “stems” colum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“leaves” are always listed in order from least to great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7748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Box 5"/>
          <p:cNvSpPr/>
          <p:nvPr/>
        </p:nvSpPr>
        <p:spPr>
          <a:xfrm>
            <a:off x="1447920" y="1676520"/>
            <a:ext cx="13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685480" y="16002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ight Arrow 7"/>
          <p:cNvSpPr/>
          <p:nvPr/>
        </p:nvSpPr>
        <p:spPr>
          <a:xfrm rot="1202400">
            <a:off x="2368080" y="2139480"/>
            <a:ext cx="1067040" cy="33516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ight Arrow 8"/>
          <p:cNvSpPr/>
          <p:nvPr/>
        </p:nvSpPr>
        <p:spPr>
          <a:xfrm rot="7825200">
            <a:off x="5361120" y="2313360"/>
            <a:ext cx="1066680" cy="3351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219320" y="46483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resents the number 72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resents 110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4637160"/>
          <a:ext cx="146052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19320" y="5467320"/>
          <a:ext cx="146052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1522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2"/>
          <p:cNvSpPr/>
          <p:nvPr/>
        </p:nvSpPr>
        <p:spPr>
          <a:xfrm>
            <a:off x="457200" y="60580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ice that the “leaves” are ordered from least to greatest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ways organize your data from least to greatest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asy way to do this is                                to enter your data into 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st then hit STAT an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:SortA(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3" descr="Picture 1.png"/>
          <p:cNvPicPr/>
          <p:nvPr/>
        </p:nvPicPr>
        <p:blipFill>
          <a:blip r:embed="rId1"/>
          <a:stretch/>
        </p:blipFill>
        <p:spPr>
          <a:xfrm>
            <a:off x="3352680" y="4267080"/>
            <a:ext cx="3124440" cy="229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icture 3.png"/>
          <p:cNvPicPr/>
          <p:nvPr/>
        </p:nvPicPr>
        <p:blipFill>
          <a:blip r:embed="rId2"/>
          <a:stretch/>
        </p:blipFill>
        <p:spPr>
          <a:xfrm>
            <a:off x="5578560" y="2438280"/>
            <a:ext cx="2895480" cy="160020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6"/>
          <p:cNvSpPr/>
          <p:nvPr/>
        </p:nvSpPr>
        <p:spPr>
          <a:xfrm rot="9159000">
            <a:off x="7206480" y="2882160"/>
            <a:ext cx="6858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ight Arrow 7"/>
          <p:cNvSpPr/>
          <p:nvPr/>
        </p:nvSpPr>
        <p:spPr>
          <a:xfrm rot="1683000">
            <a:off x="2711160" y="4657680"/>
            <a:ext cx="6858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14680" y="1417680"/>
          <a:ext cx="952200" cy="4871880"/>
        </p:xfrm>
        <a:graphic>
          <a:graphicData uri="http://schemas.openxmlformats.org/drawingml/2006/table">
            <a:tbl>
              <a:tblPr/>
              <a:tblGrid>
                <a:gridCol w="95220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6294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5"/>
          <p:cNvSpPr/>
          <p:nvPr/>
        </p:nvSpPr>
        <p:spPr>
          <a:xfrm>
            <a:off x="3429000" y="2819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t your information in order from least to grea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4"/>
          <p:cNvSpPr/>
          <p:nvPr/>
        </p:nvSpPr>
        <p:spPr>
          <a:xfrm>
            <a:off x="2286000" y="12603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ide on a starting value for your stem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286000" y="23623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49 is your lowest value, 4 would be a good choice for the first st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286000" y="45496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86 is your highest value, continue your stems sequentially (counting by ones) up to 8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410080" y="2057400"/>
          <a:ext cx="1105200" cy="190512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Box 7"/>
          <p:cNvSpPr/>
          <p:nvPr/>
        </p:nvSpPr>
        <p:spPr>
          <a:xfrm>
            <a:off x="2743200" y="26668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ven though there is no value in the 50s, you still need to include the 5 in the stem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410080" y="2057400"/>
          <a:ext cx="1105200" cy="190512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Box 5"/>
          <p:cNvSpPr/>
          <p:nvPr/>
        </p:nvSpPr>
        <p:spPr>
          <a:xfrm>
            <a:off x="2133720" y="190512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gin entering your data into the stem-and-leaf plot by placing the ones digits in the appropriate leaf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410080" y="2133720"/>
          <a:ext cx="110520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tem-and-Leaf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417680"/>
          <a:ext cx="952560" cy="487188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7"/>
          <p:cNvSpPr/>
          <p:nvPr/>
        </p:nvSpPr>
        <p:spPr>
          <a:xfrm>
            <a:off x="2209680" y="1295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no leaves in the 5 row because there are no values in the 50s. Do NOT put a zero if there are no numbers in a row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133720" y="37339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0’s in the 6 row because there are two values of 60 in our data s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95680" y="5303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3’s in the 6 row because there are two values of 63 in the data se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410080" y="2133720"/>
          <a:ext cx="3594240" cy="1904760"/>
        </p:xfrm>
        <a:graphic>
          <a:graphicData uri="http://schemas.openxmlformats.org/drawingml/2006/table">
            <a:tbl>
              <a:tblPr/>
              <a:tblGrid>
                <a:gridCol w="952560"/>
                <a:gridCol w="15264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34:15Z</dcterms:created>
  <dc:creator>Jennifer Dugan</dc:creator>
  <dc:description/>
  <dc:language>en-US</dc:language>
  <cp:lastModifiedBy>Jennifer Dugan</cp:lastModifiedBy>
  <dcterms:modified xsi:type="dcterms:W3CDTF">2009-10-01T15:35:09Z</dcterms:modified>
  <cp:revision>26</cp:revision>
  <dc:subject/>
  <dc:title>Stem and Leaf Plots</dc:title>
</cp:coreProperties>
</file>