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0F3-89F5-41B1-8C98-3BFD9C0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777-3A0A-419C-93FC-E6E152F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90D-A1DC-449D-97CB-A94E4598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805-A33F-4D8D-BBCE-BAC0EDBD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C21-1E53-424C-A369-C6DBE1E2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184-E2E6-4037-8729-D1DEF647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50E-A971-41E5-A8D8-B469DCE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E28-6D0F-4787-A398-671E92C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A74-459E-4B66-82E5-B473AB86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E3-C9F5-4343-909D-4E91A3D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B74-0D3D-436F-9B0F-D1BB0E7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2F7-5B39-4A1A-9B01-6929B6C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59F1A-0DB9-4D7B-887F-B5100F6DC16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9C3A9-ABFF-466C-9687-5E6416611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 and Leaf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2438280" y="27226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 the stem- and-leaf plot by filling in the leaves using the remaining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5"/>
          <p:cNvSpPr/>
          <p:nvPr/>
        </p:nvSpPr>
        <p:spPr>
          <a:xfrm>
            <a:off x="2133720" y="2590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gotten the stem-and-leaf plot on the righ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28600" y="1828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llowing are player’s ages from a soccer tea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, 28, 32, 27, 27, 24, 26, 24, 19, 30, 42, 31, 30, 24, 29, 23, 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3417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tem and leaf plot of the data above. Please submit the stem and leaf plot to your teacher. It does not need to be submitted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ote: Do not click to move on to the next slide until you finish this question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the stem and leaf plot above, answer the following questions. Submit these answers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are there the three fives after the 9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does the six after the 12’s stem mean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is there a blank space in the 7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47920" y="141768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6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2 2 3 4 5 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5 5 5 6 9 9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1 1 2 3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3 7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 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906560" y="1417680"/>
            <a:ext cx="1440" cy="267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-and-Leaf 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tem-and-leaf plot is a graphical representation of data where the ones digits are listed as “leaves” off the stem and the numbers to the left of the ones are listed in the “stems” colum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“leaves” are always listed in order from least to grea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748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5"/>
          <p:cNvSpPr/>
          <p:nvPr/>
        </p:nvSpPr>
        <p:spPr>
          <a:xfrm>
            <a:off x="1447920" y="1676520"/>
            <a:ext cx="13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685480" y="16002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ight Arrow 7"/>
          <p:cNvSpPr/>
          <p:nvPr/>
        </p:nvSpPr>
        <p:spPr>
          <a:xfrm rot="1202400">
            <a:off x="2368080" y="2139480"/>
            <a:ext cx="1067040" cy="335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ight Arrow 8"/>
          <p:cNvSpPr/>
          <p:nvPr/>
        </p:nvSpPr>
        <p:spPr>
          <a:xfrm rot="7825200">
            <a:off x="5361120" y="2313360"/>
            <a:ext cx="1066680" cy="335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the number 7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1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63716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19320" y="546732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2"/>
          <p:cNvSpPr/>
          <p:nvPr/>
        </p:nvSpPr>
        <p:spPr>
          <a:xfrm>
            <a:off x="457200" y="605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the “leaves” are ordered from least to greates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organize your data from least to greatest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asy way to do this is                                to enter your data into 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st then hit STAT an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:SortA(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Picture 1.png"/>
          <p:cNvPicPr/>
          <p:nvPr/>
        </p:nvPicPr>
        <p:blipFill>
          <a:blip r:embed="rId1"/>
          <a:stretch/>
        </p:blipFill>
        <p:spPr>
          <a:xfrm>
            <a:off x="3352680" y="4267080"/>
            <a:ext cx="3124440" cy="22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 3.png"/>
          <p:cNvPicPr/>
          <p:nvPr/>
        </p:nvPicPr>
        <p:blipFill>
          <a:blip r:embed="rId2"/>
          <a:stretch/>
        </p:blipFill>
        <p:spPr>
          <a:xfrm>
            <a:off x="5578560" y="2438280"/>
            <a:ext cx="28954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6"/>
          <p:cNvSpPr/>
          <p:nvPr/>
        </p:nvSpPr>
        <p:spPr>
          <a:xfrm rot="9159000">
            <a:off x="7206480" y="288216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ight Arrow 7"/>
          <p:cNvSpPr/>
          <p:nvPr/>
        </p:nvSpPr>
        <p:spPr>
          <a:xfrm rot="1683000">
            <a:off x="2711160" y="465768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14680" y="1417680"/>
          <a:ext cx="952200" cy="4871880"/>
        </p:xfrm>
        <a:graphic>
          <a:graphicData uri="http://schemas.openxmlformats.org/drawingml/2006/table">
            <a:tbl>
              <a:tblPr/>
              <a:tblGrid>
                <a:gridCol w="95220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6294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3429000" y="2819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t your information in order from least to grea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4"/>
          <p:cNvSpPr/>
          <p:nvPr/>
        </p:nvSpPr>
        <p:spPr>
          <a:xfrm>
            <a:off x="2286000" y="12603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de on a starting value for your stem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286000" y="23623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49 is your lowest value, 4 would be a good choice for the first st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286000" y="454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86 is your highest value, continue your stems sequentially (counting by ones) up to 8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Box 7"/>
          <p:cNvSpPr/>
          <p:nvPr/>
        </p:nvSpPr>
        <p:spPr>
          <a:xfrm>
            <a:off x="274320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 though there is no value in the 50s, you still need to include the 5 in the stem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2133720" y="19051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 entering your data into the stem-and-leaf plot by placing the ones digits in the appropriate leaf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10080" y="2133720"/>
          <a:ext cx="110520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7"/>
          <p:cNvSpPr/>
          <p:nvPr/>
        </p:nvSpPr>
        <p:spPr>
          <a:xfrm>
            <a:off x="220968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no leaves in the 5 row because there are no values in the 50s. Do NOT put a zero if there are no numbers in a row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1337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0’s in the 6 row because there are two values of 60 in our data s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95680" y="5303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3’s in the 6 row because there are two values of 63 in the data s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34:15Z</dcterms:created>
  <dc:creator>Jennifer Dugan</dc:creator>
  <dc:description/>
  <dc:language>en-US</dc:language>
  <cp:lastModifiedBy>Jennifer Dugan</cp:lastModifiedBy>
  <dcterms:modified xsi:type="dcterms:W3CDTF">2009-10-01T15:35:09Z</dcterms:modified>
  <cp:revision>26</cp:revision>
  <dc:subject/>
  <dc:title>Stem and Leaf Plots</dc:title>
</cp:coreProperties>
</file>