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A33-E6A2-419B-B8B8-3CD23A06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F53-8D24-453F-B0EF-D61D650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C33-6957-4EE5-8602-3CADF5C8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F5F-3B74-4FBD-95D0-812C8DD9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266-183F-4814-AD98-01DC5B25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7E1-9142-451E-91C4-2819A36B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57D-2160-4CE9-9627-2D80A294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DCE-B1EA-4A04-B45E-579CF7BB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F1E-A4F6-49AF-B846-558979C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F50-8E67-4E98-B87B-6DAC940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F5A-4927-4861-97C2-F0FFC75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F90-5E8D-4988-BEE7-1041EAE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9386D-8EA2-48E7-A83E-3D48FE0F512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F9468-32DE-4CD3-B379-510569D787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 and Leaf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8"/>
          <p:cNvSpPr/>
          <p:nvPr/>
        </p:nvSpPr>
        <p:spPr>
          <a:xfrm>
            <a:off x="2438280" y="27226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te the stem- and-leaf plot by filling in the leaves using the remaining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5"/>
          <p:cNvSpPr/>
          <p:nvPr/>
        </p:nvSpPr>
        <p:spPr>
          <a:xfrm>
            <a:off x="2133720" y="2590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gotten the stem-and-leaf plot on the righ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28600" y="1828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llowing are player’s ages from a soccer tea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, 28, 32, 27, 27, 24, 26, 24, 19, 30, 42, 31, 30, 24, 29, 23, 3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0" y="3417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tem and leaf plot of the data above. Please submit the stem and leaf plot to your teacher. It does not need to be submitted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Note: Do not click to move on to the next slide until you finish this question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0" y="4191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ing the stem and leaf plot above, answer the following questions. Submit these answers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are there the three fives after the 9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at does the six after the 12’s stem mean?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is there a blank space in the 7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447920" y="141768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6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2 2 3 4 5 8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5 5 5 6 9 9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1 1 2 3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3 7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 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6"/>
          <p:cNvSpPr/>
          <p:nvPr/>
        </p:nvSpPr>
        <p:spPr>
          <a:xfrm flipH="1">
            <a:off x="1906560" y="1417680"/>
            <a:ext cx="1440" cy="2678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-and-Leaf 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tem-and-leaf plot is a graphical representation of data where the ones digits are listed as “leaves” off the stem and the numbers to the left of the ones are listed in the “stems” colum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“leaves” are always listed in order from least to grea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7748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Box 5"/>
          <p:cNvSpPr/>
          <p:nvPr/>
        </p:nvSpPr>
        <p:spPr>
          <a:xfrm>
            <a:off x="1447920" y="1676520"/>
            <a:ext cx="13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685480" y="16002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ight Arrow 7"/>
          <p:cNvSpPr/>
          <p:nvPr/>
        </p:nvSpPr>
        <p:spPr>
          <a:xfrm rot="1202400">
            <a:off x="2368080" y="2139480"/>
            <a:ext cx="1067040" cy="3351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ight Arrow 8"/>
          <p:cNvSpPr/>
          <p:nvPr/>
        </p:nvSpPr>
        <p:spPr>
          <a:xfrm rot="7825200">
            <a:off x="5361120" y="2313360"/>
            <a:ext cx="1066680" cy="3351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19320" y="4648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the number 72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1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463716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19320" y="546732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2"/>
          <p:cNvSpPr/>
          <p:nvPr/>
        </p:nvSpPr>
        <p:spPr>
          <a:xfrm>
            <a:off x="457200" y="6058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the “leaves” are ordered from least to greates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organize your data from least to greatest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asy way to do this is                                to enter your data into 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st then hit STAT an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:SortA(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Picture 1.png"/>
          <p:cNvPicPr/>
          <p:nvPr/>
        </p:nvPicPr>
        <p:blipFill>
          <a:blip r:embed="rId1"/>
          <a:stretch/>
        </p:blipFill>
        <p:spPr>
          <a:xfrm>
            <a:off x="3352680" y="4267080"/>
            <a:ext cx="3124440" cy="229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icture 3.png"/>
          <p:cNvPicPr/>
          <p:nvPr/>
        </p:nvPicPr>
        <p:blipFill>
          <a:blip r:embed="rId2"/>
          <a:stretch/>
        </p:blipFill>
        <p:spPr>
          <a:xfrm>
            <a:off x="5578560" y="2438280"/>
            <a:ext cx="289548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6"/>
          <p:cNvSpPr/>
          <p:nvPr/>
        </p:nvSpPr>
        <p:spPr>
          <a:xfrm rot="9159000">
            <a:off x="7206480" y="288216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ight Arrow 7"/>
          <p:cNvSpPr/>
          <p:nvPr/>
        </p:nvSpPr>
        <p:spPr>
          <a:xfrm rot="1683000">
            <a:off x="2711160" y="465768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14680" y="1417680"/>
          <a:ext cx="952200" cy="4871880"/>
        </p:xfrm>
        <a:graphic>
          <a:graphicData uri="http://schemas.openxmlformats.org/drawingml/2006/table">
            <a:tbl>
              <a:tblPr/>
              <a:tblGrid>
                <a:gridCol w="95220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6294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3429000" y="2819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t your information in order from least to grea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4"/>
          <p:cNvSpPr/>
          <p:nvPr/>
        </p:nvSpPr>
        <p:spPr>
          <a:xfrm>
            <a:off x="2286000" y="12603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ide on a starting value for your stem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286000" y="23623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49 is your lowest value, 4 would be a good choice for the first st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286000" y="4549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86 is your highest value, continue your stems sequentially (counting by ones) up to 8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Box 7"/>
          <p:cNvSpPr/>
          <p:nvPr/>
        </p:nvSpPr>
        <p:spPr>
          <a:xfrm>
            <a:off x="2743200" y="26668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en though there is no value in the 50s, you still need to include the 5 in the stem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2133720" y="190512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gin entering your data into the stem-and-leaf plot by placing the ones digits in the appropriate leaf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410080" y="2133720"/>
          <a:ext cx="110520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7"/>
          <p:cNvSpPr/>
          <p:nvPr/>
        </p:nvSpPr>
        <p:spPr>
          <a:xfrm>
            <a:off x="2209680" y="1295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no leaves in the 5 row because there are no values in the 50s. Do NOT put a zero if there are no numbers in a row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1337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0’s in the 6 row because there are two values of 60 in our data s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95680" y="5303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3’s in the 6 row because there are two values of 63 in the data s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34:15Z</dcterms:created>
  <dc:creator>Jennifer Dugan</dc:creator>
  <dc:description/>
  <dc:language>en-US</dc:language>
  <cp:lastModifiedBy>Jennifer Dugan</cp:lastModifiedBy>
  <dcterms:modified xsi:type="dcterms:W3CDTF">2009-10-01T15:35:09Z</dcterms:modified>
  <cp:revision>26</cp:revision>
  <dc:subject/>
  <dc:title>Stem and Leaf Plots</dc:title>
</cp:coreProperties>
</file>