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8.pct" ContentType="image/x-pict"/>
  <Override PartName="/ppt/media/image12.pct" ContentType="image/x-pict"/>
  <Override PartName="/ppt/media/image16.png" ContentType="image/png"/>
  <Override PartName="/ppt/media/image15.png" ContentType="image/png"/>
  <Override PartName="/ppt/media/image7.pct" ContentType="image/x-pict"/>
  <Override PartName="/ppt/media/image14.png" ContentType="image/png"/>
  <Override PartName="/ppt/media/image6.pct" ContentType="image/x-pict"/>
  <Override PartName="/ppt/media/image11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7A1-1ADB-404F-B4E7-65C9E812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114-BD8A-4E8A-9538-7417B8B8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30D-D918-4548-A70A-F51673CC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E26-3792-436F-9471-588AFC69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F1E-8487-484C-A7BB-36787619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D44-6BAD-4AEE-99AE-7875CCAD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E11-D25D-4EE1-A391-95742493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BDD-11CF-4F00-95AA-61D3FD8A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BC2-1CD3-442D-81C5-FA54E36A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F44-F32C-4D9B-9623-ABC2B12C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1F9-BC35-4D28-AF52-897C3AC8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E2E-358C-43D5-8DFC-3B88471E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5AF9C-8434-4347-9F46-908D8F07ADD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8B04C-501D-4416-8B5E-B1F25B5D09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heor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hortcu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formulas you could use as shortcu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57200" y="2205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irst case is when you are given the lengths of the two legs and you must find the length of the hypotenus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57200" y="4495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second case is when you are given the hypotenuse and a leg and you must find the length of the second leg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O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6520" y="5442120"/>
          <a:ext cx="249876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5442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578560" y="5442120"/>
          <a:ext cx="249876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8560" y="5442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292560" y="3200400"/>
          <a:ext cx="2498760" cy="73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92560" y="320040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45720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use the formulas to find the missing sides for the next two examp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ight Triangle 4"/>
          <p:cNvSpPr/>
          <p:nvPr/>
        </p:nvSpPr>
        <p:spPr>
          <a:xfrm flipH="1" rot="10800000">
            <a:off x="912960" y="2971800"/>
            <a:ext cx="1219320" cy="3124080"/>
          </a:xfrm>
          <a:prstGeom prst="rtTriangle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5"/>
          <p:cNvSpPr/>
          <p:nvPr/>
        </p:nvSpPr>
        <p:spPr>
          <a:xfrm flipV="1">
            <a:off x="1295280" y="29718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6"/>
          <p:cNvSpPr/>
          <p:nvPr/>
        </p:nvSpPr>
        <p:spPr>
          <a:xfrm flipH="1" flipV="1">
            <a:off x="914400" y="335124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1297080" y="26020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457200" y="4278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6002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819520" y="2743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we trying to find a leg or a hypoten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19520" y="3657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are finding a hypotenuse since x is opposite of the right 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2819520" y="4648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formula should we 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902040" y="54100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54100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5720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use the formulas to find the missing sides for the next two examp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ight Triangle 4"/>
          <p:cNvSpPr/>
          <p:nvPr/>
        </p:nvSpPr>
        <p:spPr>
          <a:xfrm flipH="1" rot="10800000">
            <a:off x="912960" y="2971800"/>
            <a:ext cx="1219320" cy="3124080"/>
          </a:xfrm>
          <a:prstGeom prst="rtTriangle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Straight Connector 5"/>
          <p:cNvSpPr/>
          <p:nvPr/>
        </p:nvSpPr>
        <p:spPr>
          <a:xfrm flipV="1">
            <a:off x="1295280" y="29718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Straight Connector 6"/>
          <p:cNvSpPr/>
          <p:nvPr/>
        </p:nvSpPr>
        <p:spPr>
          <a:xfrm flipH="1" flipV="1">
            <a:off x="914400" y="335124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1297080" y="26020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57200" y="4278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6002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2819520" y="33512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bstitute the values in for a, b, and 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02040" y="24382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24382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14"/>
          <p:cNvSpPr/>
          <p:nvPr/>
        </p:nvSpPr>
        <p:spPr>
          <a:xfrm>
            <a:off x="2819520" y="40384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you substitute the values in correctly you should ge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753000" y="4984920"/>
          <a:ext cx="276696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53000" y="4984920"/>
                    <a:ext cx="27669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464000" y="5861160"/>
          <a:ext cx="1306440" cy="500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64000" y="5861160"/>
                    <a:ext cx="13064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Oval 17"/>
          <p:cNvSpPr/>
          <p:nvPr/>
        </p:nvSpPr>
        <p:spPr>
          <a:xfrm>
            <a:off x="4343400" y="581040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ight Triangle 3"/>
          <p:cNvSpPr/>
          <p:nvPr/>
        </p:nvSpPr>
        <p:spPr>
          <a:xfrm rot="10800000">
            <a:off x="457200" y="1751760"/>
            <a:ext cx="3657600" cy="2057400"/>
          </a:xfrm>
          <a:prstGeom prst="rtTriangle">
            <a:avLst/>
          </a:prstGeom>
          <a:solidFill>
            <a:srgbClr val="40315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411480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1905120" y="2830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6"/>
          <p:cNvSpPr/>
          <p:nvPr/>
        </p:nvSpPr>
        <p:spPr>
          <a:xfrm flipV="1">
            <a:off x="3731400" y="1752120"/>
            <a:ext cx="180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7"/>
          <p:cNvSpPr/>
          <p:nvPr/>
        </p:nvSpPr>
        <p:spPr>
          <a:xfrm flipH="1" flipV="1">
            <a:off x="3733920" y="213156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205740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5029200" y="1676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using one of the formul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228600" y="4110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ich formula should you 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502240" y="38098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2240" y="38098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237280" y="4876920"/>
          <a:ext cx="299880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37280" y="4876920"/>
                    <a:ext cx="29988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13"/>
          <p:cNvSpPr/>
          <p:nvPr/>
        </p:nvSpPr>
        <p:spPr>
          <a:xfrm>
            <a:off x="228600" y="411480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this situation you must make sure that you use 26 f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embe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represents the hypotenuse (which is always the largest side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75360" y="5958000"/>
          <a:ext cx="130824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75360" y="5958000"/>
                    <a:ext cx="13082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Oval 15"/>
          <p:cNvSpPr/>
          <p:nvPr/>
        </p:nvSpPr>
        <p:spPr>
          <a:xfrm>
            <a:off x="5867280" y="588636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457200" y="14176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agonal of a square is a line segment that connects a square’s opposite vertices (corner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657600" y="3124080"/>
            <a:ext cx="1752480" cy="175284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6"/>
          <p:cNvSpPr/>
          <p:nvPr/>
        </p:nvSpPr>
        <p:spPr>
          <a:xfrm flipV="1">
            <a:off x="3657600" y="3123720"/>
            <a:ext cx="1752480" cy="175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Straight Connector 7"/>
          <p:cNvSpPr/>
          <p:nvPr/>
        </p:nvSpPr>
        <p:spPr>
          <a:xfrm flipH="1" flipV="1">
            <a:off x="3657600" y="3123720"/>
            <a:ext cx="1752480" cy="175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457200" y="5494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n asked to find the length of a diagonal of a square, you must use the Pythagorean Theor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590920"/>
            <a:ext cx="2666880" cy="266688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2286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3657600" y="2438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rst you should note that all sides of a square are all the same valu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so, all of its angles are right 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524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3657600" y="4419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 in one of the diagonals of the squa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85800" y="2590920"/>
            <a:ext cx="2666880" cy="266688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2286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17524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3657600" y="257976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notice that a diagonal splits a square into two right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3657600" y="257976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notice that a diagonal splits a square into two right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ight Triangle 17"/>
          <p:cNvSpPr/>
          <p:nvPr/>
        </p:nvSpPr>
        <p:spPr>
          <a:xfrm flipH="1">
            <a:off x="685800" y="2590920"/>
            <a:ext cx="2666880" cy="2666880"/>
          </a:xfrm>
          <a:prstGeom prst="rtTriangle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ight Triangle 18"/>
          <p:cNvSpPr/>
          <p:nvPr/>
        </p:nvSpPr>
        <p:spPr>
          <a:xfrm flipV="1">
            <a:off x="685800" y="2590920"/>
            <a:ext cx="2666880" cy="2666880"/>
          </a:xfrm>
          <a:prstGeom prst="rtTriangle">
            <a:avLst/>
          </a:prstGeom>
          <a:solidFill>
            <a:srgbClr val="ebf1d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3962520" y="228600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look at only one of the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missing side using the Pythagorean Theor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ight Triangle 17"/>
          <p:cNvSpPr/>
          <p:nvPr/>
        </p:nvSpPr>
        <p:spPr>
          <a:xfrm flipH="1">
            <a:off x="685800" y="2590920"/>
            <a:ext cx="2666880" cy="2666880"/>
          </a:xfrm>
          <a:prstGeom prst="rtTriangle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1676520" y="3440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95680" y="4191120"/>
          <a:ext cx="249876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191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419720" y="4952880"/>
          <a:ext cx="2882880" cy="7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4952880"/>
                    <a:ext cx="28828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746600" y="6033960"/>
          <a:ext cx="184464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46600" y="6033960"/>
                    <a:ext cx="1844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Oval 14"/>
          <p:cNvSpPr/>
          <p:nvPr/>
        </p:nvSpPr>
        <p:spPr>
          <a:xfrm>
            <a:off x="4343400" y="5962680"/>
            <a:ext cx="280656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676520" y="5189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ich two sides are the smalles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47242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 and 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riang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09480" y="14176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right triangle is a triangle that has one right angle in i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hypotenuse of a right triangle is the side that is opposite from the right angle.  It is always the longest side in the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other two smaller sides are called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45720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 and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3200400" y="487692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quare the two legs and add them together. If these values form a right triangle, that number should equal the hypotenuse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45720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 and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3200400" y="5105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+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= 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3200400" y="56498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= 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Straight Connector 12"/>
          <p:cNvSpPr/>
          <p:nvPr/>
        </p:nvSpPr>
        <p:spPr>
          <a:xfrm>
            <a:off x="5638680" y="5357880"/>
            <a:ext cx="914400" cy="204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Straight Connector 13"/>
          <p:cNvSpPr/>
          <p:nvPr/>
        </p:nvSpPr>
        <p:spPr>
          <a:xfrm flipV="1">
            <a:off x="5638680" y="5638320"/>
            <a:ext cx="914400" cy="228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16"/>
          <p:cNvSpPr/>
          <p:nvPr/>
        </p:nvSpPr>
        <p:spPr>
          <a:xfrm>
            <a:off x="6858000" y="5172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y are both equal to 25, so it is a right tri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 2:  Is 10, 14, 9  a 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457200" y="34290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s: 9 and 1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ypotenuse:  14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457200" y="2286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values of the legs and hypoten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3200400" y="34290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8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9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2"/>
          <p:cNvSpPr/>
          <p:nvPr/>
        </p:nvSpPr>
        <p:spPr>
          <a:xfrm>
            <a:off x="5410080" y="3733920"/>
            <a:ext cx="1143000" cy="3902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13"/>
          <p:cNvSpPr/>
          <p:nvPr/>
        </p:nvSpPr>
        <p:spPr>
          <a:xfrm flipV="1">
            <a:off x="4876920" y="4200480"/>
            <a:ext cx="1676160" cy="4572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6781680" y="350532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y are not equal, so the three numbers do not form a right tri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alues f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 Round to the nearest hundredth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1282680" y="2336760"/>
            <a:ext cx="1689120" cy="1930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3"/>
          <a:stretch/>
        </p:blipFill>
        <p:spPr>
          <a:xfrm>
            <a:off x="5346720" y="2286000"/>
            <a:ext cx="1816200" cy="1955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1219320" y="4622760"/>
            <a:ext cx="1815840" cy="2006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5"/>
          <a:stretch/>
        </p:blipFill>
        <p:spPr>
          <a:xfrm>
            <a:off x="5321160" y="4597560"/>
            <a:ext cx="1841760" cy="20318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8"/>
          <p:cNvSpPr/>
          <p:nvPr/>
        </p:nvSpPr>
        <p:spPr>
          <a:xfrm>
            <a:off x="762120" y="233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4800600" y="235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762120" y="4719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4800600" y="4719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57200" y="14176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far up a wall will an 11m ladder reach, if the foot of the ladder must be 4m from the base of the wall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is the length of a diagonal of a square whose sides are 16 in lo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 triangle with side lengths 25, 20, 15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 triangle with side lengths 7, 7, 10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riang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ight Triangle 3"/>
          <p:cNvSpPr/>
          <p:nvPr/>
        </p:nvSpPr>
        <p:spPr>
          <a:xfrm>
            <a:off x="3048120" y="29718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3048120" y="44956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Straight Connector 5"/>
          <p:cNvSpPr/>
          <p:nvPr/>
        </p:nvSpPr>
        <p:spPr>
          <a:xfrm flipV="1">
            <a:off x="3427560" y="44953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9" name="Straight Arrow Connector 6"/>
          <p:cNvCxnSpPr/>
          <p:nvPr/>
        </p:nvCxnSpPr>
        <p:spPr>
          <a:xfrm flipV="1">
            <a:off x="3581280" y="4114440"/>
            <a:ext cx="991440" cy="381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0" name="TextBox 7"/>
          <p:cNvSpPr/>
          <p:nvPr/>
        </p:nvSpPr>
        <p:spPr>
          <a:xfrm rot="1856400">
            <a:off x="3025080" y="2851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side is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hypotenu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since it is opposite from the right 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113360" y="49528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360520" y="365760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228600" y="4876920"/>
            <a:ext cx="213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other two sides are then call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leg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xplosion 2 13"/>
          <p:cNvSpPr/>
          <p:nvPr/>
        </p:nvSpPr>
        <p:spPr>
          <a:xfrm>
            <a:off x="4419720" y="3962520"/>
            <a:ext cx="4647960" cy="190476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63252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57200" y="14176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ythagorean Theorem is a mathematical theorem which states that the square of the length of the hypotenuse of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right triangl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s equal to the sum of the squares of the two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a right triangle like the one below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ight Triangle 4"/>
          <p:cNvSpPr/>
          <p:nvPr/>
        </p:nvSpPr>
        <p:spPr>
          <a:xfrm>
            <a:off x="1447920" y="40338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06668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819520" y="5481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971800" y="4486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1447920" y="55576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traight Connector 12"/>
          <p:cNvSpPr/>
          <p:nvPr/>
        </p:nvSpPr>
        <p:spPr>
          <a:xfrm flipV="1">
            <a:off x="1827360" y="55573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5334120" y="4562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32004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5181480" y="2082960"/>
            <a:ext cx="2667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side that is not given is the hypotenuse since it is opposite from the right 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other words this would be our side “c”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228600" y="4572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bstitute values in for a, b, and c into the Pythagorean Theorem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3581280" y="5192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3505320" y="5710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6" name="Straight Arrow Connector 18"/>
          <p:cNvCxnSpPr/>
          <p:nvPr/>
        </p:nvCxnSpPr>
        <p:spPr>
          <a:xfrm flipV="1">
            <a:off x="2133360" y="3123360"/>
            <a:ext cx="991080" cy="381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2004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16765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5410080" y="2305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must solve the equation algebraically to find the value for 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2133720" y="472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 + 16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2666880" y="5110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5486400" y="39625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 is almost by itself.  We must get rid of the square.  What is the opposite of squaring a number?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5486400" y="5486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square root is the opposite.  So you must take the square root of both sides to get rid of the squar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438280" y="5470560"/>
          <a:ext cx="167652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5470560"/>
                    <a:ext cx="16765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24"/>
          <p:cNvSpPr/>
          <p:nvPr/>
        </p:nvSpPr>
        <p:spPr>
          <a:xfrm>
            <a:off x="2819520" y="6091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2438280" y="601992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320040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16765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5410080" y="23050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can check your answer to see if it is correct by substituting your answer back in for 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1676520" y="4719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2133720" y="5176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 + 16 = 2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2666880" y="5638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= 25    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3124080" y="2514600"/>
            <a:ext cx="533520" cy="4572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5720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take a look at an example where the value for the hypotenuse is give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Right Triangle 4"/>
          <p:cNvSpPr/>
          <p:nvPr/>
        </p:nvSpPr>
        <p:spPr>
          <a:xfrm rot="16200000">
            <a:off x="762120" y="3200040"/>
            <a:ext cx="2361960" cy="1143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Straight Connector 5"/>
          <p:cNvSpPr/>
          <p:nvPr/>
        </p:nvSpPr>
        <p:spPr>
          <a:xfrm>
            <a:off x="2133720" y="457200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Straight Connector 6"/>
          <p:cNvSpPr/>
          <p:nvPr/>
        </p:nvSpPr>
        <p:spPr>
          <a:xfrm flipV="1">
            <a:off x="2131920" y="45720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828800" y="4964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447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25146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048120" y="259092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time the hypotenuse is 13 and we are not given the value for one of the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do you think the correct values f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, b, and c should be?  Substitute those i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44956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34340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1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3429000" y="6019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mplify the equation as much as you can before you start solving for 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1" name="Straight Arrow Connector 16"/>
          <p:cNvCxnSpPr/>
          <p:nvPr/>
        </p:nvCxnSpPr>
        <p:spPr>
          <a:xfrm flipH="1" flipV="1">
            <a:off x="1906200" y="4038120"/>
            <a:ext cx="30384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5720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take a look at an example where the value for the hypotenuse is give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ight Triangle 4"/>
          <p:cNvSpPr/>
          <p:nvPr/>
        </p:nvSpPr>
        <p:spPr>
          <a:xfrm rot="16200000">
            <a:off x="762120" y="3200040"/>
            <a:ext cx="2361960" cy="1143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Straight Connector 5"/>
          <p:cNvSpPr/>
          <p:nvPr/>
        </p:nvSpPr>
        <p:spPr>
          <a:xfrm>
            <a:off x="2133720" y="457200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Straight Connector 6"/>
          <p:cNvSpPr/>
          <p:nvPr/>
        </p:nvSpPr>
        <p:spPr>
          <a:xfrm flipV="1">
            <a:off x="2131920" y="45720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828800" y="4964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1447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5146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4343400" y="2514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1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4343400" y="3043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6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7010280" y="3059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w solve for 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4191120" y="3500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25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2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5105520" y="3957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4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800600" y="4487760"/>
          <a:ext cx="182880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4487760"/>
                    <a:ext cx="18288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Box 20"/>
          <p:cNvSpPr/>
          <p:nvPr/>
        </p:nvSpPr>
        <p:spPr>
          <a:xfrm>
            <a:off x="5105520" y="5176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4724280" y="510552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752480" y="61833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eck your work to see if 12 is the correct answer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51:29Z</dcterms:created>
  <dc:creator>Jennifer Dugan</dc:creator>
  <dc:description/>
  <dc:language>en-US</dc:language>
  <cp:lastModifiedBy>Jennifer Dugan</cp:lastModifiedBy>
  <dcterms:modified xsi:type="dcterms:W3CDTF">2010-04-21T16:18:52Z</dcterms:modified>
  <cp:revision>39</cp:revision>
  <dc:subject/>
  <dc:title>Linear Regression on the Calculator</dc:title>
</cp:coreProperties>
</file>