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542-3A17-44D5-99AC-2C3983BF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D89-BADA-48F9-92B5-E69AD73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98B-71EB-4086-B676-E9BC98B9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AA4-1386-41F8-B4AB-542F7931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ED3-BCF1-4EEE-A119-0E09C0B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8B1-840B-4D52-9A55-56E47C0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606-F105-4D01-8393-303020F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892-A930-4914-A54A-D788A0C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4B4-4186-4209-8DFE-9676A49E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835-9445-4CD2-912E-087EB1D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A5E-26AB-4DD9-AB1D-ED5904C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207-64F5-4386-967B-A5A26F9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B311A-7F8A-43FB-AF4E-4F8BE80A482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BB155-EB58-4E7D-8DE7-D1FD22F7C1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fit and Inc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495680" y="350676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, can solve for the profit. Remember, the general rule for profit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657600" y="4648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897080" y="46483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11080" y="464832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12920" y="4648320"/>
            <a:ext cx="3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7151760" y="464832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003560" y="46483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754960" y="46483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503480" y="464832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7200" y="1417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. Nelms bought a pack of 200 pencils for $5. He sells these pencils to kids that aren’t prepared for class for $.25 each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3124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expenses for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I for income, write a rule to model the income for this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P for profit, write a rule model the profit for this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57200" y="14176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: the amount of money you earn by selling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: the money you keep after paying your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 = 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14600" y="44496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we need to find our important inform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14600" y="444960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terials cost the $12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ur expen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3803760" y="2664000"/>
            <a:ext cx="473688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514600" y="4449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re selling the bottles for $2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Box 5" descr=""/>
          <p:cNvPicPr/>
          <p:nvPr/>
        </p:nvPicPr>
        <p:blipFill>
          <a:blip r:embed="rId2"/>
          <a:stretch/>
        </p:blipFill>
        <p:spPr>
          <a:xfrm>
            <a:off x="1822320" y="3144960"/>
            <a:ext cx="52675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414504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thing we need to identify our variabl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95680" y="358128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ngs that change for this situation will be Income, Profit, and the number of bottles s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’re solving for income, our equation will start ou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ill the income change for every bottle sol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495680" y="35812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come will increase by $2 for each bottle sold, so we writ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495680" y="5664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54:33Z</dcterms:created>
  <dc:creator>Jennifer Dugan</dc:creator>
  <dc:description/>
  <dc:language>en-US</dc:language>
  <cp:lastModifiedBy>Jennifer Dugan</cp:lastModifiedBy>
  <dcterms:modified xsi:type="dcterms:W3CDTF">2009-12-18T14:02:57Z</dcterms:modified>
  <cp:revision>18</cp:revision>
  <dc:subject/>
  <dc:title>Profit and Income</dc:title>
</cp:coreProperties>
</file>