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564-1179-4253-A9A8-D8F55CD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710-A737-4BE5-ABAB-E1F580D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F9F-9090-49FF-964B-263A4F0D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E2D-5447-43B6-9029-32B9366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0FC-4C96-455B-A5E7-2C70054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A91-E5F2-4B59-ADC3-0F84E78F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B48-6D61-4CD4-9D59-7AF81C5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C3F-CB03-4FFF-844A-47CCFA7C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C15-C8BB-4CD7-95F5-F1B5126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6D5-4A0C-44AB-A014-DEC61C1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093-9EDE-4D76-BBF1-E5D6CEE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328-4E3E-4532-8501-60DFBE4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4ADF8-43B4-4BE0-835E-7B3C76658DF4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BBE98-D3C1-4EDA-9E80-5238B4561E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fit and Inc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495680" y="350676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, can solve for the profit. Remember, the general rule for profit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657600" y="4648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897080" y="46483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11080" y="4648320"/>
            <a:ext cx="14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12920" y="4648320"/>
            <a:ext cx="3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7151760" y="464832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003560" y="46483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754960" y="46483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503480" y="464832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 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7200" y="1417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r. Nelms bought a pack of 200 pencils for $5. He sells these pencils to kids that aren’t prepared for class for $.25 each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3124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expenses for this probl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I for income, write a rule to model the income for this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n for the number of pencils and P for profit, write a rule model the profit for this situ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57200" y="14176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ome: the amount of money you earn by selling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: the money you keep after paying your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 = Income -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14600" y="44496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we need to find our important inform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14600" y="444960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terials cost the $12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our expen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3803760" y="2664000"/>
            <a:ext cx="473688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MLA is selling hand sanitizer as a fund raiser for their club. The materials to make the hand sanitizer costs them $120. They plan to sell the bottles for $2 each. Write a rule for the income and profi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514600" y="4449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re selling the bottles for $2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Box 5" descr=""/>
          <p:cNvPicPr/>
          <p:nvPr/>
        </p:nvPicPr>
        <p:blipFill>
          <a:blip r:embed="rId2"/>
          <a:stretch/>
        </p:blipFill>
        <p:spPr>
          <a:xfrm>
            <a:off x="1822320" y="3144960"/>
            <a:ext cx="52675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414504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thing we need to identify our variabl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495680" y="358128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ngs that change for this situation will be Income, Profit, and the number of bottles s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’re solving for income, our equation will start ou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495680" y="35812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ill the income change for every bottle sol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828800" y="144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f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ls costs $1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ling bottles for $2 ea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1828800" y="1295280"/>
            <a:ext cx="5257800" cy="2092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09480" y="39625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 =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Number of bottles so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495680" y="35812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come will increase by $2 for each bottle sold, so we writ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495680" y="564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495680" y="5664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= 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54:33Z</dcterms:created>
  <dc:creator>Jennifer Dugan</dc:creator>
  <dc:description/>
  <dc:language>en-US</dc:language>
  <cp:lastModifiedBy>Jennifer Dugan</cp:lastModifiedBy>
  <dcterms:modified xsi:type="dcterms:W3CDTF">2009-12-18T14:02:57Z</dcterms:modified>
  <cp:revision>18</cp:revision>
  <dc:subject/>
  <dc:title>Profit and Income</dc:title>
</cp:coreProperties>
</file>