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B4FF-AFE8-4FC3-8D6A-EFC14019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06B-7D3E-430B-B4EA-DF31F0AD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EEE-3213-4000-BA37-4FDEF285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DCC-DE76-4B39-B372-CE0B58EB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426-4A77-4D33-AD7B-4CACD8DA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1638-993E-4746-B931-9D959E06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89A-C900-488C-B0D0-F67862EE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1FC9-2644-4A9E-804E-075CABD0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6AF-5EF0-41BC-BFB8-7BF69E0A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BA7-01FB-466D-A514-93BF2AEB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B98E-BE73-41A2-A15F-6B7A0935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8E7-60F1-4A3A-861A-B60896FF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588BD-6CBF-4877-A685-C27B41C5BC9C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0B045-635A-4BEC-9D66-390325E066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fit and Inco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495680" y="350676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, can solve for the profit. Remember, the general rule for profit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ome - Expen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3657600" y="4648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897080" y="464832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311080" y="4648320"/>
            <a:ext cx="14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712920" y="4648320"/>
            <a:ext cx="30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7151760" y="464832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pen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4003560" y="464832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5754960" y="464832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7503480" y="4648320"/>
            <a:ext cx="79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57200" y="2967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57200" y="14176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r. Nelms bought a pack of 200 pencils for $5. He sells these pencils to kids that aren’t prepared for class for $.25 each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457200" y="312408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expenses for this proble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ing n for the number of pencils and I for income, write a rule to model the income for this sit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ing n for the number of pencils and P for profit, write a rule model the profit for this situa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457200" y="141768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ome: the amount of money you earn by selling ite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fit: the money you keep after paying your expen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ul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fit = Income - Expen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57200" y="16765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MLA is selling hand sanitizer as a fund raiser for their club. The materials to make the hand sanitizer costs them $120. They plan to sell the bottles for $2 each. Write a rule for the income and profi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514600" y="444960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we need to find our important inform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457200" y="16765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MLA is selling hand sanitizer as a fund raiser for their club. The materials to make the hand sanitizer costs them $120. They plan to sell the bottles for $2 each. Write a rule for the income and profi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514600" y="444960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aterials cost the $120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our expens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TextBox 5" descr=""/>
          <p:cNvPicPr/>
          <p:nvPr/>
        </p:nvPicPr>
        <p:blipFill>
          <a:blip r:embed="rId2"/>
          <a:stretch/>
        </p:blipFill>
        <p:spPr>
          <a:xfrm>
            <a:off x="3803760" y="2664000"/>
            <a:ext cx="473688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57200" y="16765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MLA is selling hand sanitizer as a fund raiser for their club. The materials to make the hand sanitizer costs them $120. They plan to sell the bottles for $2 each. Write a rule for the income and profi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2514600" y="44496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are selling the bottles for $2 eac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TextBox 5" descr=""/>
          <p:cNvPicPr/>
          <p:nvPr/>
        </p:nvPicPr>
        <p:blipFill>
          <a:blip r:embed="rId2"/>
          <a:stretch/>
        </p:blipFill>
        <p:spPr>
          <a:xfrm>
            <a:off x="1822320" y="3144960"/>
            <a:ext cx="526752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457200" y="414504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thing we need to identify our variable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495680" y="3581280"/>
            <a:ext cx="3886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hings that change for this situation will be Income, Profit, and the number of bottles sol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495680" y="358128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we’re solving for income, our equation will start ou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4495680" y="564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4495680" y="358128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will the income change for every bottle sol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4495680" y="564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4495680" y="358128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come will increase by $2 for each bottle sold, so we write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4495680" y="564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4495680" y="566424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2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2:54:33Z</dcterms:created>
  <dc:creator>Jennifer Dugan</dc:creator>
  <dc:description/>
  <dc:language>en-US</dc:language>
  <cp:lastModifiedBy>Jennifer Dugan</cp:lastModifiedBy>
  <dcterms:modified xsi:type="dcterms:W3CDTF">2009-12-18T14:02:57Z</dcterms:modified>
  <cp:revision>18</cp:revision>
  <dc:subject/>
  <dc:title>Profit and Income</dc:title>
</cp:coreProperties>
</file>