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3ED0-C00F-4DE7-9838-55FABFA08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6FC7-7754-45F2-9871-5B6B63FB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5189-5DA3-4E43-89D4-8944109BF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B773-E209-45D1-A2B3-E2B43E26B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221A-A979-48E1-BCAB-15F920F2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B4BC-2334-4EBF-B654-3CF7D301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23E6-9A8E-4EFD-B125-CF4687B9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100F-E031-4165-B07E-4B123FB4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47D5-7D52-4E33-9939-1D7F8A23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557C-45BD-4A50-908D-907C1A3C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CA8F-CACA-4E0D-8EA7-AF386174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FB27-B40B-42F7-A193-775188CC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13CA89-E70E-4157-B1FB-0A03468F21AA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AB3428-EB6A-4524-BAAB-3772088AAAF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fit and Incom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to turn in 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1828800" y="1447920"/>
            <a:ext cx="525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ortant Info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terials costs $12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lling bottles for $2 ea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Rounded Rectangle 4"/>
          <p:cNvSpPr/>
          <p:nvPr/>
        </p:nvSpPr>
        <p:spPr>
          <a:xfrm>
            <a:off x="1828800" y="1295280"/>
            <a:ext cx="5257800" cy="20923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609480" y="3962520"/>
            <a:ext cx="3886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= Inco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Prof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 = Number of bottles sol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4495680" y="3506760"/>
            <a:ext cx="3886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, can solve for the profit. Remember, the general rule for profit i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ome - Expen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1828800" y="1447920"/>
            <a:ext cx="525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ortant Info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terials costs $12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lling bottles for $2 ea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Rounded Rectangle 4"/>
          <p:cNvSpPr/>
          <p:nvPr/>
        </p:nvSpPr>
        <p:spPr>
          <a:xfrm>
            <a:off x="1828800" y="1295280"/>
            <a:ext cx="5257800" cy="20923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609480" y="3962520"/>
            <a:ext cx="3886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= Inco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Prof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 = Number of bottles sol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3657600" y="46483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f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4897080" y="4648320"/>
            <a:ext cx="3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5311080" y="4648320"/>
            <a:ext cx="14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o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712920" y="4648320"/>
            <a:ext cx="30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7151760" y="4648320"/>
            <a:ext cx="170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pen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4003560" y="4648320"/>
            <a:ext cx="3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5754960" y="4648320"/>
            <a:ext cx="60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7503480" y="4648320"/>
            <a:ext cx="79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2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 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457200" y="29671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swer the following questions on loose lea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hand them in to your teach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 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457200" y="141768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r. Nelms bought a pack of 200 pencils for $5. He sells these pencils to kids that aren’t prepared for class for $.25 each.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457200" y="3124080"/>
            <a:ext cx="8229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are the expenses for this problem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ing n for the number of pencils and I for income, write a rule to model the income for this situ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ing n for the number of pencils and P for profit, write a rule model the profit for this situation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as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457200" y="1417680"/>
            <a:ext cx="8229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ome: the amount of money you earn by selling item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fit: the money you keep after paying your expen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ul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fit = Income - Expen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57200" y="1676520"/>
            <a:ext cx="8229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MLA is selling hand sanitizer as a fund raiser for their club. The materials to make the hand sanitizer costs them $120. They plan to sell the bottles for $2 each. Write a rule for the income and profit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2514600" y="4449600"/>
            <a:ext cx="38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rst, we need to find our important inform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457200" y="1676520"/>
            <a:ext cx="8229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MLA is selling hand sanitizer as a fund raiser for their club. The materials to make the hand sanitizer costs them $120. They plan to sell the bottles for $2 each. Write a rule for the income and profit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2514600" y="4449600"/>
            <a:ext cx="426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materials cost the $120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is our expens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TextBox 5" descr=""/>
          <p:cNvPicPr/>
          <p:nvPr/>
        </p:nvPicPr>
        <p:blipFill>
          <a:blip r:embed="rId2"/>
          <a:stretch/>
        </p:blipFill>
        <p:spPr>
          <a:xfrm>
            <a:off x="3803760" y="2664000"/>
            <a:ext cx="4736880" cy="59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457200" y="1676520"/>
            <a:ext cx="8229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MLA is selling hand sanitizer as a fund raiser for their club. The materials to make the hand sanitizer costs them $120. They plan to sell the bottles for $2 each. Write a rule for the income and profit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2514600" y="444960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y are selling the bottles for $2 each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TextBox 5" descr=""/>
          <p:cNvPicPr/>
          <p:nvPr/>
        </p:nvPicPr>
        <p:blipFill>
          <a:blip r:embed="rId2"/>
          <a:stretch/>
        </p:blipFill>
        <p:spPr>
          <a:xfrm>
            <a:off x="1822320" y="3144960"/>
            <a:ext cx="5267520" cy="59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indefinite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1828800" y="1447920"/>
            <a:ext cx="525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ortant Info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terials costs $12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lling bottles for $2 ea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1828800" y="1295280"/>
            <a:ext cx="5257800" cy="20923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457200" y="4145040"/>
            <a:ext cx="38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first thing we need to identify our variable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4495680" y="3581280"/>
            <a:ext cx="3886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things that change for this situation will be Income, Profit, and the number of bottles sol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1828800" y="1447920"/>
            <a:ext cx="525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ortant Info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terials costs $12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lling bottles for $2 ea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Rounded Rectangle 4"/>
          <p:cNvSpPr/>
          <p:nvPr/>
        </p:nvSpPr>
        <p:spPr>
          <a:xfrm>
            <a:off x="1828800" y="1295280"/>
            <a:ext cx="5257800" cy="20923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609480" y="3962520"/>
            <a:ext cx="3886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= Inco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Prof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 = Number of bottles sol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4495680" y="3581280"/>
            <a:ext cx="38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nce we’re solving for income, our equation will start ou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4495680" y="56437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=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1828800" y="1447920"/>
            <a:ext cx="525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ortant Info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terials costs $12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lling bottles for $2 ea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Rounded Rectangle 4"/>
          <p:cNvSpPr/>
          <p:nvPr/>
        </p:nvSpPr>
        <p:spPr>
          <a:xfrm>
            <a:off x="1828800" y="1295280"/>
            <a:ext cx="5257800" cy="20923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609480" y="3962520"/>
            <a:ext cx="3886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= Inco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Prof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 = Number of bottles sol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4495680" y="3581280"/>
            <a:ext cx="38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will the income change for every bottle sold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4495680" y="56437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=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1828800" y="1447920"/>
            <a:ext cx="525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ortant Info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terials costs $12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lling bottles for $2 ea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Rounded Rectangle 4"/>
          <p:cNvSpPr/>
          <p:nvPr/>
        </p:nvSpPr>
        <p:spPr>
          <a:xfrm>
            <a:off x="1828800" y="1295280"/>
            <a:ext cx="5257800" cy="20923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609480" y="3962520"/>
            <a:ext cx="3886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= Inco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Prof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 = Number of bottles sol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4495680" y="3581280"/>
            <a:ext cx="3886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income will increase by $2 for each bottle sold, so we write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4495680" y="56437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=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4495680" y="566424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= 2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2:54:33Z</dcterms:created>
  <dc:creator>Jennifer Dugan</dc:creator>
  <dc:description/>
  <dc:language>en-US</dc:language>
  <cp:lastModifiedBy>Jennifer Dugan</cp:lastModifiedBy>
  <dcterms:modified xsi:type="dcterms:W3CDTF">2009-12-18T14:02:57Z</dcterms:modified>
  <cp:revision>18</cp:revision>
  <dc:subject/>
  <dc:title>Profit and Income</dc:title>
</cp:coreProperties>
</file>