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0BA-497E-41BA-8855-A7B34B82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E1A-899F-4545-8CDE-13AB7CF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8EC-04A5-4A5C-B5CB-30BF6282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B86-2DDF-4300-9FDC-75EFA98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0CD-269B-4C5F-A3BB-DE46517E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486-D94E-4FF3-B2F5-24E18B1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52D-0BB1-4148-9233-5E37ED3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741-95BE-4C0D-9D08-86F2057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7B0-6C0B-4553-8394-A600B25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3B6-55E3-496B-89D0-A02926B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E3C-8450-45FA-97F9-D878749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402-A897-4FB8-8DCF-30558A6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085CA-DE45-450D-ADFB-5863DE29135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C02F0-7EA6-4D3A-841E-381557C715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ct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ct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pct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ct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ct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ct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 and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13"/>
          <p:cNvSpPr/>
          <p:nvPr/>
        </p:nvSpPr>
        <p:spPr>
          <a:xfrm>
            <a:off x="4572000" y="304956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always tell which values are the base and height because they will always meet at a right 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0481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57200" y="1447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rst, let’s try to find the area of a triang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Isosceles Triangle 5"/>
          <p:cNvSpPr/>
          <p:nvPr/>
        </p:nvSpPr>
        <p:spPr>
          <a:xfrm>
            <a:off x="457200" y="3048120"/>
            <a:ext cx="3429000" cy="2709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8"/>
          <p:cNvSpPr/>
          <p:nvPr/>
        </p:nvSpPr>
        <p:spPr>
          <a:xfrm>
            <a:off x="2169360" y="3049560"/>
            <a:ext cx="3240" cy="270972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70080" y="5562720"/>
            <a:ext cx="268200" cy="195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82880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828800" y="4419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91320" y="1371600"/>
          <a:ext cx="1785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1785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13"/>
          <p:cNvSpPr/>
          <p:nvPr/>
        </p:nvSpPr>
        <p:spPr>
          <a:xfrm>
            <a:off x="4572000" y="27432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is case, 6 ft is the base of the triangle and 4 ft is the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0880" y="4362480"/>
          <a:ext cx="247320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4362480"/>
                    <a:ext cx="2473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586480" y="5638680"/>
          <a:ext cx="195732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5638680"/>
                    <a:ext cx="1957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733920" y="4594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8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57200" y="1905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up…a rectangl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175248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029200" y="144792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is the length and 8 is the width. Plug these values into the formula to find the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91320" y="5715000"/>
          <a:ext cx="19904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715000"/>
                    <a:ext cx="1990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4"/>
          <p:cNvSpPr/>
          <p:nvPr/>
        </p:nvSpPr>
        <p:spPr>
          <a:xfrm>
            <a:off x="685800" y="3743280"/>
            <a:ext cx="304812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03760" y="5078520"/>
          <a:ext cx="24735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3760" y="5078520"/>
                    <a:ext cx="2473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57200" y="13716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can use the same formula to find the area of a squa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808600" y="5715000"/>
          <a:ext cx="195588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08600" y="571500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678640" y="5078520"/>
          <a:ext cx="232380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8640" y="5078520"/>
                    <a:ext cx="23238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572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 you can use the formula for a squa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828800" y="58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9160" y="5715000"/>
          <a:ext cx="1955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9160" y="5715000"/>
                    <a:ext cx="195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045120" y="4343400"/>
          <a:ext cx="149868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45120" y="434340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4"/>
          <p:cNvSpPr/>
          <p:nvPr/>
        </p:nvSpPr>
        <p:spPr>
          <a:xfrm>
            <a:off x="1143000" y="3743280"/>
            <a:ext cx="198108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981760" y="5078520"/>
          <a:ext cx="2324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1760" y="5078520"/>
                    <a:ext cx="23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119640" y="1589040"/>
          <a:ext cx="1424160" cy="63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9640" y="1589040"/>
                    <a:ext cx="1424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83280" y="2286000"/>
          <a:ext cx="149868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3280" y="2286000"/>
                    <a:ext cx="1498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045120" y="3048120"/>
          <a:ext cx="195588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5120" y="3048120"/>
                    <a:ext cx="1955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12"/>
          <p:cNvSpPr/>
          <p:nvPr/>
        </p:nvSpPr>
        <p:spPr>
          <a:xfrm>
            <a:off x="457200" y="235116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’ll get the same answer for bo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5867280" y="297180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5867280" y="5638680"/>
            <a:ext cx="2336760" cy="914400"/>
          </a:xfrm>
          <a:prstGeom prst="ellipse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457200" y="1371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llelograms are similar to rectangles, but you have to be careful to choose the correct values from the figure. You’ll need to find a base and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800600" y="3992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values would you choose for the base and he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1370160" y="5408640"/>
            <a:ext cx="2300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traight Connector 25"/>
          <p:cNvSpPr/>
          <p:nvPr/>
        </p:nvSpPr>
        <p:spPr>
          <a:xfrm flipH="1">
            <a:off x="1598760" y="5408640"/>
            <a:ext cx="2880" cy="314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60020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1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we know that base and height always meet at a right angle, we should choose 11 for our base and 5 for our h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581280" y="467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7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arallelogram 11"/>
          <p:cNvSpPr/>
          <p:nvPr/>
        </p:nvSpPr>
        <p:spPr>
          <a:xfrm>
            <a:off x="914400" y="4044960"/>
            <a:ext cx="2895480" cy="1676520"/>
          </a:xfrm>
          <a:prstGeom prst="parallelogram">
            <a:avLst>
              <a:gd name="adj" fmla="val 25011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8"/>
          <p:cNvSpPr/>
          <p:nvPr/>
        </p:nvSpPr>
        <p:spPr>
          <a:xfrm>
            <a:off x="137160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Straight Connector 20"/>
          <p:cNvSpPr/>
          <p:nvPr/>
        </p:nvSpPr>
        <p:spPr>
          <a:xfrm flipH="1">
            <a:off x="1370160" y="4038480"/>
            <a:ext cx="288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370160" y="5408640"/>
            <a:ext cx="231480" cy="314280"/>
            <a:chOff x="1370160" y="5408640"/>
            <a:chExt cx="231480" cy="314280"/>
          </a:xfrm>
        </p:grpSpPr>
        <p:sp>
          <p:nvSpPr>
            <p:cNvPr id="224" name="Straight Connector 23"/>
            <p:cNvSpPr/>
            <p:nvPr/>
          </p:nvSpPr>
          <p:spPr>
            <a:xfrm>
              <a:off x="1370160" y="5408640"/>
              <a:ext cx="23076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25"/>
            <p:cNvSpPr/>
            <p:nvPr/>
          </p:nvSpPr>
          <p:spPr>
            <a:xfrm flipH="1">
              <a:off x="16002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6019920" y="3514680"/>
          <a:ext cx="15364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14680"/>
                    <a:ext cx="15364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570640" y="4336920"/>
          <a:ext cx="2435040" cy="6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0640" y="4336920"/>
                    <a:ext cx="24350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19680" y="5059440"/>
          <a:ext cx="21369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9680" y="5059440"/>
                    <a:ext cx="2136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apezoid, you’ll need to find two bases and a height. Look for two sides that are parallel and the length that connects th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39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1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5029200" y="417996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two sides are paralle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. and 21 in. are parallel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50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2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5029200" y="441468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ese values into the formula to find the area of this trapezo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1752480" y="5656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1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45720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ides with lengths of 14 in and 21 in are parallel to each other. They are connected by a height of 9 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1752480" y="3514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4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990720" y="465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9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20"/>
          <p:cNvSpPr/>
          <p:nvPr/>
        </p:nvSpPr>
        <p:spPr>
          <a:xfrm flipH="1">
            <a:off x="914400" y="4038480"/>
            <a:ext cx="1440" cy="168444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914400" y="5408640"/>
            <a:ext cx="230040" cy="314280"/>
            <a:chOff x="914400" y="5408640"/>
            <a:chExt cx="230040" cy="314280"/>
          </a:xfrm>
        </p:grpSpPr>
        <p:sp>
          <p:nvSpPr>
            <p:cNvPr id="263" name="Straight Connector 23"/>
            <p:cNvSpPr/>
            <p:nvPr/>
          </p:nvSpPr>
          <p:spPr>
            <a:xfrm>
              <a:off x="914400" y="5408640"/>
              <a:ext cx="22932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Straight Connector 25"/>
            <p:cNvSpPr/>
            <p:nvPr/>
          </p:nvSpPr>
          <p:spPr>
            <a:xfrm flipH="1">
              <a:off x="1143000" y="5409360"/>
              <a:ext cx="1440" cy="313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Trapezoid 14"/>
          <p:cNvSpPr/>
          <p:nvPr/>
        </p:nvSpPr>
        <p:spPr>
          <a:xfrm>
            <a:off x="457200" y="4038480"/>
            <a:ext cx="3886200" cy="16844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240160" y="2941560"/>
          <a:ext cx="344664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0160" y="29415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016600" y="4253040"/>
          <a:ext cx="3895560" cy="13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6600" y="4253040"/>
                    <a:ext cx="3895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353200" y="5732640"/>
          <a:ext cx="277164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3200" y="5732640"/>
                    <a:ext cx="2771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meter: The distance around the outside of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rcumference: The distance around the outside of a cir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: The amount of space taken up by a plane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4952880" y="2720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value of the radius in this circl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22"/>
          <p:cNvSpPr/>
          <p:nvPr/>
        </p:nvSpPr>
        <p:spPr>
          <a:xfrm>
            <a:off x="4648320" y="462744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6 is the diameter, we need to divide it by 2 to find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4495680" y="3013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, the radius is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648320" y="412416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ug this value into the formula to find the area for this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457200" y="13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area of a circle, you’ll need to find the radius of that circ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1676520" y="4124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 c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85800" y="3200400"/>
            <a:ext cx="2854440" cy="2854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Straight Connector 19"/>
          <p:cNvSpPr/>
          <p:nvPr/>
        </p:nvSpPr>
        <p:spPr>
          <a:xfrm flipV="1">
            <a:off x="685080" y="4627080"/>
            <a:ext cx="285444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2438280" y="24494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NT: Use 3.14 for 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943600" y="3449520"/>
          <a:ext cx="1760400" cy="67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344952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877000" y="4165560"/>
          <a:ext cx="2809800" cy="7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77000" y="4165560"/>
                    <a:ext cx="28098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80240" y="5122800"/>
          <a:ext cx="3035160" cy="63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80240" y="5122800"/>
                    <a:ext cx="30351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traight Connector 37"/>
          <p:cNvSpPr/>
          <p:nvPr/>
        </p:nvSpPr>
        <p:spPr>
          <a:xfrm>
            <a:off x="2286000" y="5332320"/>
            <a:ext cx="11048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914400" y="2160720"/>
            <a:ext cx="243828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3352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7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175248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3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) Find the perimeter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2514600" y="49528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8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Right Triangle 18"/>
          <p:cNvSpPr/>
          <p:nvPr/>
        </p:nvSpPr>
        <p:spPr>
          <a:xfrm>
            <a:off x="5867280" y="2160720"/>
            <a:ext cx="1905120" cy="1420560"/>
          </a:xfrm>
          <a:prstGeom prst="rtTriangl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5867280" y="33037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105520" y="26798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6324480" y="35812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6629400" y="2438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3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1371600" y="4267080"/>
            <a:ext cx="2057400" cy="2057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2160720"/>
            <a:ext cx="11430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2209680" y="24652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1371600" y="33037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4 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457200" y="152388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) Find the area of each figu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3808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57200" y="4267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Straight Connector 15"/>
          <p:cNvSpPr/>
          <p:nvPr/>
        </p:nvSpPr>
        <p:spPr>
          <a:xfrm flipV="1">
            <a:off x="1066680" y="5067360"/>
            <a:ext cx="1828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600200" y="46483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1 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181480" y="1981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6859440" y="3505320"/>
            <a:ext cx="228600" cy="27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6400800" y="3836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8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6400800" y="2693880"/>
            <a:ext cx="121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23"/>
          <p:cNvSpPr/>
          <p:nvPr/>
        </p:nvSpPr>
        <p:spPr>
          <a:xfrm>
            <a:off x="7543800" y="2465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c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rapezoid 24"/>
          <p:cNvSpPr/>
          <p:nvPr/>
        </p:nvSpPr>
        <p:spPr>
          <a:xfrm>
            <a:off x="5638680" y="4762440"/>
            <a:ext cx="2819520" cy="1170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5181480" y="448308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6858000" y="43434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858000" y="593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5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Straight Connector 29"/>
          <p:cNvSpPr/>
          <p:nvPr/>
        </p:nvSpPr>
        <p:spPr>
          <a:xfrm flipH="1">
            <a:off x="5943600" y="4762440"/>
            <a:ext cx="1440" cy="11700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5945040" y="5665680"/>
            <a:ext cx="228600" cy="277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5945040" y="5078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Isosceles Triangle 32"/>
          <p:cNvSpPr/>
          <p:nvPr/>
        </p:nvSpPr>
        <p:spPr>
          <a:xfrm>
            <a:off x="5181480" y="1957320"/>
            <a:ext cx="3353040" cy="1852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6856560" y="1959120"/>
            <a:ext cx="2880" cy="1852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Oval 36"/>
          <p:cNvSpPr/>
          <p:nvPr/>
        </p:nvSpPr>
        <p:spPr>
          <a:xfrm>
            <a:off x="1066680" y="4164120"/>
            <a:ext cx="1828800" cy="1828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Box 28"/>
          <p:cNvSpPr/>
          <p:nvPr/>
        </p:nvSpPr>
        <p:spPr>
          <a:xfrm>
            <a:off x="518148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8305920" y="51055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4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57200" y="182880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you are finding the perimeter of a plane shape, you must add up the lengths of each side of th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" y="4948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k a starting point and then continue to work your way around the shape until all sides have been accounted f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rved Down Arrow 11"/>
          <p:cNvSpPr/>
          <p:nvPr/>
        </p:nvSpPr>
        <p:spPr>
          <a:xfrm>
            <a:off x="4419720" y="1447920"/>
            <a:ext cx="1676160" cy="685800"/>
          </a:xfrm>
          <a:custGeom>
            <a:avLst/>
            <a:gdLst>
              <a:gd name="textAreaLeft" fmla="*/ 354600 w 1676160"/>
              <a:gd name="textAreaRight" fmla="*/ 1235880 w 16761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43" hR="21600" stAng="10800000" swAng="5400000"/>
                <a:lnTo>
                  <a:pt x="11353" y="0"/>
                </a:lnTo>
                <a:arcTo wR="9143" hR="21600" stAng="-5400000" swAng="3517045"/>
                <a:lnTo>
                  <a:pt x="21310" y="16200"/>
                </a:lnTo>
                <a:lnTo>
                  <a:pt x="19391" y="21600"/>
                </a:lnTo>
                <a:lnTo>
                  <a:pt x="16892" y="16200"/>
                </a:lnTo>
                <a:lnTo>
                  <a:pt x="17996" y="16200"/>
                </a:lnTo>
                <a:arcTo wR="9143" hR="21600" stAng="-1882955" swAng="-3340037"/>
                <a:lnTo>
                  <a:pt x="10248" y="158"/>
                </a:lnTo>
                <a:arcTo wR="9143" hR="21600" stAng="-5577008" swAng="-5222992"/>
                <a:close/>
              </a:path>
              <a:path fill="darkenLess" w="21600" h="21600">
                <a:moveTo>
                  <a:pt x="0" y="21600"/>
                </a:moveTo>
                <a:arcTo wR="9143" hR="21600" stAng="10800000" swAng="5400000"/>
                <a:lnTo>
                  <a:pt x="9143" y="0"/>
                </a:lnTo>
                <a:arcTo wR="9143" hR="21600" stAng="-5400000" swAng="177008"/>
                <a:lnTo>
                  <a:pt x="10248" y="158"/>
                </a:lnTo>
                <a:arcTo wR="9143" hR="21600" stAng="-5577008" swAng="-5222992"/>
                <a:close/>
              </a:path>
            </a:pathLst>
          </a:custGeom>
          <a:solidFill>
            <a:srgbClr val="fac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0880" y="2011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’ll choose the top left corner as my starting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502920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02920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502920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02920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502920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02920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502920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02920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502920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02920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80880" y="251460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 the perimeter of this rectangle is 56 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2198520"/>
            <a:ext cx="2362320" cy="175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705720" y="1752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8229600" y="280836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6705720" y="395748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2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181480" y="280836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6 f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5334120"/>
          <a:ext cx="76212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334120"/>
                    <a:ext cx="762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5334120"/>
          <a:ext cx="1927440" cy="62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334120"/>
                    <a:ext cx="1927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523880" y="5334120"/>
          <a:ext cx="313704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334120"/>
                    <a:ext cx="3137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523880" y="5334120"/>
          <a:ext cx="4302360" cy="62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5334120"/>
                    <a:ext cx="4302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5334120"/>
          <a:ext cx="5602320" cy="62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880" y="5334120"/>
                    <a:ext cx="560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417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erimeter of a circle is called the circumfer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80880" y="28083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find the circumference of a circle, you can use the following formul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40384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0384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62720" y="40384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0384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16"/>
          <p:cNvSpPr/>
          <p:nvPr/>
        </p:nvSpPr>
        <p:spPr>
          <a:xfrm>
            <a:off x="4267080" y="4140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57200" y="541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take a look at an examp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267080" y="43322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 is the radius so we can use the first formu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19720" y="28749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 we have the radius or the diamet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 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523880"/>
          <a:ext cx="2540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2540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62720" y="1523880"/>
          <a:ext cx="2235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235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16"/>
          <p:cNvSpPr/>
          <p:nvPr/>
        </p:nvSpPr>
        <p:spPr>
          <a:xfrm>
            <a:off x="4267080" y="162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4724280" y="26668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t’s use 3.14 for pi and 5  for the radi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14400" y="2666880"/>
            <a:ext cx="2743200" cy="274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2286000" y="4038480"/>
            <a:ext cx="137160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29200" y="4038480"/>
          <a:ext cx="335268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4038480"/>
                    <a:ext cx="3352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34040" y="5126040"/>
          <a:ext cx="2832120" cy="820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126040"/>
                    <a:ext cx="2832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8"/>
          <p:cNvSpPr/>
          <p:nvPr/>
        </p:nvSpPr>
        <p:spPr>
          <a:xfrm>
            <a:off x="457200" y="244476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i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irc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ctangle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qu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arallelogram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rapezoi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57200" y="12081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ollowing is a list of formulas for basic plane sha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92440" y="3514680"/>
          <a:ext cx="149868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3514680"/>
                    <a:ext cx="1498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59160" y="4505400"/>
          <a:ext cx="1536840" cy="52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9160" y="4505400"/>
                    <a:ext cx="15368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781680" y="3352680"/>
          <a:ext cx="142416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352680"/>
                    <a:ext cx="14241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400800" y="2373480"/>
          <a:ext cx="1760400" cy="67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00800" y="2373480"/>
                    <a:ext cx="17604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176560" y="2230560"/>
          <a:ext cx="1785960" cy="1199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6560" y="2230560"/>
                    <a:ext cx="178596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725560" y="5027760"/>
          <a:ext cx="3446640" cy="130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560" y="5027760"/>
                    <a:ext cx="34466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22:03Z</dcterms:created>
  <dc:creator>Jennifer Dugan</dc:creator>
  <dc:description/>
  <dc:language>en-US</dc:language>
  <cp:lastModifiedBy>Jennifer Dugan</cp:lastModifiedBy>
  <dcterms:modified xsi:type="dcterms:W3CDTF">2010-05-04T16:04:32Z</dcterms:modified>
  <cp:revision>37</cp:revision>
  <dc:subject/>
  <dc:title>Perimeter and Area</dc:title>
</cp:coreProperties>
</file>