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29.pct" ContentType="image/x-pict"/>
  <Override PartName="/ppt/media/image10.pct" ContentType="image/x-pict"/>
  <Override PartName="/ppt/media/image5.pct" ContentType="image/x-pict"/>
  <Override PartName="/ppt/media/image28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2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0CB-A60F-4BAE-BFB1-66D44CC1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5A2-7A72-4089-91FF-43D08D4F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431-669C-4877-BBB0-E0AFB9AE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43C-131A-4C6E-8757-32157BFD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0C4-E34E-460A-A494-B66DF73E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D9F-77A5-4D02-A33E-6711B4E4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8D9-A6E6-42F8-B4C6-D31A692C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CF5-D516-49E0-B8AB-A470F71B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5BD-1699-41AD-8552-1E3FAD29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7D3-69CF-4E1C-96A6-EEAD408F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AE1-794E-4AFA-AD32-5B1B04E4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8FE-E9EA-4410-AAD7-D78DDBD7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66CEA-A529-44A7-8742-6A231873BCC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B2C47-90B7-411E-8E54-D4117F82C7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ct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ct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pct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ct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pct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pct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ct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pct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 and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3048120" y="4114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457200" y="14479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let’s try to find the area of a triang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Isosceles Triangle 5"/>
          <p:cNvSpPr/>
          <p:nvPr/>
        </p:nvSpPr>
        <p:spPr>
          <a:xfrm>
            <a:off x="457200" y="3048120"/>
            <a:ext cx="3429000" cy="2709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Straight Connector 8"/>
          <p:cNvSpPr/>
          <p:nvPr/>
        </p:nvSpPr>
        <p:spPr>
          <a:xfrm>
            <a:off x="2169360" y="3049560"/>
            <a:ext cx="3240" cy="270972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170080" y="5562720"/>
            <a:ext cx="268200" cy="195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828800" y="5791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1828800" y="4419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91320" y="1371600"/>
          <a:ext cx="178596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371600"/>
                    <a:ext cx="17859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Box 13"/>
          <p:cNvSpPr/>
          <p:nvPr/>
        </p:nvSpPr>
        <p:spPr>
          <a:xfrm>
            <a:off x="4572000" y="304956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always tell which values are the base and height because they will always meet at a right ang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048120" y="4114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457200" y="14479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let’s try to find the area of a triang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Isosceles Triangle 5"/>
          <p:cNvSpPr/>
          <p:nvPr/>
        </p:nvSpPr>
        <p:spPr>
          <a:xfrm>
            <a:off x="457200" y="3048120"/>
            <a:ext cx="3429000" cy="2709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Straight Connector 8"/>
          <p:cNvSpPr/>
          <p:nvPr/>
        </p:nvSpPr>
        <p:spPr>
          <a:xfrm>
            <a:off x="2169360" y="3049560"/>
            <a:ext cx="3240" cy="270972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170080" y="5562720"/>
            <a:ext cx="268200" cy="195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1828800" y="5791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1828800" y="4419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791320" y="1371600"/>
          <a:ext cx="178596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371600"/>
                    <a:ext cx="17859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Box 13"/>
          <p:cNvSpPr/>
          <p:nvPr/>
        </p:nvSpPr>
        <p:spPr>
          <a:xfrm>
            <a:off x="4572000" y="27432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is case, 6 ft is the base of the triangle and 4 ft is the h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600880" y="4362480"/>
          <a:ext cx="2473200" cy="12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0880" y="4362480"/>
                    <a:ext cx="24732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586480" y="5638680"/>
          <a:ext cx="195732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6480" y="5638680"/>
                    <a:ext cx="1957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733920" y="4594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8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457200" y="19051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 up…a rectangl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1752480" y="58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0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5029200" y="1447920"/>
            <a:ext cx="373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 is the length and 8 is the width. Plug these values into the formula to find the are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791320" y="5715000"/>
          <a:ext cx="19904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715000"/>
                    <a:ext cx="1990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045120" y="4343400"/>
          <a:ext cx="14986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45120" y="434340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4"/>
          <p:cNvSpPr/>
          <p:nvPr/>
        </p:nvSpPr>
        <p:spPr>
          <a:xfrm>
            <a:off x="685800" y="3743280"/>
            <a:ext cx="304812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603760" y="5078520"/>
          <a:ext cx="24735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03760" y="5078520"/>
                    <a:ext cx="24735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124080" y="4343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457200" y="13716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use the same formula to find the area of a squar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1828800" y="58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808600" y="5715000"/>
          <a:ext cx="195588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08600" y="5715000"/>
                    <a:ext cx="1955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045120" y="4343400"/>
          <a:ext cx="14986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45120" y="434340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14"/>
          <p:cNvSpPr/>
          <p:nvPr/>
        </p:nvSpPr>
        <p:spPr>
          <a:xfrm>
            <a:off x="1143000" y="3743280"/>
            <a:ext cx="198108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678640" y="5078520"/>
          <a:ext cx="232380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78640" y="5078520"/>
                    <a:ext cx="232380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3124080" y="4343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57200" y="12193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 you can use the formula for a squa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1828800" y="58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9160" y="5715000"/>
          <a:ext cx="19555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9160" y="5715000"/>
                    <a:ext cx="1955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6045120" y="4343400"/>
          <a:ext cx="14986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45120" y="434340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14"/>
          <p:cNvSpPr/>
          <p:nvPr/>
        </p:nvSpPr>
        <p:spPr>
          <a:xfrm>
            <a:off x="1143000" y="3743280"/>
            <a:ext cx="198108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981760" y="5078520"/>
          <a:ext cx="23241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1760" y="5078520"/>
                    <a:ext cx="2324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119640" y="1589040"/>
          <a:ext cx="1424160" cy="636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9640" y="1589040"/>
                    <a:ext cx="1424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083280" y="2286000"/>
          <a:ext cx="149868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83280" y="2286000"/>
                    <a:ext cx="14986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045120" y="3048120"/>
          <a:ext cx="1955880" cy="6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45120" y="3048120"/>
                    <a:ext cx="1955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12"/>
          <p:cNvSpPr/>
          <p:nvPr/>
        </p:nvSpPr>
        <p:spPr>
          <a:xfrm>
            <a:off x="457200" y="235116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get the same answer for bot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Oval 13"/>
          <p:cNvSpPr/>
          <p:nvPr/>
        </p:nvSpPr>
        <p:spPr>
          <a:xfrm>
            <a:off x="5867280" y="2971800"/>
            <a:ext cx="2336760" cy="914400"/>
          </a:xfrm>
          <a:prstGeom prst="ellipse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5867280" y="5638680"/>
            <a:ext cx="2336760" cy="914400"/>
          </a:xfrm>
          <a:prstGeom prst="ellipse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160020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1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Box 17"/>
          <p:cNvSpPr/>
          <p:nvPr/>
        </p:nvSpPr>
        <p:spPr>
          <a:xfrm>
            <a:off x="457200" y="137160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llelograms are similar to rectangles, but you have to be careful to choose the correct values from the figure. You’ll need to find a base and h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3581280" y="467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7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arallelogram 11"/>
          <p:cNvSpPr/>
          <p:nvPr/>
        </p:nvSpPr>
        <p:spPr>
          <a:xfrm>
            <a:off x="914400" y="4044960"/>
            <a:ext cx="2895480" cy="1676520"/>
          </a:xfrm>
          <a:prstGeom prst="parallelogram">
            <a:avLst>
              <a:gd name="adj" fmla="val 25011"/>
            </a:avLst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4800600" y="39924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values would you choose for the base and he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TextBox 18"/>
          <p:cNvSpPr/>
          <p:nvPr/>
        </p:nvSpPr>
        <p:spPr>
          <a:xfrm>
            <a:off x="137160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Straight Connector 20"/>
          <p:cNvSpPr/>
          <p:nvPr/>
        </p:nvSpPr>
        <p:spPr>
          <a:xfrm flipH="1">
            <a:off x="1370160" y="4038480"/>
            <a:ext cx="288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1370160" y="5408640"/>
            <a:ext cx="23004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traight Connector 25"/>
          <p:cNvSpPr/>
          <p:nvPr/>
        </p:nvSpPr>
        <p:spPr>
          <a:xfrm flipH="1">
            <a:off x="1598760" y="5408640"/>
            <a:ext cx="2880" cy="314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160020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1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17"/>
          <p:cNvSpPr/>
          <p:nvPr/>
        </p:nvSpPr>
        <p:spPr>
          <a:xfrm>
            <a:off x="457200" y="1371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we know that base and height always meet at a right angle, we should choose 11 for our base and 5 for our h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3581280" y="467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7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arallelogram 11"/>
          <p:cNvSpPr/>
          <p:nvPr/>
        </p:nvSpPr>
        <p:spPr>
          <a:xfrm>
            <a:off x="914400" y="4044960"/>
            <a:ext cx="2895480" cy="1676520"/>
          </a:xfrm>
          <a:prstGeom prst="parallelogram">
            <a:avLst>
              <a:gd name="adj" fmla="val 25011"/>
            </a:avLst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18"/>
          <p:cNvSpPr/>
          <p:nvPr/>
        </p:nvSpPr>
        <p:spPr>
          <a:xfrm>
            <a:off x="137160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Straight Connector 20"/>
          <p:cNvSpPr/>
          <p:nvPr/>
        </p:nvSpPr>
        <p:spPr>
          <a:xfrm flipH="1">
            <a:off x="1370160" y="4038480"/>
            <a:ext cx="288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13"/>
          <p:cNvGrpSpPr/>
          <p:nvPr/>
        </p:nvGrpSpPr>
        <p:grpSpPr>
          <a:xfrm>
            <a:off x="1370160" y="5408640"/>
            <a:ext cx="231480" cy="314280"/>
            <a:chOff x="1370160" y="5408640"/>
            <a:chExt cx="231480" cy="314280"/>
          </a:xfrm>
        </p:grpSpPr>
        <p:sp>
          <p:nvSpPr>
            <p:cNvPr id="224" name="Straight Connector 23"/>
            <p:cNvSpPr/>
            <p:nvPr/>
          </p:nvSpPr>
          <p:spPr>
            <a:xfrm>
              <a:off x="1370160" y="5408640"/>
              <a:ext cx="23076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25"/>
            <p:cNvSpPr/>
            <p:nvPr/>
          </p:nvSpPr>
          <p:spPr>
            <a:xfrm flipH="1">
              <a:off x="16002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6019920" y="3514680"/>
          <a:ext cx="153648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514680"/>
                    <a:ext cx="15364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570640" y="4336920"/>
          <a:ext cx="2435040" cy="63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0640" y="4336920"/>
                    <a:ext cx="243504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719680" y="5059440"/>
          <a:ext cx="21369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9680" y="5059440"/>
                    <a:ext cx="21369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5248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1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457200" y="1371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a trapezoid, you’ll need to find two bases and a height. Look for two sides that are parallel and the length that connects th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1752480" y="3514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4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18"/>
          <p:cNvSpPr/>
          <p:nvPr/>
        </p:nvSpPr>
        <p:spPr>
          <a:xfrm>
            <a:off x="99072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9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0"/>
          <p:cNvSpPr/>
          <p:nvPr/>
        </p:nvSpPr>
        <p:spPr>
          <a:xfrm flipH="1">
            <a:off x="914400" y="4038480"/>
            <a:ext cx="144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8" name="Group 13"/>
          <p:cNvGrpSpPr/>
          <p:nvPr/>
        </p:nvGrpSpPr>
        <p:grpSpPr>
          <a:xfrm>
            <a:off x="914400" y="5408640"/>
            <a:ext cx="230040" cy="314280"/>
            <a:chOff x="914400" y="5408640"/>
            <a:chExt cx="230040" cy="314280"/>
          </a:xfrm>
        </p:grpSpPr>
        <p:sp>
          <p:nvSpPr>
            <p:cNvPr id="239" name="Straight Connector 23"/>
            <p:cNvSpPr/>
            <p:nvPr/>
          </p:nvSpPr>
          <p:spPr>
            <a:xfrm>
              <a:off x="914400" y="5408640"/>
              <a:ext cx="22932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25"/>
            <p:cNvSpPr/>
            <p:nvPr/>
          </p:nvSpPr>
          <p:spPr>
            <a:xfrm flipH="1">
              <a:off x="11430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1" name="Trapezoid 14"/>
          <p:cNvSpPr/>
          <p:nvPr/>
        </p:nvSpPr>
        <p:spPr>
          <a:xfrm>
            <a:off x="457200" y="4038480"/>
            <a:ext cx="3886200" cy="16844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5029200" y="417996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two sides are paralle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175248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1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ides with lengths of 14 in. and 21 in. are parallel. They are connected by a height of 9 i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10"/>
          <p:cNvSpPr/>
          <p:nvPr/>
        </p:nvSpPr>
        <p:spPr>
          <a:xfrm>
            <a:off x="1752480" y="3514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4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99072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9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914400" y="4038480"/>
            <a:ext cx="144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914400" y="5408640"/>
            <a:ext cx="230040" cy="314280"/>
            <a:chOff x="914400" y="5408640"/>
            <a:chExt cx="230040" cy="314280"/>
          </a:xfrm>
        </p:grpSpPr>
        <p:sp>
          <p:nvSpPr>
            <p:cNvPr id="250" name="Straight Connector 23"/>
            <p:cNvSpPr/>
            <p:nvPr/>
          </p:nvSpPr>
          <p:spPr>
            <a:xfrm>
              <a:off x="914400" y="5408640"/>
              <a:ext cx="22932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25"/>
            <p:cNvSpPr/>
            <p:nvPr/>
          </p:nvSpPr>
          <p:spPr>
            <a:xfrm flipH="1">
              <a:off x="11430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2" name="Trapezoid 14"/>
          <p:cNvSpPr/>
          <p:nvPr/>
        </p:nvSpPr>
        <p:spPr>
          <a:xfrm>
            <a:off x="457200" y="4038480"/>
            <a:ext cx="3886200" cy="16844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5029200" y="441468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ug these values into the formula to find the area of this trapezoi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240160" y="2941560"/>
          <a:ext cx="344664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40160" y="2941560"/>
                    <a:ext cx="3446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175248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1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457200" y="1371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ides with lengths of 14 in and 21 in are parallel to each other. They are connected by a height of 9 i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10"/>
          <p:cNvSpPr/>
          <p:nvPr/>
        </p:nvSpPr>
        <p:spPr>
          <a:xfrm>
            <a:off x="1752480" y="3514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4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18"/>
          <p:cNvSpPr/>
          <p:nvPr/>
        </p:nvSpPr>
        <p:spPr>
          <a:xfrm>
            <a:off x="99072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9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Straight Connector 20"/>
          <p:cNvSpPr/>
          <p:nvPr/>
        </p:nvSpPr>
        <p:spPr>
          <a:xfrm flipH="1">
            <a:off x="914400" y="4038480"/>
            <a:ext cx="144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914400" y="5408640"/>
            <a:ext cx="230040" cy="314280"/>
            <a:chOff x="914400" y="5408640"/>
            <a:chExt cx="230040" cy="314280"/>
          </a:xfrm>
        </p:grpSpPr>
        <p:sp>
          <p:nvSpPr>
            <p:cNvPr id="263" name="Straight Connector 23"/>
            <p:cNvSpPr/>
            <p:nvPr/>
          </p:nvSpPr>
          <p:spPr>
            <a:xfrm>
              <a:off x="914400" y="5408640"/>
              <a:ext cx="22932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Straight Connector 25"/>
            <p:cNvSpPr/>
            <p:nvPr/>
          </p:nvSpPr>
          <p:spPr>
            <a:xfrm flipH="1">
              <a:off x="11430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5" name="Trapezoid 14"/>
          <p:cNvSpPr/>
          <p:nvPr/>
        </p:nvSpPr>
        <p:spPr>
          <a:xfrm>
            <a:off x="457200" y="4038480"/>
            <a:ext cx="3886200" cy="16844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240160" y="2941560"/>
          <a:ext cx="344664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40160" y="2941560"/>
                    <a:ext cx="3446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016600" y="4253040"/>
          <a:ext cx="3895560" cy="130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16600" y="4253040"/>
                    <a:ext cx="38955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353200" y="5732640"/>
          <a:ext cx="277164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53200" y="5732640"/>
                    <a:ext cx="27716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imeter: The distance around the outside of a plane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rcumference: The distance around the outside of a cir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: The amount of space taken up by a plane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area of a circle, you’ll need to find the radius of that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1676520" y="4124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c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Oval 15"/>
          <p:cNvSpPr/>
          <p:nvPr/>
        </p:nvSpPr>
        <p:spPr>
          <a:xfrm>
            <a:off x="685800" y="3200400"/>
            <a:ext cx="2854440" cy="285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Straight Connector 19"/>
          <p:cNvSpPr/>
          <p:nvPr/>
        </p:nvSpPr>
        <p:spPr>
          <a:xfrm flipV="1">
            <a:off x="685080" y="4627080"/>
            <a:ext cx="2854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Box 21"/>
          <p:cNvSpPr/>
          <p:nvPr/>
        </p:nvSpPr>
        <p:spPr>
          <a:xfrm>
            <a:off x="4952880" y="27208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value of the radius in this circl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Box 22"/>
          <p:cNvSpPr/>
          <p:nvPr/>
        </p:nvSpPr>
        <p:spPr>
          <a:xfrm>
            <a:off x="4648320" y="462744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6 is the diameter, we need to divide it by 2 to find the radi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area of a circle, you’ll need to find the radius of that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1676520" y="4124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c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685800" y="3200400"/>
            <a:ext cx="2854440" cy="285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Straight Connector 19"/>
          <p:cNvSpPr/>
          <p:nvPr/>
        </p:nvSpPr>
        <p:spPr>
          <a:xfrm flipV="1">
            <a:off x="685080" y="4627080"/>
            <a:ext cx="2854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Box 21"/>
          <p:cNvSpPr/>
          <p:nvPr/>
        </p:nvSpPr>
        <p:spPr>
          <a:xfrm>
            <a:off x="4495680" y="30132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the radius is 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4648320" y="412416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ug this value into the formula to find the area for this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area of a circle, you’ll need to find the radius of that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TextBox 10"/>
          <p:cNvSpPr/>
          <p:nvPr/>
        </p:nvSpPr>
        <p:spPr>
          <a:xfrm>
            <a:off x="1676520" y="4124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c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685800" y="3200400"/>
            <a:ext cx="2854440" cy="285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Straight Connector 19"/>
          <p:cNvSpPr/>
          <p:nvPr/>
        </p:nvSpPr>
        <p:spPr>
          <a:xfrm flipV="1">
            <a:off x="685080" y="4627080"/>
            <a:ext cx="2854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TextBox 21"/>
          <p:cNvSpPr/>
          <p:nvPr/>
        </p:nvSpPr>
        <p:spPr>
          <a:xfrm>
            <a:off x="2438280" y="24494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NT: Use 3.14 for π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943600" y="3449520"/>
          <a:ext cx="1760400" cy="67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3449520"/>
                    <a:ext cx="17604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877000" y="4165560"/>
          <a:ext cx="2809800" cy="74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77000" y="4165560"/>
                    <a:ext cx="28098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880240" y="5122800"/>
          <a:ext cx="30351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80240" y="5122800"/>
                    <a:ext cx="3035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traight Connector 37"/>
          <p:cNvSpPr/>
          <p:nvPr/>
        </p:nvSpPr>
        <p:spPr>
          <a:xfrm>
            <a:off x="2286000" y="5332320"/>
            <a:ext cx="11048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914400" y="2160720"/>
            <a:ext cx="243828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3352680" y="24652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7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1752480" y="33037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23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457200" y="1523880"/>
            <a:ext cx="541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) Find the perimeter of each figur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3808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457200" y="4267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2514600" y="49528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8 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Right Triangle 18"/>
          <p:cNvSpPr/>
          <p:nvPr/>
        </p:nvSpPr>
        <p:spPr>
          <a:xfrm>
            <a:off x="5867280" y="2160720"/>
            <a:ext cx="1905120" cy="1420560"/>
          </a:xfrm>
          <a:prstGeom prst="rtTriangl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extBox 19"/>
          <p:cNvSpPr/>
          <p:nvPr/>
        </p:nvSpPr>
        <p:spPr>
          <a:xfrm>
            <a:off x="51814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Rectangle 20"/>
          <p:cNvSpPr/>
          <p:nvPr/>
        </p:nvSpPr>
        <p:spPr>
          <a:xfrm>
            <a:off x="5867280" y="3303720"/>
            <a:ext cx="228600" cy="277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TextBox 21"/>
          <p:cNvSpPr/>
          <p:nvPr/>
        </p:nvSpPr>
        <p:spPr>
          <a:xfrm>
            <a:off x="5105520" y="26798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5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Box 22"/>
          <p:cNvSpPr/>
          <p:nvPr/>
        </p:nvSpPr>
        <p:spPr>
          <a:xfrm>
            <a:off x="6324480" y="3581280"/>
            <a:ext cx="121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6629400" y="24382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3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Trapezoid 24"/>
          <p:cNvSpPr/>
          <p:nvPr/>
        </p:nvSpPr>
        <p:spPr>
          <a:xfrm>
            <a:off x="5638680" y="4762440"/>
            <a:ext cx="2819520" cy="117000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TextBox 25"/>
          <p:cNvSpPr/>
          <p:nvPr/>
        </p:nvSpPr>
        <p:spPr>
          <a:xfrm>
            <a:off x="5181480" y="4483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TextBox 26"/>
          <p:cNvSpPr/>
          <p:nvPr/>
        </p:nvSpPr>
        <p:spPr>
          <a:xfrm>
            <a:off x="6858000" y="434340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9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6858000" y="593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5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Straight Connector 29"/>
          <p:cNvSpPr/>
          <p:nvPr/>
        </p:nvSpPr>
        <p:spPr>
          <a:xfrm flipH="1">
            <a:off x="5943600" y="4762440"/>
            <a:ext cx="1440" cy="117000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Rectangle 30"/>
          <p:cNvSpPr/>
          <p:nvPr/>
        </p:nvSpPr>
        <p:spPr>
          <a:xfrm>
            <a:off x="5945040" y="5665680"/>
            <a:ext cx="228600" cy="277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31"/>
          <p:cNvSpPr/>
          <p:nvPr/>
        </p:nvSpPr>
        <p:spPr>
          <a:xfrm>
            <a:off x="5945040" y="5078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Oval 35"/>
          <p:cNvSpPr/>
          <p:nvPr/>
        </p:nvSpPr>
        <p:spPr>
          <a:xfrm>
            <a:off x="1371600" y="4267080"/>
            <a:ext cx="2057400" cy="2057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28"/>
          <p:cNvSpPr/>
          <p:nvPr/>
        </p:nvSpPr>
        <p:spPr>
          <a:xfrm>
            <a:off x="518148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32"/>
          <p:cNvSpPr/>
          <p:nvPr/>
        </p:nvSpPr>
        <p:spPr>
          <a:xfrm>
            <a:off x="830592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143000" y="2160720"/>
            <a:ext cx="11430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2209680" y="24652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4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1371600" y="33037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4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457200" y="1523880"/>
            <a:ext cx="541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2) Find the area of each figur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3808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457200" y="4267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Straight Connector 15"/>
          <p:cNvSpPr/>
          <p:nvPr/>
        </p:nvSpPr>
        <p:spPr>
          <a:xfrm flipV="1">
            <a:off x="1066680" y="5067360"/>
            <a:ext cx="182880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1600200" y="46483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1 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51814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Rectangle 20"/>
          <p:cNvSpPr/>
          <p:nvPr/>
        </p:nvSpPr>
        <p:spPr>
          <a:xfrm>
            <a:off x="6859440" y="3505320"/>
            <a:ext cx="228600" cy="277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6400800" y="38368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8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TextBox 22"/>
          <p:cNvSpPr/>
          <p:nvPr/>
        </p:nvSpPr>
        <p:spPr>
          <a:xfrm>
            <a:off x="6400800" y="2693880"/>
            <a:ext cx="121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Box 23"/>
          <p:cNvSpPr/>
          <p:nvPr/>
        </p:nvSpPr>
        <p:spPr>
          <a:xfrm>
            <a:off x="7543800" y="24652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5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rapezoid 24"/>
          <p:cNvSpPr/>
          <p:nvPr/>
        </p:nvSpPr>
        <p:spPr>
          <a:xfrm>
            <a:off x="5638680" y="4762440"/>
            <a:ext cx="2819520" cy="117000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TextBox 25"/>
          <p:cNvSpPr/>
          <p:nvPr/>
        </p:nvSpPr>
        <p:spPr>
          <a:xfrm>
            <a:off x="5181480" y="4483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TextBox 26"/>
          <p:cNvSpPr/>
          <p:nvPr/>
        </p:nvSpPr>
        <p:spPr>
          <a:xfrm>
            <a:off x="6858000" y="434340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9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TextBox 27"/>
          <p:cNvSpPr/>
          <p:nvPr/>
        </p:nvSpPr>
        <p:spPr>
          <a:xfrm>
            <a:off x="6858000" y="593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5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Straight Connector 29"/>
          <p:cNvSpPr/>
          <p:nvPr/>
        </p:nvSpPr>
        <p:spPr>
          <a:xfrm flipH="1">
            <a:off x="5943600" y="4762440"/>
            <a:ext cx="1440" cy="11700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Rectangle 30"/>
          <p:cNvSpPr/>
          <p:nvPr/>
        </p:nvSpPr>
        <p:spPr>
          <a:xfrm>
            <a:off x="5945040" y="5665680"/>
            <a:ext cx="228600" cy="277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Box 31"/>
          <p:cNvSpPr/>
          <p:nvPr/>
        </p:nvSpPr>
        <p:spPr>
          <a:xfrm>
            <a:off x="5945040" y="5078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Isosceles Triangle 32"/>
          <p:cNvSpPr/>
          <p:nvPr/>
        </p:nvSpPr>
        <p:spPr>
          <a:xfrm>
            <a:off x="5181480" y="1957320"/>
            <a:ext cx="3353040" cy="18525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6856560" y="1959120"/>
            <a:ext cx="2880" cy="18525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Oval 36"/>
          <p:cNvSpPr/>
          <p:nvPr/>
        </p:nvSpPr>
        <p:spPr>
          <a:xfrm>
            <a:off x="1066680" y="4164120"/>
            <a:ext cx="1828800" cy="1828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TextBox 28"/>
          <p:cNvSpPr/>
          <p:nvPr/>
        </p:nvSpPr>
        <p:spPr>
          <a:xfrm>
            <a:off x="518148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Box 33"/>
          <p:cNvSpPr/>
          <p:nvPr/>
        </p:nvSpPr>
        <p:spPr>
          <a:xfrm>
            <a:off x="830592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57200" y="1828800"/>
            <a:ext cx="4495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you are finding the perimeter of a plane shape, you must add up the lengths of each side of the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867280" y="2198520"/>
            <a:ext cx="2362320" cy="175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705720" y="1752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8229600" y="280836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705720" y="3957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181480" y="280836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57200" y="49482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ick a starting point and then continue to work your way around the shape until all sides have been accounted f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urved Down Arrow 11"/>
          <p:cNvSpPr/>
          <p:nvPr/>
        </p:nvSpPr>
        <p:spPr>
          <a:xfrm>
            <a:off x="4419720" y="1447920"/>
            <a:ext cx="1676160" cy="685800"/>
          </a:xfrm>
          <a:custGeom>
            <a:avLst/>
            <a:gdLst>
              <a:gd name="textAreaLeft" fmla="*/ 354600 w 1676160"/>
              <a:gd name="textAreaRight" fmla="*/ 1235880 w 167616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43" hR="21600" stAng="10800000" swAng="5400000"/>
                <a:lnTo>
                  <a:pt x="11353" y="0"/>
                </a:lnTo>
                <a:arcTo wR="9143" hR="21600" stAng="-5400000" swAng="3517045"/>
                <a:lnTo>
                  <a:pt x="21310" y="16200"/>
                </a:lnTo>
                <a:lnTo>
                  <a:pt x="19391" y="21600"/>
                </a:lnTo>
                <a:lnTo>
                  <a:pt x="16892" y="16200"/>
                </a:lnTo>
                <a:lnTo>
                  <a:pt x="17996" y="16200"/>
                </a:lnTo>
                <a:arcTo wR="9143" hR="21600" stAng="-1882955" swAng="-3340037"/>
                <a:lnTo>
                  <a:pt x="10248" y="158"/>
                </a:lnTo>
                <a:arcTo wR="9143" hR="21600" stAng="-5577008" swAng="-5222992"/>
                <a:close/>
              </a:path>
              <a:path fill="darkenLess" w="21600" h="21600">
                <a:moveTo>
                  <a:pt x="0" y="21600"/>
                </a:moveTo>
                <a:arcTo wR="9143" hR="21600" stAng="10800000" swAng="5400000"/>
                <a:lnTo>
                  <a:pt x="9143" y="0"/>
                </a:lnTo>
                <a:arcTo wR="9143" hR="21600" stAng="-5400000" swAng="177008"/>
                <a:lnTo>
                  <a:pt x="10248" y="158"/>
                </a:lnTo>
                <a:arcTo wR="9143" hR="21600" stAng="-5577008" swAng="-5222992"/>
                <a:close/>
              </a:path>
            </a:pathLst>
          </a:custGeom>
          <a:solidFill>
            <a:srgbClr val="fac09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80880" y="20113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’ll choose the top left corner as my starting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867280" y="2198520"/>
            <a:ext cx="2362320" cy="175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705720" y="1752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8229600" y="280836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6705720" y="3957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181480" y="280836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5029200"/>
          <a:ext cx="762120" cy="6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5029200"/>
                    <a:ext cx="762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523880" y="5029200"/>
          <a:ext cx="1927440" cy="62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029200"/>
                    <a:ext cx="19274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523880" y="5029200"/>
          <a:ext cx="3137040" cy="62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029200"/>
                    <a:ext cx="3137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23880" y="5029200"/>
          <a:ext cx="4302360" cy="62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3880" y="5029200"/>
                    <a:ext cx="4302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523880" y="5029200"/>
          <a:ext cx="5602320" cy="627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3880" y="5029200"/>
                    <a:ext cx="5602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80880" y="251460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 the perimeter of this rectangle is 56 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867280" y="2198520"/>
            <a:ext cx="2362320" cy="175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6705720" y="1752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8229600" y="280836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6705720" y="3957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181480" y="280836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5334120"/>
          <a:ext cx="762120" cy="6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5334120"/>
                    <a:ext cx="762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523880" y="5334120"/>
          <a:ext cx="1927440" cy="62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334120"/>
                    <a:ext cx="19274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523880" y="5334120"/>
          <a:ext cx="3137040" cy="62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334120"/>
                    <a:ext cx="3137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523880" y="5334120"/>
          <a:ext cx="4302360" cy="62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3880" y="5334120"/>
                    <a:ext cx="4302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523880" y="5334120"/>
          <a:ext cx="5602320" cy="627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3880" y="5334120"/>
                    <a:ext cx="5602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80880" y="1417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erimeter of a circle is called the circumfer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380880" y="280836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circumference of a circle, you can use the following formula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95280" y="4038480"/>
          <a:ext cx="25401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4038480"/>
                    <a:ext cx="2540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562720" y="4038480"/>
          <a:ext cx="2235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4038480"/>
                    <a:ext cx="2235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Box 16"/>
          <p:cNvSpPr/>
          <p:nvPr/>
        </p:nvSpPr>
        <p:spPr>
          <a:xfrm>
            <a:off x="4267080" y="41403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457200" y="5410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an examp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590920" y="3581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1523880"/>
          <a:ext cx="25401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523880"/>
                    <a:ext cx="2540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562720" y="1523880"/>
          <a:ext cx="2235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523880"/>
                    <a:ext cx="2235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16"/>
          <p:cNvSpPr/>
          <p:nvPr/>
        </p:nvSpPr>
        <p:spPr>
          <a:xfrm>
            <a:off x="4267080" y="1625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914400" y="2666880"/>
            <a:ext cx="2743200" cy="2743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traight Connector 11"/>
          <p:cNvSpPr/>
          <p:nvPr/>
        </p:nvSpPr>
        <p:spPr>
          <a:xfrm>
            <a:off x="2286000" y="4038480"/>
            <a:ext cx="137160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4267080" y="433224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 is the radius so we can use the first formul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4419720" y="2874960"/>
            <a:ext cx="46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 we have the radius or the diamet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590920" y="3581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95280" y="1523880"/>
          <a:ext cx="25401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523880"/>
                    <a:ext cx="2540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562720" y="1523880"/>
          <a:ext cx="2235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523880"/>
                    <a:ext cx="2235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16"/>
          <p:cNvSpPr/>
          <p:nvPr/>
        </p:nvSpPr>
        <p:spPr>
          <a:xfrm>
            <a:off x="4267080" y="1625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4724280" y="26668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use 3.14 for pi and 5  for the radi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914400" y="2666880"/>
            <a:ext cx="2743200" cy="2743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Straight Connector 11"/>
          <p:cNvSpPr/>
          <p:nvPr/>
        </p:nvSpPr>
        <p:spPr>
          <a:xfrm>
            <a:off x="2286000" y="4038480"/>
            <a:ext cx="137160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029200" y="4038480"/>
          <a:ext cx="335268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4038480"/>
                    <a:ext cx="33526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234040" y="5126040"/>
          <a:ext cx="2832120" cy="820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4040" y="5126040"/>
                    <a:ext cx="28321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8"/>
          <p:cNvSpPr/>
          <p:nvPr/>
        </p:nvSpPr>
        <p:spPr>
          <a:xfrm>
            <a:off x="457200" y="244476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riangle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irc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Rectangle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qua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arallelogram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rapezoid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457200" y="12081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ollowing is a list of formulas for basic plane shap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92440" y="3514680"/>
          <a:ext cx="149868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92440" y="351468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359160" y="4505400"/>
          <a:ext cx="153684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9160" y="4505400"/>
                    <a:ext cx="15368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781680" y="3352680"/>
          <a:ext cx="1424160" cy="63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81680" y="3352680"/>
                    <a:ext cx="142416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400800" y="2373480"/>
          <a:ext cx="1760400" cy="67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00800" y="2373480"/>
                    <a:ext cx="17604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176560" y="2230560"/>
          <a:ext cx="1785960" cy="119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76560" y="2230560"/>
                    <a:ext cx="178596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725560" y="5027760"/>
          <a:ext cx="3446640" cy="1309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560" y="5027760"/>
                    <a:ext cx="3446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5:22:03Z</dcterms:created>
  <dc:creator>Jennifer Dugan</dc:creator>
  <dc:description/>
  <dc:language>en-US</dc:language>
  <cp:lastModifiedBy>Jennifer Dugan</cp:lastModifiedBy>
  <dcterms:modified xsi:type="dcterms:W3CDTF">2010-05-04T16:04:32Z</dcterms:modified>
  <cp:revision>37</cp:revision>
  <dc:subject/>
  <dc:title>Perimeter and Area</dc:title>
</cp:coreProperties>
</file>