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7F9-11D5-4A4B-B188-872A5449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D49-07C0-46DA-8F5B-C624F58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A7C-EDDB-4F10-A87F-20707095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56F-32D2-4186-9B61-0D2B9EC9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F4D-87E2-4E97-8731-53D9362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DAA-71F8-4665-9736-9FA71E8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C63-156C-463F-9D82-B29B267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F4F-A90A-4566-B75C-E41EB7A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858-6DAA-45FF-B5FB-3AF7516C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FB7-A9A8-471A-BA23-4FBFE36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027-FD1F-457F-987F-AD266A8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2BD-7893-45FB-856C-F623437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35BC5-A22B-4738-A23F-2FCAB920159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B6236-F697-4DC3-8457-7D5184B362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ct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pct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ct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ct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 and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13"/>
          <p:cNvSpPr/>
          <p:nvPr/>
        </p:nvSpPr>
        <p:spPr>
          <a:xfrm>
            <a:off x="4572000" y="304956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always tell which values are the base and height because they will always meet at a right 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3"/>
          <p:cNvSpPr/>
          <p:nvPr/>
        </p:nvSpPr>
        <p:spPr>
          <a:xfrm>
            <a:off x="4572000" y="2743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6 ft is the base of the triangle and 4 ft is the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0880" y="4362480"/>
          <a:ext cx="247320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4362480"/>
                    <a:ext cx="2473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586480" y="5638680"/>
          <a:ext cx="195732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5638680"/>
                    <a:ext cx="1957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733920" y="4594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8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57200" y="1905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up…a rectangl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75248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029200" y="144792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is the length and 8 is the width. Plug these values into the formula to find the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91320" y="5715000"/>
          <a:ext cx="19904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715000"/>
                    <a:ext cx="1990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4"/>
          <p:cNvSpPr/>
          <p:nvPr/>
        </p:nvSpPr>
        <p:spPr>
          <a:xfrm>
            <a:off x="685800" y="3743280"/>
            <a:ext cx="304812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03760" y="5078520"/>
          <a:ext cx="24735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3760" y="5078520"/>
                    <a:ext cx="2473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57200" y="13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ame formula to find the area of a squa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808600" y="5715000"/>
          <a:ext cx="1955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08600" y="571500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678640" y="5078520"/>
          <a:ext cx="232380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8640" y="5078520"/>
                    <a:ext cx="23238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572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 you can use the formula for a squa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9160" y="5715000"/>
          <a:ext cx="1955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9160" y="5715000"/>
                    <a:ext cx="195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81760" y="5078520"/>
          <a:ext cx="2324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1760" y="5078520"/>
                    <a:ext cx="23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19640" y="1589040"/>
          <a:ext cx="1424160" cy="63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9640" y="1589040"/>
                    <a:ext cx="14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83280" y="2286000"/>
          <a:ext cx="149868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3280" y="2286000"/>
                    <a:ext cx="1498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045120" y="3048120"/>
          <a:ext cx="195588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5120" y="304812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12"/>
          <p:cNvSpPr/>
          <p:nvPr/>
        </p:nvSpPr>
        <p:spPr>
          <a:xfrm>
            <a:off x="457200" y="235116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get the same answer for bo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5867280" y="297180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5867280" y="563868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457200" y="1371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llelograms are similar to rectangles, but you have to be careful to choose the correct values from the figure. You’ll need to find a base and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800600" y="3992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values would you choose for the base and he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1370160" y="5408640"/>
            <a:ext cx="2300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25"/>
          <p:cNvSpPr/>
          <p:nvPr/>
        </p:nvSpPr>
        <p:spPr>
          <a:xfrm flipH="1">
            <a:off x="1598760" y="5408640"/>
            <a:ext cx="2880" cy="314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 know that base and height always meet at a right angle, we should choose 11 for our base and 5 for our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370160" y="5408640"/>
            <a:ext cx="231480" cy="314280"/>
            <a:chOff x="1370160" y="5408640"/>
            <a:chExt cx="231480" cy="314280"/>
          </a:xfrm>
        </p:grpSpPr>
        <p:sp>
          <p:nvSpPr>
            <p:cNvPr id="224" name="Straight Connector 23"/>
            <p:cNvSpPr/>
            <p:nvPr/>
          </p:nvSpPr>
          <p:spPr>
            <a:xfrm>
              <a:off x="1370160" y="5408640"/>
              <a:ext cx="23076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25"/>
            <p:cNvSpPr/>
            <p:nvPr/>
          </p:nvSpPr>
          <p:spPr>
            <a:xfrm flipH="1">
              <a:off x="16002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6019920" y="3514680"/>
          <a:ext cx="15364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14680"/>
                    <a:ext cx="1536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570640" y="4336920"/>
          <a:ext cx="2435040" cy="6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0640" y="4336920"/>
                    <a:ext cx="24350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9680" y="5059440"/>
          <a:ext cx="21369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9680" y="5059440"/>
                    <a:ext cx="2136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apezoid, you’ll need to find two bases and a height. Look for two sides that are parallel and the length that connects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39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1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5029200" y="417996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two sides are paralle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. and 21 in. are parallel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50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2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5029200" y="441468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ese values into the formula to find the area of this trapezo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 and 21 in are parallel to each other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63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016600" y="4253040"/>
          <a:ext cx="3895560" cy="13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6600" y="4253040"/>
                    <a:ext cx="3895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353200" y="5732640"/>
          <a:ext cx="277164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3200" y="5732640"/>
                    <a:ext cx="2771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meter: The distance around the outside of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rcumference: The distance around the outside of a cir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: The amount of space taken up by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4952880" y="2720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value of the radius in this circl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22"/>
          <p:cNvSpPr/>
          <p:nvPr/>
        </p:nvSpPr>
        <p:spPr>
          <a:xfrm>
            <a:off x="4648320" y="462744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6 is the diameter, we need to divide it by 2 to find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4495680" y="3013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radius is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648320" y="412416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is value into the formula to find the area for this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2438280" y="24494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NT: Use 3.14 for 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943600" y="3449520"/>
          <a:ext cx="17604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344952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877000" y="4165560"/>
          <a:ext cx="2809800" cy="7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77000" y="4165560"/>
                    <a:ext cx="28098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80240" y="5122800"/>
          <a:ext cx="3035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80240" y="5122800"/>
                    <a:ext cx="3035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traight Connector 37"/>
          <p:cNvSpPr/>
          <p:nvPr/>
        </p:nvSpPr>
        <p:spPr>
          <a:xfrm>
            <a:off x="2286000" y="5332320"/>
            <a:ext cx="11048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14400" y="2160720"/>
            <a:ext cx="243828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352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7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175248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3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) Find the perimeter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2514600" y="49528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8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Right Triangle 18"/>
          <p:cNvSpPr/>
          <p:nvPr/>
        </p:nvSpPr>
        <p:spPr>
          <a:xfrm>
            <a:off x="5867280" y="2160720"/>
            <a:ext cx="1905120" cy="1420560"/>
          </a:xfrm>
          <a:prstGeom prst="rtTriangl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5867280" y="33037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105520" y="26798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6324480" y="35812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6629400" y="2438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3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1371600" y="4267080"/>
            <a:ext cx="2057400" cy="2057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2160720"/>
            <a:ext cx="11430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209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137160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) Find the area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15"/>
          <p:cNvSpPr/>
          <p:nvPr/>
        </p:nvSpPr>
        <p:spPr>
          <a:xfrm flipV="1">
            <a:off x="1066680" y="5067360"/>
            <a:ext cx="1828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600200" y="46483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1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6859440" y="35053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6400800" y="3836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8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6400800" y="26938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23"/>
          <p:cNvSpPr/>
          <p:nvPr/>
        </p:nvSpPr>
        <p:spPr>
          <a:xfrm>
            <a:off x="7543800" y="2465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Isosceles Triangle 32"/>
          <p:cNvSpPr/>
          <p:nvPr/>
        </p:nvSpPr>
        <p:spPr>
          <a:xfrm>
            <a:off x="5181480" y="1957320"/>
            <a:ext cx="3353040" cy="1852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6856560" y="1959120"/>
            <a:ext cx="2880" cy="1852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1066680" y="4164120"/>
            <a:ext cx="1828800" cy="1828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82880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finding the perimeter of a plane shape, you must add up the lengths of each side of th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" y="4948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k a starting point and then continue to work your way around the shape until all sides have been accounted f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rved Down Arrow 11"/>
          <p:cNvSpPr/>
          <p:nvPr/>
        </p:nvSpPr>
        <p:spPr>
          <a:xfrm>
            <a:off x="4419720" y="1447920"/>
            <a:ext cx="1676160" cy="685800"/>
          </a:xfrm>
          <a:custGeom>
            <a:avLst/>
            <a:gdLst>
              <a:gd name="textAreaLeft" fmla="*/ 354600 w 1676160"/>
              <a:gd name="textAreaRight" fmla="*/ 1235880 w 16761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43" hR="21600" stAng="10800000" swAng="5400000"/>
                <a:lnTo>
                  <a:pt x="11353" y="0"/>
                </a:lnTo>
                <a:arcTo wR="9143" hR="21600" stAng="-5400000" swAng="3517045"/>
                <a:lnTo>
                  <a:pt x="21310" y="16200"/>
                </a:lnTo>
                <a:lnTo>
                  <a:pt x="19391" y="21600"/>
                </a:lnTo>
                <a:lnTo>
                  <a:pt x="16892" y="16200"/>
                </a:lnTo>
                <a:lnTo>
                  <a:pt x="17996" y="16200"/>
                </a:lnTo>
                <a:arcTo wR="9143" hR="21600" stAng="-1882955" swAng="-3340037"/>
                <a:lnTo>
                  <a:pt x="10248" y="158"/>
                </a:lnTo>
                <a:arcTo wR="9143" hR="21600" stAng="-5577008" swAng="-5222992"/>
                <a:close/>
              </a:path>
              <a:path fill="darkenLess" w="21600" h="21600">
                <a:moveTo>
                  <a:pt x="0" y="21600"/>
                </a:moveTo>
                <a:arcTo wR="9143" hR="21600" stAng="10800000" swAng="5400000"/>
                <a:lnTo>
                  <a:pt x="9143" y="0"/>
                </a:lnTo>
                <a:arcTo wR="9143" hR="21600" stAng="-5400000" swAng="177008"/>
                <a:lnTo>
                  <a:pt x="10248" y="158"/>
                </a:lnTo>
                <a:arcTo wR="9143" hR="21600" stAng="-5577008" swAng="-5222992"/>
                <a:close/>
              </a:path>
            </a:pathLst>
          </a:cu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0880" y="2011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’ll choose the top left corner as my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502920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02920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02920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02920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02920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02920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502920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02920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502920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02920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80880" y="25146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perimeter of this rectangle is 56 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533412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33412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533412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33412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523880" y="533412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33412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523880" y="533412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33412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533412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33412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417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rimeter of a circle is called the circumfer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80880" y="28083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circumference of a circle, you can use the following formul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40384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0384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62720" y="40384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0384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16"/>
          <p:cNvSpPr/>
          <p:nvPr/>
        </p:nvSpPr>
        <p:spPr>
          <a:xfrm>
            <a:off x="4267080" y="4140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57200" y="541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267080" y="43322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is the radius so we can use the first form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19720" y="28749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 we have the radius or the diamet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4724280" y="26668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3.14 for pi and 5  for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29200" y="4038480"/>
          <a:ext cx="335268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038480"/>
                    <a:ext cx="3352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34040" y="5126040"/>
          <a:ext cx="2832120" cy="820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126040"/>
                    <a:ext cx="2832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8"/>
          <p:cNvSpPr/>
          <p:nvPr/>
        </p:nvSpPr>
        <p:spPr>
          <a:xfrm>
            <a:off x="457200" y="244476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i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irc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ct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qu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arallelogram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apezoi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57200" y="12081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ollowing is a list of formulas for basic plane sha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92440" y="3514680"/>
          <a:ext cx="14986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351468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59160" y="4505400"/>
          <a:ext cx="153684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9160" y="4505400"/>
                    <a:ext cx="15368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781680" y="3352680"/>
          <a:ext cx="142416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352680"/>
                    <a:ext cx="14241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00800" y="2373480"/>
          <a:ext cx="17604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237348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176560" y="2230560"/>
          <a:ext cx="1785960" cy="11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6560" y="2230560"/>
                    <a:ext cx="178596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725560" y="5027760"/>
          <a:ext cx="3446640" cy="130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560" y="50277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22:03Z</dcterms:created>
  <dc:creator>Jennifer Dugan</dc:creator>
  <dc:description/>
  <dc:language>en-US</dc:language>
  <cp:lastModifiedBy>Jennifer Dugan</cp:lastModifiedBy>
  <dcterms:modified xsi:type="dcterms:W3CDTF">2010-05-04T16:04:32Z</dcterms:modified>
  <cp:revision>37</cp:revision>
  <dc:subject/>
  <dc:title>Perimeter and Area</dc:title>
</cp:coreProperties>
</file>