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D25-3F34-4A0E-BA27-42F345B6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7C4-5A89-4683-BD59-95435B56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98C-EF95-4707-891E-020AEA46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0B9-D45F-403A-8431-C1534CE5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4A6-2323-4E5F-9093-744B88D7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61E-FE0A-41FF-8274-63F53096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0F8-F13F-4ED5-997F-64BC42AD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2EF-D1F9-4011-B394-C1B71E76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1C9-56C1-4D5C-93B0-D3DFE2A3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6DD4-B60A-49D4-9D7C-E75D7EE1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E21-8192-4C26-8701-CB746FED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E64-4C22-4163-A259-3F5926B0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8C54A-7F29-4688-AB46-056E007A54FC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83179-F5DD-4784-B7FB-662419ACA0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0" name="TextBox 5"/>
          <p:cNvSpPr/>
          <p:nvPr/>
        </p:nvSpPr>
        <p:spPr>
          <a:xfrm>
            <a:off x="457200" y="343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3" name="TextBox 5"/>
          <p:cNvSpPr/>
          <p:nvPr/>
        </p:nvSpPr>
        <p:spPr>
          <a:xfrm>
            <a:off x="457200" y="343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6" name="TextBox 5"/>
          <p:cNvSpPr/>
          <p:nvPr/>
        </p:nvSpPr>
        <p:spPr>
          <a:xfrm>
            <a:off x="457200" y="161280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that we have the table, we can use it to write our Now-Next equ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57200" y="382284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need to think about how our balance changes for every increase of 1 in the number of week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0" name="TextBox 5"/>
          <p:cNvSpPr/>
          <p:nvPr/>
        </p:nvSpPr>
        <p:spPr>
          <a:xfrm>
            <a:off x="457200" y="161280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can see from the table or from our initial problem that it increases (adds) $20 each week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57200" y="382284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 our equation would b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 = Now + 2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cause we are adding $20 to the current balanc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4" name="TextBox 5"/>
          <p:cNvSpPr/>
          <p:nvPr/>
        </p:nvSpPr>
        <p:spPr>
          <a:xfrm>
            <a:off x="457200" y="1612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you’re not finished yet! What is missing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52280" y="2808360"/>
            <a:ext cx="480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need to have a starting value (or Now-Start) for every Now-Next equation. What would the Now-Start be for this problem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57200" y="525780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Now-Start is 100 because it is the initial balanc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9" name="TextBox 5"/>
          <p:cNvSpPr/>
          <p:nvPr/>
        </p:nvSpPr>
        <p:spPr>
          <a:xfrm>
            <a:off x="0" y="1612800"/>
            <a:ext cx="5257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 the correct Now-Next equation used to model this problem would b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Next = Now + 20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Start = 1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838080" y="1417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let’s try to make our Now-Next equation without using a table. Take a look at this problem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838080" y="303516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each large bag of M&amp;M’s, there are about 150 pieces of candy. Suppose you eat 7 M&amp;M’s every 5 minutes. Write a Now-Next equation to model the number of M&amp;M’s lef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209680" y="5141880"/>
            <a:ext cx="54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pick out the important information firs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838080" y="18381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, let’s find the initial valu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838080" y="303516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each large bag of M&amp;M’s, there are about 150 pieces of candy. Suppose you eat 7 M&amp;M’s every 5 minutes. Write a Now-Next equation to model the number of M&amp;M’s lef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209680" y="514188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re are 150 pieces of candy in each bag so that would be the initial valu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762120" y="30481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50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eces of cand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838080" y="18381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we need to figure out how our values will be changin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838080" y="303516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each large bag of M&amp;M’s, there are about 150 pieces of candy. Suppose you eat 7 M&amp;M’s every 5 minutes. Write a Now-Next equation to model the number of M&amp;M’s lef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209680" y="514188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you are eating the M&amp;M’s there will be a decrease of 7 every 5 minut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838080" y="34653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eat 7 M&amp;M’s every 5 min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295280" y="1511280"/>
            <a:ext cx="678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Important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itial Value - 150 M&amp;M’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nge - Decrease of 7 every 5 min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38080" y="33400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we can make our Now-Next equ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 that your equation will always start out as Next = Now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nd the Now-Next equ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209680" y="5292720"/>
            <a:ext cx="5410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295280" y="1417680"/>
            <a:ext cx="6782040" cy="1617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-Next equations are recursive equations that use a previous value (or answer) to get to the next valu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equations will always start out as Next = Now (and then you include how it change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will NEVER be variables in a Now-Next equ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838080" y="2590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nce we have our Now-Next equation, we can use the calculator to help build a table of valu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209680" y="4987800"/>
            <a:ext cx="5410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143000" y="41148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r first step will always be to enter your initial value then hit EN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8" descr="Picture 1.png"/>
          <p:cNvPicPr/>
          <p:nvPr/>
        </p:nvPicPr>
        <p:blipFill>
          <a:blip r:embed="rId1"/>
          <a:stretch/>
        </p:blipFill>
        <p:spPr>
          <a:xfrm>
            <a:off x="5295960" y="3657600"/>
            <a:ext cx="30099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457200" y="259092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you’ll need to enter your Now-Next equation to get your list of value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905120" y="4508640"/>
            <a:ext cx="396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stead of using the word “Now”, the calculator uses the last answer fun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9" descr="Picture 2.png"/>
          <p:cNvPicPr/>
          <p:nvPr/>
        </p:nvPicPr>
        <p:blipFill>
          <a:blip r:embed="rId1"/>
          <a:stretch/>
        </p:blipFill>
        <p:spPr>
          <a:xfrm>
            <a:off x="6553080" y="1258920"/>
            <a:ext cx="23623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828800" y="36450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do this, you’ll hit the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Key then the Negative Sig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9" descr="Picture 2.png"/>
          <p:cNvPicPr/>
          <p:nvPr/>
        </p:nvPicPr>
        <p:blipFill>
          <a:blip r:embed="rId1"/>
          <a:stretch/>
        </p:blipFill>
        <p:spPr>
          <a:xfrm>
            <a:off x="6553080" y="1258920"/>
            <a:ext cx="2362320" cy="5370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Picture 3.png"/>
          <p:cNvPicPr/>
          <p:nvPr/>
        </p:nvPicPr>
        <p:blipFill>
          <a:blip r:embed="rId2"/>
          <a:stretch/>
        </p:blipFill>
        <p:spPr>
          <a:xfrm>
            <a:off x="6705720" y="3505320"/>
            <a:ext cx="549000" cy="366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Picture 4.png"/>
          <p:cNvPicPr/>
          <p:nvPr/>
        </p:nvPicPr>
        <p:blipFill>
          <a:blip r:embed="rId3"/>
          <a:stretch/>
        </p:blipFill>
        <p:spPr>
          <a:xfrm>
            <a:off x="7924680" y="5943600"/>
            <a:ext cx="3891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609480" y="3365640"/>
            <a:ext cx="351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rite the rest of your equation as you normally would then hit EN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Picture 5.png"/>
          <p:cNvPicPr/>
          <p:nvPr/>
        </p:nvPicPr>
        <p:blipFill>
          <a:blip r:embed="rId1"/>
          <a:stretch/>
        </p:blipFill>
        <p:spPr>
          <a:xfrm>
            <a:off x="4351320" y="2822400"/>
            <a:ext cx="44118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677880" y="2819520"/>
            <a:ext cx="351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can continue to hit ENTER to get the next value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7" descr="Picture 5.png"/>
          <p:cNvPicPr/>
          <p:nvPr/>
        </p:nvPicPr>
        <p:blipFill>
          <a:blip r:embed="rId1"/>
          <a:stretch/>
        </p:blipFill>
        <p:spPr>
          <a:xfrm>
            <a:off x="4351320" y="2822400"/>
            <a:ext cx="4411800" cy="32734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457200" y="4419720"/>
            <a:ext cx="389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, hitting the ENTER button represents a 5 minute interval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6" descr="Picture 6.png"/>
          <p:cNvPicPr/>
          <p:nvPr/>
        </p:nvPicPr>
        <p:blipFill>
          <a:blip r:embed="rId2"/>
          <a:stretch/>
        </p:blipFill>
        <p:spPr>
          <a:xfrm>
            <a:off x="4343400" y="2822400"/>
            <a:ext cx="44197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677880" y="2514600"/>
            <a:ext cx="351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can now use these values to make a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4640400" y="2502000"/>
            <a:ext cx="351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can now use these values to make a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4495680"/>
          <a:ext cx="7478640" cy="1920960"/>
        </p:xfrm>
        <a:graphic>
          <a:graphicData uri="http://schemas.openxmlformats.org/drawingml/2006/table">
            <a:tbl>
              <a:tblPr/>
              <a:tblGrid>
                <a:gridCol w="1981080"/>
                <a:gridCol w="1100160"/>
                <a:gridCol w="1098720"/>
                <a:gridCol w="1100160"/>
                <a:gridCol w="1098360"/>
                <a:gridCol w="11001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Interv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5 Minute Interv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M&amp;M’s Lef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57200" y="141768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a free fall dive, a person will travel 176 feet every second.  A safe jumping height is from a plane that is 11,000 feet above the groun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ite a Now-Next equation that models the distance of the jumper from the groun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ke a table for the first 10 seconds of free fall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skydiver is supposed to pull the cord when they are 4,000 feet from the ground.  To the nearest second, when should a skydiver pull their cord?  (Remember you should pull your cord as close as possible to 4,000 feet, but it would be safer to pull it earlier than later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plain how you used your calculator to get your answers for questions (b) and  (c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order to set up a Now-Next equation you need to know two thing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r starting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your values are chang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9" name="TextBox 5"/>
          <p:cNvSpPr/>
          <p:nvPr/>
        </p:nvSpPr>
        <p:spPr>
          <a:xfrm>
            <a:off x="457200" y="141768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say you are looking for the weekly balance in a savings account if you deposit $20 per week and your initial balance is $100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457200" y="436896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0 weeks, you would have $100 in the account because that is your starting valu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TextBox 5"/>
          <p:cNvSpPr/>
          <p:nvPr/>
        </p:nvSpPr>
        <p:spPr>
          <a:xfrm>
            <a:off x="457200" y="141768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say you are looking for the weekly balance in a savings account if you deposit $20 per week and your initial balance is $100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457200" y="436896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0 weeks, you would have $100 in the account because that is your starting valu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" name="TextBox 5"/>
          <p:cNvSpPr/>
          <p:nvPr/>
        </p:nvSpPr>
        <p:spPr>
          <a:xfrm>
            <a:off x="457200" y="199404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1 week you would have an additional $20 in the account. What would your new balance b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0" name="TextBox 5"/>
          <p:cNvSpPr/>
          <p:nvPr/>
        </p:nvSpPr>
        <p:spPr>
          <a:xfrm>
            <a:off x="457200" y="199404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1 week you would have an additional $20 in the account. What would your new balance b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457200" y="4303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new balance would be $120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4" name="TextBox 5"/>
          <p:cNvSpPr/>
          <p:nvPr/>
        </p:nvSpPr>
        <p:spPr>
          <a:xfrm>
            <a:off x="457200" y="343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7" name="TextBox 5"/>
          <p:cNvSpPr/>
          <p:nvPr/>
        </p:nvSpPr>
        <p:spPr>
          <a:xfrm>
            <a:off x="457200" y="343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7:02:42Z</dcterms:created>
  <dc:creator>Jennifer Dugan</dc:creator>
  <dc:description/>
  <dc:language>en-US</dc:language>
  <cp:lastModifiedBy>Jennifer Dugan</cp:lastModifiedBy>
  <dcterms:modified xsi:type="dcterms:W3CDTF">2009-11-10T15:44:58Z</dcterms:modified>
  <cp:revision>29</cp:revision>
  <dc:subject/>
  <dc:title>Now-Next Equations</dc:title>
</cp:coreProperties>
</file>