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BEA-A3BA-483F-9964-0330FA76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75E-E4E0-4723-AE68-796C78B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164-12BE-442D-853C-7D9AA353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AED-E743-49EF-BD4D-8BFFEBA8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D01-6BC3-4255-9938-E5DB6CD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297-01A6-4BFA-85DA-8B96B23B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0C1-D869-4E6D-BB1B-395F1AE8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6F3-4CE8-453F-B7E7-8D4B076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BDF-64C3-4FD7-BC6B-A5D3E1B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D6F-2F22-4BC2-9526-0B3D00B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E9F-4395-4D39-94E1-110FFE79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1E6-2E83-448F-85A4-9F9F96A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870D0-787F-493D-9408-E2214A11460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5770A-CAE9-46B9-B1C4-0B09B19CB4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457200" y="1612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at we have the table, we can use it to writ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57200" y="38228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need to think about how our balance changes for every increase of 1 in the number of week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0" name="TextBox 5"/>
          <p:cNvSpPr/>
          <p:nvPr/>
        </p:nvSpPr>
        <p:spPr>
          <a:xfrm>
            <a:off x="457200" y="161280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see from the table or from our initial problem that it increases (adds) $20 each wee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57200" y="382284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our equation would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= Now + 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we are adding $20 to the current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457200" y="1612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you’re not finished yet! What is miss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2280" y="280836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need to have a starting value (or Now-Start) for every Now-Next equation. What would the Now-Start be for this probl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57200" y="5257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ow-Start is 100 because it is the initial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0" y="1612800"/>
            <a:ext cx="5257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the correct Now-Next equation used to model this problem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xt = Now + 20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Start = 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417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let’s try to make our Now-Next equation without using a table. Take a look at thi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209680" y="51418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pick out the important information fir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1838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et’s find the initial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150 pieces of candy in each bag so that would be the initial valu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0481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0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eces of can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080" y="18381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need to figure out how our values will be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you are eating the M&amp;M’s there will be a decrease of 7 every 5 minu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38080" y="3465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eat 7 M&amp;M’s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295280" y="15112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mporta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itial Value - 150 M&amp;M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- Decrease of 7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8080" y="3340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can mak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your equation will always start out as Next = Now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d the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209680" y="5292720"/>
            <a:ext cx="5410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417680"/>
            <a:ext cx="6782040" cy="1617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-Next equations are recursive equations that use a previous value (or answer) to get to the nex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equations will always start out as Next = Now (and then you include how it chang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NEVER be variables in a Now-Next eq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2590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ce we have our Now-Next equation, we can use the calculator to help build a table of val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209680" y="4987800"/>
            <a:ext cx="5410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143000" y="4114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first step will always be to enter your initial value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1.png"/>
          <p:cNvPicPr/>
          <p:nvPr/>
        </p:nvPicPr>
        <p:blipFill>
          <a:blip r:embed="rId1"/>
          <a:stretch/>
        </p:blipFill>
        <p:spPr>
          <a:xfrm>
            <a:off x="5295960" y="3657600"/>
            <a:ext cx="30099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57200" y="25909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you’ll need to enter your Now-Next equation to get your list of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905120" y="450864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ead of using the word “Now”, the calculator uses the last answer fun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828800" y="3645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o this, you’ll hit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Key then the Negative Sig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3.png"/>
          <p:cNvPicPr/>
          <p:nvPr/>
        </p:nvPicPr>
        <p:blipFill>
          <a:blip r:embed="rId2"/>
          <a:stretch/>
        </p:blipFill>
        <p:spPr>
          <a:xfrm>
            <a:off x="6705720" y="3505320"/>
            <a:ext cx="5490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icture 4.png"/>
          <p:cNvPicPr/>
          <p:nvPr/>
        </p:nvPicPr>
        <p:blipFill>
          <a:blip r:embed="rId3"/>
          <a:stretch/>
        </p:blipFill>
        <p:spPr>
          <a:xfrm>
            <a:off x="7924680" y="5943600"/>
            <a:ext cx="3891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09480" y="3365640"/>
            <a:ext cx="351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e the rest of your equation as you normally would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77880" y="2819520"/>
            <a:ext cx="35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continue to hit ENTER to get the next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57200" y="44197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, hitting the ENTER button represents a 5 minute interva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Picture 6.png"/>
          <p:cNvPicPr/>
          <p:nvPr/>
        </p:nvPicPr>
        <p:blipFill>
          <a:blip r:embed="rId2"/>
          <a:stretch/>
        </p:blipFill>
        <p:spPr>
          <a:xfrm>
            <a:off x="4343400" y="2822400"/>
            <a:ext cx="4419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77880" y="25146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0400" y="2502000"/>
            <a:ext cx="35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495680"/>
          <a:ext cx="7478640" cy="1920960"/>
        </p:xfrm>
        <a:graphic>
          <a:graphicData uri="http://schemas.openxmlformats.org/drawingml/2006/table">
            <a:tbl>
              <a:tblPr/>
              <a:tblGrid>
                <a:gridCol w="1981080"/>
                <a:gridCol w="1100160"/>
                <a:gridCol w="1098720"/>
                <a:gridCol w="1100160"/>
                <a:gridCol w="1098360"/>
                <a:gridCol w="1100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5 Minute Interv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&amp;M’s Lef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7200" y="14176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 free fall dive, a person will travel 176 feet every second.  A safe jumping height is from a plane that is 11,000 feet above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 a Now-Next equation that models the distance of the jumper from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a table for the first 10 seconds of free fal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kydiver is supposed to pull the cord when they are 4,000 feet from the ground.  To the nearest second, when should a skydiver pull their cord?  (Remember you should pull your cord as close as possible to 4,000 feet, but it would be safer to pull it earlier than la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how you used your calculator to get your answers for questions (b) and  (c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order to set up a Now-Next equation you need to know two thi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starting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your values a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9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57200" y="4303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ew balance would be $120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02:42Z</dcterms:created>
  <dc:creator>Jennifer Dugan</dc:creator>
  <dc:description/>
  <dc:language>en-US</dc:language>
  <cp:lastModifiedBy>Jennifer Dugan</cp:lastModifiedBy>
  <dcterms:modified xsi:type="dcterms:W3CDTF">2009-11-10T15:44:58Z</dcterms:modified>
  <cp:revision>29</cp:revision>
  <dc:subject/>
  <dc:title>Now-Next Equations</dc:title>
</cp:coreProperties>
</file>