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2BD07-A7F6-43B0-A207-347F0B80E1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4B2E5-F403-4CCE-AA70-CC8BF1242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59BB0-5C3C-426A-B664-5D0B732637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2DA-E70E-479F-9818-164F7299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83A-2A63-4193-A683-C3DB651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28E-87E9-4B57-8DB8-63815807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249-21D0-4840-B7E9-F58C55C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7AB-9C6E-41DA-9236-51958D39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377-B5FB-4217-9E12-DE783638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319-34BA-4A3F-B9B3-8516117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72F-8DD1-428C-BA62-7931720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16A-0750-456B-9DEA-CC3F56A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A9A-40ED-4F24-B376-986C46C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E42-F4DC-4FF9-97DC-D197F3F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878-9BFC-47A5-BAB0-6CB0C9A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77B1B-BB1D-4B39-9737-9B0C9455ED4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45EEB-6768-4A88-B5C3-A7B6CC05EE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ts and Space Sha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net will make a cub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also take apart a three-dimensional figure and make it into a net by cutting along the edg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4685760" y="3276360"/>
            <a:ext cx="2019960" cy="2362320"/>
            <a:chOff x="4685760" y="3276360"/>
            <a:chExt cx="2019960" cy="2362320"/>
          </a:xfrm>
        </p:grpSpPr>
        <p:sp>
          <p:nvSpPr>
            <p:cNvPr id="208" name="Straight Connector 23"/>
            <p:cNvSpPr/>
            <p:nvPr/>
          </p:nvSpPr>
          <p:spPr>
            <a:xfrm flipV="1">
              <a:off x="4685760" y="327636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25"/>
            <p:cNvSpPr/>
            <p:nvPr/>
          </p:nvSpPr>
          <p:spPr>
            <a:xfrm flipV="1">
              <a:off x="5562000" y="457164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28"/>
            <p:cNvSpPr/>
            <p:nvPr/>
          </p:nvSpPr>
          <p:spPr>
            <a:xfrm>
              <a:off x="4686480" y="4343400"/>
              <a:ext cx="87624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29"/>
            <p:cNvSpPr/>
            <p:nvPr/>
          </p:nvSpPr>
          <p:spPr>
            <a:xfrm>
              <a:off x="5829480" y="3276720"/>
              <a:ext cx="876240" cy="1295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unfold the flap on the righ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ight Arrow 12"/>
          <p:cNvSpPr/>
          <p:nvPr/>
        </p:nvSpPr>
        <p:spPr>
          <a:xfrm>
            <a:off x="5562720" y="39625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Arrow 12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ight Arrow 13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et is a two-dimensional figure that can be folded to make a closed three-dimensional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no overlapping sides and no gaps in the fig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ight Arrow 16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Isosceles Triangle 19"/>
          <p:cNvSpPr/>
          <p:nvPr/>
        </p:nvSpPr>
        <p:spPr>
          <a:xfrm>
            <a:off x="4952880" y="3571920"/>
            <a:ext cx="1752840" cy="1000080"/>
          </a:xfrm>
          <a:prstGeom prst="triangle">
            <a:avLst>
              <a:gd name="adj" fmla="val 10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ight Arrow 13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N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re a few space shapes that are commonly made into ne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5" descr="icoso.png"/>
          <p:cNvPicPr/>
          <p:nvPr/>
        </p:nvPicPr>
        <p:blipFill>
          <a:blip r:embed="rId2"/>
          <a:stretch/>
        </p:blipFill>
        <p:spPr>
          <a:xfrm>
            <a:off x="6404040" y="2286000"/>
            <a:ext cx="2435040" cy="234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300px-POV-Ray-Dodecahedron.svg.png"/>
          <p:cNvPicPr/>
          <p:nvPr/>
        </p:nvPicPr>
        <p:blipFill>
          <a:blip r:embed="rId3"/>
          <a:stretch/>
        </p:blipFill>
        <p:spPr>
          <a:xfrm>
            <a:off x="3454560" y="4292640"/>
            <a:ext cx="2412720" cy="2413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570px-Tetrahedron.svg.png"/>
          <p:cNvPicPr/>
          <p:nvPr/>
        </p:nvPicPr>
        <p:blipFill>
          <a:blip r:embed="rId4"/>
          <a:stretch/>
        </p:blipFill>
        <p:spPr>
          <a:xfrm>
            <a:off x="731880" y="2362320"/>
            <a:ext cx="2185920" cy="2070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9"/>
          <p:cNvSpPr/>
          <p:nvPr/>
        </p:nvSpPr>
        <p:spPr>
          <a:xfrm>
            <a:off x="0" y="372096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trahedron – has four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3276720" y="29844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decahedron – has twelve pentagonal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6400800" y="41148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cosahedron – has twenty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aw two different versions of the original net (below) that would also form a cube. You can use graph paper to check your wor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4" name="Group 9"/>
          <p:cNvGrpSpPr/>
          <p:nvPr/>
        </p:nvGrpSpPr>
        <p:grpSpPr>
          <a:xfrm>
            <a:off x="3276720" y="3772080"/>
            <a:ext cx="2286000" cy="1714320"/>
            <a:chOff x="3276720" y="3772080"/>
            <a:chExt cx="2286000" cy="1714320"/>
          </a:xfrm>
        </p:grpSpPr>
        <p:sp>
          <p:nvSpPr>
            <p:cNvPr id="315" name="Rectangle 3"/>
            <p:cNvSpPr/>
            <p:nvPr/>
          </p:nvSpPr>
          <p:spPr>
            <a:xfrm>
              <a:off x="3276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Rectangle 4"/>
            <p:cNvSpPr/>
            <p:nvPr/>
          </p:nvSpPr>
          <p:spPr>
            <a:xfrm>
              <a:off x="499140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Rectangle 5"/>
            <p:cNvSpPr/>
            <p:nvPr/>
          </p:nvSpPr>
          <p:spPr>
            <a:xfrm>
              <a:off x="4419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Rectangle 6"/>
            <p:cNvSpPr/>
            <p:nvPr/>
          </p:nvSpPr>
          <p:spPr>
            <a:xfrm>
              <a:off x="3848040" y="4915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Rectangle 7"/>
            <p:cNvSpPr/>
            <p:nvPr/>
          </p:nvSpPr>
          <p:spPr>
            <a:xfrm>
              <a:off x="384804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3848040" y="3772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 at the shapes below. Draw the nets for each spac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1523880" y="3352320"/>
            <a:ext cx="2114640" cy="2286360"/>
            <a:chOff x="1523880" y="3352320"/>
            <a:chExt cx="2114640" cy="2286360"/>
          </a:xfrm>
        </p:grpSpPr>
        <p:sp>
          <p:nvSpPr>
            <p:cNvPr id="324" name="Regular Pentagon 4"/>
            <p:cNvSpPr/>
            <p:nvPr/>
          </p:nvSpPr>
          <p:spPr>
            <a:xfrm>
              <a:off x="1523880" y="4495680"/>
              <a:ext cx="1200240" cy="1143000"/>
            </a:xfrm>
            <a:prstGeom prst="pentagon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Straight Connector 6"/>
            <p:cNvSpPr/>
            <p:nvPr/>
          </p:nvSpPr>
          <p:spPr>
            <a:xfrm flipV="1">
              <a:off x="152388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 flipV="1">
              <a:off x="2133360" y="3352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272412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11"/>
            <p:cNvSpPr/>
            <p:nvPr/>
          </p:nvSpPr>
          <p:spPr>
            <a:xfrm flipV="1">
              <a:off x="2494800" y="4495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3"/>
            <p:cNvSpPr/>
            <p:nvPr/>
          </p:nvSpPr>
          <p:spPr>
            <a:xfrm flipV="1">
              <a:off x="2438280" y="3352680"/>
              <a:ext cx="60948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5"/>
            <p:cNvSpPr/>
            <p:nvPr/>
          </p:nvSpPr>
          <p:spPr>
            <a:xfrm>
              <a:off x="3048120" y="3352680"/>
              <a:ext cx="59040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7"/>
            <p:cNvSpPr/>
            <p:nvPr/>
          </p:nvSpPr>
          <p:spPr>
            <a:xfrm flipH="1">
              <a:off x="3409560" y="3789000"/>
              <a:ext cx="228960" cy="70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332" name="Picture 19" descr="570px-Tetrahedron.svg.png"/>
          <p:cNvPicPr/>
          <p:nvPr/>
        </p:nvPicPr>
        <p:blipFill>
          <a:blip r:embed="rId2"/>
          <a:stretch/>
        </p:blipFill>
        <p:spPr>
          <a:xfrm>
            <a:off x="5159520" y="3592440"/>
            <a:ext cx="207936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space shape would be made from the net below? You may need to go back and review previous slides to help get your answ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4511520" y="1447920"/>
            <a:ext cx="4327560" cy="5014800"/>
            <a:chOff x="4511520" y="1447920"/>
            <a:chExt cx="4327560" cy="5014800"/>
          </a:xfrm>
        </p:grpSpPr>
        <p:pic>
          <p:nvPicPr>
            <p:cNvPr id="336" name="Picture 3" descr="dodecahedron.gif"/>
            <p:cNvPicPr/>
            <p:nvPr/>
          </p:nvPicPr>
          <p:blipFill>
            <a:blip r:embed="rId2"/>
            <a:stretch/>
          </p:blipFill>
          <p:spPr>
            <a:xfrm>
              <a:off x="4511520" y="1447920"/>
              <a:ext cx="4327560" cy="50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4"/>
            <p:cNvSpPr/>
            <p:nvPr/>
          </p:nvSpPr>
          <p:spPr>
            <a:xfrm>
              <a:off x="6705360" y="1676520"/>
              <a:ext cx="10666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the net below. What shape do you think will be made once this net is folded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57200" y="14079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helps to make this net using graph paper and follow along. Use graph paper to construct the net below. Make each block 4 squares by 4 squares on the graph p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2:09:16Z</dcterms:created>
  <dc:creator>Jennifer Dugan</dc:creator>
  <dc:description/>
  <dc:language>en-US</dc:language>
  <cp:lastModifiedBy>Jennifer Dugan</cp:lastModifiedBy>
  <dcterms:modified xsi:type="dcterms:W3CDTF">2010-05-13T12:50:44Z</dcterms:modified>
  <cp:revision>29</cp:revision>
  <dc:subject/>
  <dc:title>Nets and Space Shapes</dc:title>
</cp:coreProperties>
</file>