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007A-F3B4-4E8D-88A2-1275B84B4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70BD-5AA4-4DC8-A77A-17AA3017F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FC94-4420-44CD-A40C-296637913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8E2C-1783-44C6-89E7-3C83E1BB9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9D9E-1B9E-4A19-9C0C-8836EF8CC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EF70-1B4F-4CA0-9504-9C3703830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2D4D-E6B6-4512-A10B-F4F4DC274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4087-32BC-47BF-8BFB-4D63CFAD0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3DBE-5566-4249-AA84-064FB9771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BE75-7BEB-4556-9F81-B168C3D56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527D-FE4C-4E0C-9F2A-183E98315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1E95-E570-429B-94BE-A59FAA79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5D4AF2-08EB-47D9-917E-8DB526CDD726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1F4F4B-2968-4703-B801-328BE352568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easures of Center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ean, Median, Mo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Please view this tutorial and answer the follow-up questions on loose leaf to turn in to your teacher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Outliers and Measures of Center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685800" y="1427040"/>
            <a:ext cx="8001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liers affect one of the three measures of center. Let’s see which one…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r our data set, we got a mean of 80.6, a median of 84, and a mode of 72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et’s say Greg completed an extra credit assignment worth 50 points. This was added onto one of the tests that Greg scored a 100 on. So there is a new test with a score of 150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47, 55, 68, 72, 72, 72, 72, 78, 84, 84, 88, 90, 95, 96, 98, 100, 100, 15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mpute the mean, median and mode of this new data set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Outliers and Measures of Center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4317480"/>
            <a:ext cx="8229600" cy="18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s you can see the </a:t>
            </a:r>
            <a:r>
              <a:rPr b="0" lang="en-US" sz="3000" spc="-1" strike="noStrike" u="sng">
                <a:solidFill>
                  <a:srgbClr val="ffff00"/>
                </a:solidFill>
                <a:uFillTx/>
                <a:latin typeface="Calibri"/>
              </a:rPr>
              <a:t>mean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is the measure of center that is most affected by outlier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895480" y="1417680"/>
          <a:ext cx="3353040" cy="340344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800"/>
              </a:tblGrid>
              <a:tr h="85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ld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ew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5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an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.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.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5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an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5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Outliers and Measures of Center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In conclusion,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The mean is the measure of center that is most affected by outliers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If a data set has a small outlier, the mean becomes significantly lower, but the median stays around the same number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If a data set has a large outlier, the mean becomes significantly higher, but the median stays around the same number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-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onsider the following list of high temperatures (</a:t>
            </a:r>
            <a:r>
              <a:rPr b="0" lang="en-US" sz="2200" spc="-1" strike="noStrike" baseline="30000">
                <a:solidFill>
                  <a:srgbClr val="ffffff"/>
                </a:solidFill>
                <a:latin typeface="Calibri"/>
              </a:rPr>
              <a:t>o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F) for the first two weeks of October in a city in Maryland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65, 72, 60, 64, 75, 59, 71, 63, 60, 67, 72, 85, 86, 60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Calibri"/>
              <a:buAutoNum type="alphaL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ake a stem and leaf plot of the data (submit a hard copy to your teacher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Calibri"/>
              <a:buAutoNum type="alphaL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Find the mean high temperature for this time period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Calibri"/>
              <a:buAutoNum type="alphaL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Find the median high temperature for this time period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Calibri"/>
              <a:buAutoNum type="alphaL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Find the mode high temperature for this time period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Calibri"/>
              <a:buAutoNum type="alphaL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f a 10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Calibri"/>
              </a:rPr>
              <a:t>o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day was added to this data sheet, what would happen to the mean, median, and mode without computing the actual values?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-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 the following shapes for histograms,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etermine the median would be great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an, less than, or equal to the mea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)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)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Freeform 3"/>
          <p:cNvSpPr/>
          <p:nvPr/>
        </p:nvSpPr>
        <p:spPr>
          <a:xfrm rot="18576600">
            <a:off x="1419120" y="3250800"/>
            <a:ext cx="1960560" cy="2627280"/>
          </a:xfrm>
          <a:prstGeom prst="pie">
            <a:avLst/>
          </a:prstGeom>
          <a:noFill/>
          <a:ln w="57240">
            <a:solidFill>
              <a:srgbClr val="ffffff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Freeform 4"/>
          <p:cNvSpPr/>
          <p:nvPr/>
        </p:nvSpPr>
        <p:spPr>
          <a:xfrm>
            <a:off x="5079960" y="3505320"/>
            <a:ext cx="3792600" cy="1258920"/>
          </a:xfrm>
          <a:prstGeom prst="pie">
            <a:avLst/>
          </a:prstGeom>
          <a:noFill/>
          <a:ln w="57240">
            <a:solidFill>
              <a:srgbClr val="ffffff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Freeform 5"/>
          <p:cNvSpPr/>
          <p:nvPr/>
        </p:nvSpPr>
        <p:spPr>
          <a:xfrm flipH="1" rot="3023400">
            <a:off x="3475800" y="5043240"/>
            <a:ext cx="1960560" cy="2627640"/>
          </a:xfrm>
          <a:prstGeom prst="pie">
            <a:avLst/>
          </a:prstGeom>
          <a:noFill/>
          <a:ln w="57240">
            <a:solidFill>
              <a:srgbClr val="ffffff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-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alibri"/>
              <a:buAutoNum type="arabicParenR" startAt="3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median of the test scores displayed in the stem and leaf plot below is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alibri"/>
              <a:buAutoNum type="alphaL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68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alibri"/>
              <a:buAutoNum type="alphaL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72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alibri"/>
              <a:buAutoNum type="alphaL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75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alibri"/>
              <a:buAutoNum type="alphaL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76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alibri"/>
              <a:buAutoNum type="alphaL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78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3124080" y="2819520"/>
            <a:ext cx="5257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4  7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5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2  2  3  6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1  4  5  5  8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7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2  5  6  6  6  8  8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8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1  3  4  4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9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2  6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Straight Connector 5"/>
          <p:cNvSpPr/>
          <p:nvPr/>
        </p:nvSpPr>
        <p:spPr>
          <a:xfrm flipH="1">
            <a:off x="3505320" y="2819520"/>
            <a:ext cx="1440" cy="35398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easures of Center Basic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ean:  the average, add up all the values and divide by the number of valu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edian:  the middle number in an ordered set of dat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de:  the most frequent number in a set of data; the number that occurs the mos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ea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457200" y="141768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e following set of data is Greg’s Test scores from his Math Class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5, 88, 84, 47, 72, 68, 98, 100, 78, 72, 96, 84, 55, 72, 90, 72, 10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457200" y="255888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)  First you should add up all the test scores together. What do you get?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TextBox 5"/>
          <p:cNvSpPr/>
          <p:nvPr/>
        </p:nvSpPr>
        <p:spPr>
          <a:xfrm>
            <a:off x="457200" y="296712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You should have gotten 1,371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)  Next, figure out how many tests Greg took altogether?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457200" y="389088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 test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TextBox 8"/>
          <p:cNvSpPr/>
          <p:nvPr/>
        </p:nvSpPr>
        <p:spPr>
          <a:xfrm>
            <a:off x="457200" y="425916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o compute the mean, take the sum of all the test scores (1,371) and divide by the total number of tests he took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TextBox 9"/>
          <p:cNvSpPr/>
          <p:nvPr/>
        </p:nvSpPr>
        <p:spPr>
          <a:xfrm>
            <a:off x="457200" y="518148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You should have gotten 80.6.  This means that Greg’s average test score was an 80.6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Finding the mean on the TI-83 Plu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457200" y="1417680"/>
            <a:ext cx="8077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rst enter all the data into a list by hitting the STAT button and then 1:  Edit…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5, 88, 84, 47, 72, 68, 98, 100, 78, 72, 96, 84, 55, 72, 90, 72, 10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304920" y="48769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**Be sure to take your time when typing in the numbers, one small mistake can make a big difference.  It might be a good idea to double check that you entered everything correctly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1143000" y="2514600"/>
            <a:ext cx="2806560" cy="1828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"/>
          <p:cNvPicPr/>
          <p:nvPr/>
        </p:nvPicPr>
        <p:blipFill>
          <a:blip r:embed="rId2"/>
          <a:stretch/>
        </p:blipFill>
        <p:spPr>
          <a:xfrm>
            <a:off x="4495680" y="2514600"/>
            <a:ext cx="3149640" cy="2050920"/>
          </a:xfrm>
          <a:prstGeom prst="rect">
            <a:avLst/>
          </a:prstGeom>
          <a:ln w="0">
            <a:noFill/>
          </a:ln>
        </p:spPr>
      </p:pic>
      <p:sp>
        <p:nvSpPr>
          <p:cNvPr id="57" name="Right Arrow 8"/>
          <p:cNvSpPr/>
          <p:nvPr/>
        </p:nvSpPr>
        <p:spPr>
          <a:xfrm rot="1202400">
            <a:off x="1177560" y="3368160"/>
            <a:ext cx="1220760" cy="419400"/>
          </a:xfrm>
          <a:prstGeom prst="rightArrow">
            <a:avLst>
              <a:gd name="adj1" fmla="val 50000"/>
              <a:gd name="adj2" fmla="val 50089"/>
            </a:avLst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Right Arrow 9"/>
          <p:cNvSpPr/>
          <p:nvPr/>
        </p:nvSpPr>
        <p:spPr>
          <a:xfrm rot="10531800">
            <a:off x="5802120" y="2555640"/>
            <a:ext cx="1066680" cy="33480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Finding the mean on the TI-83 Plu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TextBox 3"/>
          <p:cNvSpPr/>
          <p:nvPr/>
        </p:nvSpPr>
        <p:spPr>
          <a:xfrm>
            <a:off x="457200" y="1417680"/>
            <a:ext cx="8229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nce everything is typed into a list, hit the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alibri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button and then the STAT butto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ress right until you get to the MATH screen and then choose 3:  mean(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2927520" cy="1962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"/>
          <p:cNvPicPr/>
          <p:nvPr/>
        </p:nvPicPr>
        <p:blipFill>
          <a:blip r:embed="rId2"/>
          <a:stretch/>
        </p:blipFill>
        <p:spPr>
          <a:xfrm>
            <a:off x="4952880" y="2432160"/>
            <a:ext cx="2863800" cy="1968480"/>
          </a:xfrm>
          <a:prstGeom prst="rect">
            <a:avLst/>
          </a:prstGeom>
          <a:ln w="0">
            <a:noFill/>
          </a:ln>
        </p:spPr>
      </p:pic>
      <p:sp>
        <p:nvSpPr>
          <p:cNvPr id="63" name="TextBox 7"/>
          <p:cNvSpPr/>
          <p:nvPr/>
        </p:nvSpPr>
        <p:spPr>
          <a:xfrm>
            <a:off x="457200" y="59436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You should still get the same mean of 80.6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TextBox 8"/>
          <p:cNvSpPr/>
          <p:nvPr/>
        </p:nvSpPr>
        <p:spPr>
          <a:xfrm>
            <a:off x="457200" y="474336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nce that is up on your home screen, hit the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alibri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button and then whatever number list you put your data into and hit enter.  For example,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alibri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….1,  will give you L1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edia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TextBox 3"/>
          <p:cNvSpPr/>
          <p:nvPr/>
        </p:nvSpPr>
        <p:spPr>
          <a:xfrm>
            <a:off x="685800" y="1417680"/>
            <a:ext cx="7772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o find the median, the first step we must do is to get all the data in ascending order (from least to greatest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685800" y="236232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5, 88, 84, 47, 72, 68, 98, 100, 78, 72, 96, 84, 55, 72, 90, 72, 10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TextBox 8"/>
          <p:cNvSpPr/>
          <p:nvPr/>
        </p:nvSpPr>
        <p:spPr>
          <a:xfrm>
            <a:off x="685800" y="3809880"/>
            <a:ext cx="701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You should get…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47, 55, 68, 72, 72, 72, 72, 78, 84, 84, 88, 90, 95, 96, 98, 100, 100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edian (odd amount of data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685800" y="1417680"/>
            <a:ext cx="7010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 data sets that have an odd amount of data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o find the median (or middle number)  cross out the lowest number and the largest numbe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47, 55, 68, 72, 72, 72, 72, 78, 84, 84, 88, 90, 95, 96, 98, 100, 100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Straight Connector 5"/>
          <p:cNvSpPr/>
          <p:nvPr/>
        </p:nvSpPr>
        <p:spPr>
          <a:xfrm flipH="1">
            <a:off x="837720" y="2819520"/>
            <a:ext cx="228600" cy="30456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Straight Connector 6"/>
          <p:cNvSpPr/>
          <p:nvPr/>
        </p:nvSpPr>
        <p:spPr>
          <a:xfrm flipH="1">
            <a:off x="7162560" y="2819520"/>
            <a:ext cx="228600" cy="30456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Straight Connector 7"/>
          <p:cNvSpPr/>
          <p:nvPr/>
        </p:nvSpPr>
        <p:spPr>
          <a:xfrm flipH="1">
            <a:off x="1218960" y="2819520"/>
            <a:ext cx="228600" cy="30456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Straight Connector 8"/>
          <p:cNvSpPr/>
          <p:nvPr/>
        </p:nvSpPr>
        <p:spPr>
          <a:xfrm flipH="1">
            <a:off x="3504960" y="2819520"/>
            <a:ext cx="228600" cy="30456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Straight Connector 9"/>
          <p:cNvSpPr/>
          <p:nvPr/>
        </p:nvSpPr>
        <p:spPr>
          <a:xfrm flipH="1">
            <a:off x="6629040" y="2819520"/>
            <a:ext cx="228600" cy="30456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Straight Connector 10"/>
          <p:cNvSpPr/>
          <p:nvPr/>
        </p:nvSpPr>
        <p:spPr>
          <a:xfrm flipH="1">
            <a:off x="1523520" y="2819520"/>
            <a:ext cx="228600" cy="30456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Straight Connector 11"/>
          <p:cNvSpPr/>
          <p:nvPr/>
        </p:nvSpPr>
        <p:spPr>
          <a:xfrm flipH="1">
            <a:off x="6171840" y="2819520"/>
            <a:ext cx="228600" cy="30456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Straight Connector 12"/>
          <p:cNvSpPr/>
          <p:nvPr/>
        </p:nvSpPr>
        <p:spPr>
          <a:xfrm flipH="1">
            <a:off x="1980720" y="2819520"/>
            <a:ext cx="228600" cy="30456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Straight Connector 13"/>
          <p:cNvSpPr/>
          <p:nvPr/>
        </p:nvSpPr>
        <p:spPr>
          <a:xfrm flipH="1">
            <a:off x="5790960" y="2819520"/>
            <a:ext cx="228600" cy="30456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Straight Connector 14"/>
          <p:cNvSpPr/>
          <p:nvPr/>
        </p:nvSpPr>
        <p:spPr>
          <a:xfrm flipH="1">
            <a:off x="2361960" y="2819520"/>
            <a:ext cx="228600" cy="30456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Straight Connector 15"/>
          <p:cNvSpPr/>
          <p:nvPr/>
        </p:nvSpPr>
        <p:spPr>
          <a:xfrm flipH="1">
            <a:off x="5409720" y="2819520"/>
            <a:ext cx="228600" cy="30456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Straight Connector 16"/>
          <p:cNvSpPr/>
          <p:nvPr/>
        </p:nvSpPr>
        <p:spPr>
          <a:xfrm flipH="1">
            <a:off x="2742840" y="2819520"/>
            <a:ext cx="228600" cy="30456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Straight Connector 17"/>
          <p:cNvSpPr/>
          <p:nvPr/>
        </p:nvSpPr>
        <p:spPr>
          <a:xfrm flipH="1">
            <a:off x="5028840" y="2819520"/>
            <a:ext cx="228600" cy="30456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Straight Connector 18"/>
          <p:cNvSpPr/>
          <p:nvPr/>
        </p:nvSpPr>
        <p:spPr>
          <a:xfrm flipH="1">
            <a:off x="3123720" y="2819520"/>
            <a:ext cx="228600" cy="30456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Straight Connector 19"/>
          <p:cNvSpPr/>
          <p:nvPr/>
        </p:nvSpPr>
        <p:spPr>
          <a:xfrm flipH="1">
            <a:off x="4647960" y="2819520"/>
            <a:ext cx="228600" cy="30456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Straight Connector 20"/>
          <p:cNvSpPr/>
          <p:nvPr/>
        </p:nvSpPr>
        <p:spPr>
          <a:xfrm flipH="1">
            <a:off x="4266720" y="2819520"/>
            <a:ext cx="228600" cy="30456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TextBox 21"/>
          <p:cNvSpPr/>
          <p:nvPr/>
        </p:nvSpPr>
        <p:spPr>
          <a:xfrm>
            <a:off x="838080" y="3581280"/>
            <a:ext cx="754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84 is the median since there are exactly the same amount of numbers above it and below it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otice that there are eight numbers smaller than 84 and eight numbers larger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Donut 22"/>
          <p:cNvSpPr/>
          <p:nvPr/>
        </p:nvSpPr>
        <p:spPr>
          <a:xfrm>
            <a:off x="3733920" y="2743200"/>
            <a:ext cx="457200" cy="533520"/>
          </a:xfrm>
          <a:prstGeom prst="pi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edian (even amount of data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457200" y="1417680"/>
            <a:ext cx="82296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f there is an even amount of data the process is similar, but you will have no exact middle number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et’s say we use the same data except that we get rid of one of the 100’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47, 55, 68, 72, 72, 72, 72, 78, 84, 84, 88, 90, 95, 96, 98, 100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Straight Connector 4"/>
          <p:cNvSpPr/>
          <p:nvPr/>
        </p:nvSpPr>
        <p:spPr>
          <a:xfrm flipH="1">
            <a:off x="1523520" y="3124080"/>
            <a:ext cx="228600" cy="30492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Straight Connector 5"/>
          <p:cNvSpPr/>
          <p:nvPr/>
        </p:nvSpPr>
        <p:spPr>
          <a:xfrm flipH="1">
            <a:off x="1980720" y="3124080"/>
            <a:ext cx="228600" cy="30492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Straight Connector 6"/>
          <p:cNvSpPr/>
          <p:nvPr/>
        </p:nvSpPr>
        <p:spPr>
          <a:xfrm flipH="1">
            <a:off x="2361960" y="3124080"/>
            <a:ext cx="228600" cy="30492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Straight Connector 7"/>
          <p:cNvSpPr/>
          <p:nvPr/>
        </p:nvSpPr>
        <p:spPr>
          <a:xfrm flipH="1">
            <a:off x="7314840" y="3124080"/>
            <a:ext cx="228600" cy="30492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Straight Connector 8"/>
          <p:cNvSpPr/>
          <p:nvPr/>
        </p:nvSpPr>
        <p:spPr>
          <a:xfrm flipH="1">
            <a:off x="6933960" y="3124080"/>
            <a:ext cx="228600" cy="30492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Straight Connector 9"/>
          <p:cNvSpPr/>
          <p:nvPr/>
        </p:nvSpPr>
        <p:spPr>
          <a:xfrm flipH="1">
            <a:off x="6514920" y="3124080"/>
            <a:ext cx="228600" cy="30492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Straight Connector 10"/>
          <p:cNvSpPr/>
          <p:nvPr/>
        </p:nvSpPr>
        <p:spPr>
          <a:xfrm flipH="1">
            <a:off x="2742840" y="3124080"/>
            <a:ext cx="228600" cy="30492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Straight Connector 11"/>
          <p:cNvSpPr/>
          <p:nvPr/>
        </p:nvSpPr>
        <p:spPr>
          <a:xfrm flipH="1">
            <a:off x="6095520" y="3124080"/>
            <a:ext cx="228600" cy="30492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Straight Connector 12"/>
          <p:cNvSpPr/>
          <p:nvPr/>
        </p:nvSpPr>
        <p:spPr>
          <a:xfrm flipH="1">
            <a:off x="3123720" y="3124080"/>
            <a:ext cx="228600" cy="30492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Straight Connector 13"/>
          <p:cNvSpPr/>
          <p:nvPr/>
        </p:nvSpPr>
        <p:spPr>
          <a:xfrm flipH="1">
            <a:off x="5714640" y="3124080"/>
            <a:ext cx="228600" cy="30492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Straight Connector 14"/>
          <p:cNvSpPr/>
          <p:nvPr/>
        </p:nvSpPr>
        <p:spPr>
          <a:xfrm flipH="1">
            <a:off x="3428640" y="3124080"/>
            <a:ext cx="228600" cy="30492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Straight Connector 15"/>
          <p:cNvSpPr/>
          <p:nvPr/>
        </p:nvSpPr>
        <p:spPr>
          <a:xfrm flipH="1">
            <a:off x="5333760" y="3124080"/>
            <a:ext cx="228600" cy="30492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Straight Connector 16"/>
          <p:cNvSpPr/>
          <p:nvPr/>
        </p:nvSpPr>
        <p:spPr>
          <a:xfrm flipH="1">
            <a:off x="3809520" y="3124080"/>
            <a:ext cx="228600" cy="30492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Straight Connector 17"/>
          <p:cNvSpPr/>
          <p:nvPr/>
        </p:nvSpPr>
        <p:spPr>
          <a:xfrm flipH="1">
            <a:off x="5028840" y="3124080"/>
            <a:ext cx="228600" cy="30492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Straight Connector 18"/>
          <p:cNvSpPr/>
          <p:nvPr/>
        </p:nvSpPr>
        <p:spPr>
          <a:xfrm flipH="1">
            <a:off x="4266720" y="3124080"/>
            <a:ext cx="228600" cy="30492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Straight Connector 19"/>
          <p:cNvSpPr/>
          <p:nvPr/>
        </p:nvSpPr>
        <p:spPr>
          <a:xfrm flipH="1">
            <a:off x="4647960" y="3124080"/>
            <a:ext cx="228600" cy="30492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Straight Connector 25"/>
          <p:cNvSpPr/>
          <p:nvPr/>
        </p:nvSpPr>
        <p:spPr>
          <a:xfrm flipH="1">
            <a:off x="4497480" y="2971800"/>
            <a:ext cx="1440" cy="53352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TextBox 20"/>
          <p:cNvSpPr/>
          <p:nvPr/>
        </p:nvSpPr>
        <p:spPr>
          <a:xfrm>
            <a:off x="457200" y="3886200"/>
            <a:ext cx="8229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s you can see the median falls between two values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hen this happens take the </a:t>
            </a: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average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f those two numbers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r this problem the average of 78 and 84 is  81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TextBox 21"/>
          <p:cNvSpPr/>
          <p:nvPr/>
        </p:nvSpPr>
        <p:spPr>
          <a:xfrm>
            <a:off x="457200" y="5943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o the median of this data set is 81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o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599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mode is the number that happens the most (the most frequent value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85800" y="2819520"/>
            <a:ext cx="701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hat is the mode of the following set of data?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47, 55, 68, 72, 72, 72, 72, 78, 84, 84, 88, 90, 95, 96, 98, 100, 100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TextBox 4"/>
          <p:cNvSpPr/>
          <p:nvPr/>
        </p:nvSpPr>
        <p:spPr>
          <a:xfrm>
            <a:off x="685800" y="4267080"/>
            <a:ext cx="8001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f you said 72, then you were correct!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72 occurs four times. The next most frequent values would be 84 and 100 which both occur twice.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** It is possible to have two modes, this happens when two numbers both occur the most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7T15:00:16Z</dcterms:created>
  <dc:creator>Jennifer Dugan</dc:creator>
  <dc:description/>
  <dc:language>en-US</dc:language>
  <cp:lastModifiedBy>Jennifer Dugan</cp:lastModifiedBy>
  <dcterms:modified xsi:type="dcterms:W3CDTF">2010-09-27T15:01:24Z</dcterms:modified>
  <cp:revision>46</cp:revision>
  <dc:subject/>
  <dc:title>Stem and Leaf Plots</dc:title>
</cp:coreProperties>
</file>