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A06-5324-43DA-8338-16102646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1E8-15A1-473B-99E7-E01BFA2D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D19-01D5-4700-A1D9-C8E13E7D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7CC-2257-4253-BD3E-74F9E2AC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264-C101-44E4-AC00-ECF7853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D27-F8BC-4FF1-85DD-BE56C6A2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5E8-2316-49CC-81E7-AB48575C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BD4-CA28-4728-9455-58B2A8EB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E7F-9950-4400-9B44-31C9318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B2E-CE44-4AD8-8728-3224B52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169-AC55-4FB7-A127-82E395B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D31-940C-434E-AFDF-1E5F8A37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E410F-EA0D-4B21-BE5F-82A9FA22923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75BEB-E529-4420-91B2-6E2895741D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sures of Center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, Median,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685800" y="14270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liers affect one of the three measures of center. Let’s see which one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our data set, we got a mean of 80.6, a median of 84, and a mode of 72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’s say Greg completed an extra credit assignment worth 50 points. This was added onto one of the tests that Greg scored a 100 on. So there is a new test with a score of 150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, 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pute the mean, median and mode of this new data se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4317480"/>
            <a:ext cx="82296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s you can see th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Calibri"/>
              </a:rPr>
              <a:t>mea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measure of center that is most affected by outli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95480" y="1417680"/>
          <a:ext cx="3353040" cy="340344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l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n conclusion,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mean is the measure of center that is most affected by outlier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f a data set has a small outlier, the mean becomes significantly lower, but the median stays around the same numb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f a data set has a large outlier, the mean becomes significantly higher, but the median stays around the same numb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nsider the following list of high temperatures (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) for the first two weeks of October in a city in Marylan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5, 72, 60, 64, 75, 59, 71, 63, 60, 67, 72, 85, 86, 6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ke a stem and leaf plot of the data (submit a hard copy to your teacher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ean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edian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ode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f a 10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day was added to this data sheet, what would happen to the mean, median, and mode without computing the actual values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following shapes for histograms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e the median would be grea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, less than, or equal to the me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)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 rot="18576600">
            <a:off x="1419120" y="3250800"/>
            <a:ext cx="1960560" cy="262728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5079960" y="3505320"/>
            <a:ext cx="3792600" cy="125892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5"/>
          <p:cNvSpPr/>
          <p:nvPr/>
        </p:nvSpPr>
        <p:spPr>
          <a:xfrm flipH="1" rot="3023400">
            <a:off x="3475800" y="5043240"/>
            <a:ext cx="1960560" cy="26276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edian of the test scores displayed in the stem and leaf plot below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124080" y="281952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  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2  3 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  4  5  5  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5  6  6  6  8  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  3  4  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5"/>
          <p:cNvSpPr/>
          <p:nvPr/>
        </p:nvSpPr>
        <p:spPr>
          <a:xfrm flipH="1">
            <a:off x="3505320" y="2819520"/>
            <a:ext cx="144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sures of Center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an:  the average, add up all the values and divide by the number of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 the middle number in an ordered set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:  the most frequent number in a set of data; the number that occurs the m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4176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llowing set of data is Greg’s Test scores from his Math Clas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57200" y="2558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)  First you should add up all the test scores together. What do you get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457200" y="29671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have gotten 1,37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)  Next, figure out how many tests Greg took altogether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57200" y="38908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 te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57200" y="4259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compute the mean, take the sum of all the test scores (1,371) and divide by the total number of tests he took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572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have gotten 80.6.  This means that Greg’s average test score was an 80.6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ing the mean on the TI-83 Pl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14176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enter all the data into a list by hitting the STAT button and then 1:  Edit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04920" y="487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*Be sure to take your time when typing in the numbers, one small mistake can make a big difference.  It might be a good idea to double check that you entered everything correctl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80656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149640" cy="205092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8"/>
          <p:cNvSpPr/>
          <p:nvPr/>
        </p:nvSpPr>
        <p:spPr>
          <a:xfrm rot="1202400">
            <a:off x="1177560" y="3368160"/>
            <a:ext cx="1220760" cy="419400"/>
          </a:xfrm>
          <a:prstGeom prst="rightArrow">
            <a:avLst>
              <a:gd name="adj1" fmla="val 50000"/>
              <a:gd name="adj2" fmla="val 5008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ight Arrow 9"/>
          <p:cNvSpPr/>
          <p:nvPr/>
        </p:nvSpPr>
        <p:spPr>
          <a:xfrm rot="10531800">
            <a:off x="5802120" y="2555640"/>
            <a:ext cx="1066680" cy="3348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ing the mean on the TI-83 Pl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7200" y="14176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ce everything is typed into a list, hit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button and then the STAT butt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ss right until you get to the MATH screen and then choose 3:  mean(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27520" cy="196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952880" y="2432160"/>
            <a:ext cx="2863800" cy="1968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45720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still get the same mean of 80.6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200" y="47433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ce that is up on your home screen, hit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button and then whatever number list you put your data into and hit enter.  For example,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.1,  will give you L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85800" y="14176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find the median, the first step we must do is to get all the data in ascending order (from least to greates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5800" y="2362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85800" y="38098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get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 (odd amount of dat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685800" y="1417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data sets that have an odd amount of data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find the median (or middle number)  cross out the lowest number and the largest nu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Straight Connector 5"/>
          <p:cNvSpPr/>
          <p:nvPr/>
        </p:nvSpPr>
        <p:spPr>
          <a:xfrm flipH="1">
            <a:off x="837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Straight Connector 6"/>
          <p:cNvSpPr/>
          <p:nvPr/>
        </p:nvSpPr>
        <p:spPr>
          <a:xfrm flipH="1">
            <a:off x="71625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Straight Connector 7"/>
          <p:cNvSpPr/>
          <p:nvPr/>
        </p:nvSpPr>
        <p:spPr>
          <a:xfrm flipH="1">
            <a:off x="1218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H="1">
            <a:off x="3504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H="1">
            <a:off x="66290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Straight Connector 10"/>
          <p:cNvSpPr/>
          <p:nvPr/>
        </p:nvSpPr>
        <p:spPr>
          <a:xfrm flipH="1">
            <a:off x="15235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Straight Connector 11"/>
          <p:cNvSpPr/>
          <p:nvPr/>
        </p:nvSpPr>
        <p:spPr>
          <a:xfrm flipH="1">
            <a:off x="6171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Straight Connector 12"/>
          <p:cNvSpPr/>
          <p:nvPr/>
        </p:nvSpPr>
        <p:spPr>
          <a:xfrm flipH="1">
            <a:off x="1980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Straight Connector 13"/>
          <p:cNvSpPr/>
          <p:nvPr/>
        </p:nvSpPr>
        <p:spPr>
          <a:xfrm flipH="1">
            <a:off x="5790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traight Connector 14"/>
          <p:cNvSpPr/>
          <p:nvPr/>
        </p:nvSpPr>
        <p:spPr>
          <a:xfrm flipH="1">
            <a:off x="2361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traight Connector 15"/>
          <p:cNvSpPr/>
          <p:nvPr/>
        </p:nvSpPr>
        <p:spPr>
          <a:xfrm flipH="1">
            <a:off x="5409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Straight Connector 16"/>
          <p:cNvSpPr/>
          <p:nvPr/>
        </p:nvSpPr>
        <p:spPr>
          <a:xfrm flipH="1">
            <a:off x="2742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Straight Connector 17"/>
          <p:cNvSpPr/>
          <p:nvPr/>
        </p:nvSpPr>
        <p:spPr>
          <a:xfrm flipH="1">
            <a:off x="5028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Straight Connector 18"/>
          <p:cNvSpPr/>
          <p:nvPr/>
        </p:nvSpPr>
        <p:spPr>
          <a:xfrm flipH="1">
            <a:off x="3123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traight Connector 19"/>
          <p:cNvSpPr/>
          <p:nvPr/>
        </p:nvSpPr>
        <p:spPr>
          <a:xfrm flipH="1">
            <a:off x="4647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20"/>
          <p:cNvSpPr/>
          <p:nvPr/>
        </p:nvSpPr>
        <p:spPr>
          <a:xfrm flipH="1">
            <a:off x="4266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838080" y="358128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4 is the median since there are exactly the same amount of numbers above it and below i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tice that there are eight numbers smaller than 84 and eight numbers larg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Donut 22"/>
          <p:cNvSpPr/>
          <p:nvPr/>
        </p:nvSpPr>
        <p:spPr>
          <a:xfrm>
            <a:off x="3733920" y="2743200"/>
            <a:ext cx="457200" cy="5335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 (even amount of dat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14176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there is an even amount of data the process is similar, but you will have no exact middle numb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’s say we use the same data except that we get rid of one of the 100’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Straight Connector 4"/>
          <p:cNvSpPr/>
          <p:nvPr/>
        </p:nvSpPr>
        <p:spPr>
          <a:xfrm flipH="1">
            <a:off x="1523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Straight Connector 5"/>
          <p:cNvSpPr/>
          <p:nvPr/>
        </p:nvSpPr>
        <p:spPr>
          <a:xfrm flipH="1">
            <a:off x="1980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Straight Connector 6"/>
          <p:cNvSpPr/>
          <p:nvPr/>
        </p:nvSpPr>
        <p:spPr>
          <a:xfrm flipH="1">
            <a:off x="2361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Straight Connector 7"/>
          <p:cNvSpPr/>
          <p:nvPr/>
        </p:nvSpPr>
        <p:spPr>
          <a:xfrm flipH="1">
            <a:off x="7314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8"/>
          <p:cNvSpPr/>
          <p:nvPr/>
        </p:nvSpPr>
        <p:spPr>
          <a:xfrm flipH="1">
            <a:off x="6933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Straight Connector 9"/>
          <p:cNvSpPr/>
          <p:nvPr/>
        </p:nvSpPr>
        <p:spPr>
          <a:xfrm flipH="1">
            <a:off x="65149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10"/>
          <p:cNvSpPr/>
          <p:nvPr/>
        </p:nvSpPr>
        <p:spPr>
          <a:xfrm flipH="1">
            <a:off x="2742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11"/>
          <p:cNvSpPr/>
          <p:nvPr/>
        </p:nvSpPr>
        <p:spPr>
          <a:xfrm flipH="1">
            <a:off x="6095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Straight Connector 12"/>
          <p:cNvSpPr/>
          <p:nvPr/>
        </p:nvSpPr>
        <p:spPr>
          <a:xfrm flipH="1">
            <a:off x="3123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traight Connector 13"/>
          <p:cNvSpPr/>
          <p:nvPr/>
        </p:nvSpPr>
        <p:spPr>
          <a:xfrm flipH="1">
            <a:off x="57146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Straight Connector 14"/>
          <p:cNvSpPr/>
          <p:nvPr/>
        </p:nvSpPr>
        <p:spPr>
          <a:xfrm flipH="1">
            <a:off x="34286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Straight Connector 15"/>
          <p:cNvSpPr/>
          <p:nvPr/>
        </p:nvSpPr>
        <p:spPr>
          <a:xfrm flipH="1">
            <a:off x="53337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Straight Connector 16"/>
          <p:cNvSpPr/>
          <p:nvPr/>
        </p:nvSpPr>
        <p:spPr>
          <a:xfrm flipH="1">
            <a:off x="3809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Straight Connector 17"/>
          <p:cNvSpPr/>
          <p:nvPr/>
        </p:nvSpPr>
        <p:spPr>
          <a:xfrm flipH="1">
            <a:off x="5028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8"/>
          <p:cNvSpPr/>
          <p:nvPr/>
        </p:nvSpPr>
        <p:spPr>
          <a:xfrm flipH="1">
            <a:off x="4266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traight Connector 19"/>
          <p:cNvSpPr/>
          <p:nvPr/>
        </p:nvSpPr>
        <p:spPr>
          <a:xfrm flipH="1">
            <a:off x="4647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Straight Connector 25"/>
          <p:cNvSpPr/>
          <p:nvPr/>
        </p:nvSpPr>
        <p:spPr>
          <a:xfrm flipH="1">
            <a:off x="4497480" y="2971800"/>
            <a:ext cx="1440" cy="533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457200" y="388620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 you can see the median falls between two valu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n this happens take the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verag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 those two numbe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this problem the average of 78 and 84 is  8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the median of this data set is 8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ode is the number that happens the most (the most frequent valu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85800" y="28195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at is the mode of the following set of data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685800" y="42670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you said 72, then you were correct!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2 occurs four times. The next most frequent values would be 84 and 100 which both occur twice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* It is possible to have two modes, this happens when two numbers both occur the mos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5:00:16Z</dcterms:created>
  <dc:creator>Jennifer Dugan</dc:creator>
  <dc:description/>
  <dc:language>en-US</dc:language>
  <cp:lastModifiedBy>Jennifer Dugan</cp:lastModifiedBy>
  <dcterms:modified xsi:type="dcterms:W3CDTF">2010-09-27T15:01:24Z</dcterms:modified>
  <cp:revision>46</cp:revision>
  <dc:subject/>
  <dc:title>Stem and Leaf Plots</dc:title>
</cp:coreProperties>
</file>