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43D0-C864-47BC-AC7B-BF40A9AD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59AC-4C69-4F9D-B702-0C272F2A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4B55-A96D-4B26-B604-85E5DE41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D4A2-CCBB-4CF0-878D-2DB26783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9045-44C3-4F45-AB8A-B2FBAAA2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5560-09F7-47C2-B290-35694F40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1861-76D7-4896-8FDF-590FA9D2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F9D9-4D13-465D-8B4D-2C928427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B019-6415-42A6-9F69-EA3E6263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0EF2-96F7-4AEC-B65E-939DF81E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7CB9-9892-4A04-A414-63A02627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B409-4FD4-4293-A01A-0167F9D8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8E137D-21D7-4BAA-9471-334912603989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8C33B1-D9FD-41A0-B7D2-AB7C749B656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asures of Center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an, Median, Mo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Outliers and Measures of Cent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685800" y="1427040"/>
            <a:ext cx="8001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liers affect one of the three measures of center. Let’s see which one…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r our data set, we got a mean of 80.6, a median of 84, and a mode of 72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et’s say Greg completed an extra credit assignment worth 50 points. This was added onto one of the tests that Greg scored a 100 on. So there is a new test with a score of 150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7, 55, 68, 72, 72, 72, 72, 78, 84, 84, 88, 90, 95, 96, 98, 100, 100, 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mpute the mean, median and mode of this new data set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Outliers and Measures of Cent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4317480"/>
            <a:ext cx="8229600" cy="18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s you can see the </a:t>
            </a:r>
            <a:r>
              <a:rPr b="0" lang="en-US" sz="3000" spc="-1" strike="noStrike" u="sng">
                <a:solidFill>
                  <a:srgbClr val="ffff00"/>
                </a:solidFill>
                <a:uFillTx/>
                <a:latin typeface="Calibri"/>
              </a:rPr>
              <a:t>mean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is the measure of center that is most affected by outlier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895480" y="1417680"/>
          <a:ext cx="3353040" cy="340344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l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w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.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.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Outliers and Measures of Cent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In conclusion,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The mean is the measure of center that is most affected by outliers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If a data set has a small outlier, the mean becomes significantly lower, but the median stays around the same number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If a data set has a large outlier, the mean becomes significantly higher, but the median stays around the same number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onsider the following list of high temperatures (</a:t>
            </a:r>
            <a:r>
              <a:rPr b="0" lang="en-US" sz="2200" spc="-1" strike="noStrike" baseline="30000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F) for the first two weeks of October in a city in Maryland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65, 72, 60, 64, 75, 59, 71, 63, 60, 67, 72, 85, 86, 6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ake a stem and leaf plot of the data (submit a hard copy to your teacher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Find the mean high temperature for this time period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Find the median high temperature for this time period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Find the mode high temperature for this time period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f a 10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day was added to this data sheet, what would happen to the mean, median, and mode without computing the actual values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the following shapes for histograms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termine the median would be grea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an, less than, or equal to the mea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)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)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Freeform 3"/>
          <p:cNvSpPr/>
          <p:nvPr/>
        </p:nvSpPr>
        <p:spPr>
          <a:xfrm rot="18576600">
            <a:off x="1419120" y="3250800"/>
            <a:ext cx="1960560" cy="2627280"/>
          </a:xfrm>
          <a:prstGeom prst="pie">
            <a:avLst/>
          </a:prstGeom>
          <a:noFill/>
          <a:ln w="57240">
            <a:solidFill>
              <a:srgbClr val="ffffff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Freeform 4"/>
          <p:cNvSpPr/>
          <p:nvPr/>
        </p:nvSpPr>
        <p:spPr>
          <a:xfrm>
            <a:off x="5079960" y="3505320"/>
            <a:ext cx="3792600" cy="1258920"/>
          </a:xfrm>
          <a:prstGeom prst="pie">
            <a:avLst/>
          </a:prstGeom>
          <a:noFill/>
          <a:ln w="57240">
            <a:solidFill>
              <a:srgbClr val="ffffff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Freeform 5"/>
          <p:cNvSpPr/>
          <p:nvPr/>
        </p:nvSpPr>
        <p:spPr>
          <a:xfrm flipH="1" rot="3023400">
            <a:off x="3475800" y="5043240"/>
            <a:ext cx="1960560" cy="2627640"/>
          </a:xfrm>
          <a:prstGeom prst="pie">
            <a:avLst/>
          </a:prstGeom>
          <a:noFill/>
          <a:ln w="57240">
            <a:solidFill>
              <a:srgbClr val="ffffff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arenR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median of the test scores displayed in the stem and leaf plot below i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6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75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7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7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3124080" y="2819520"/>
            <a:ext cx="5257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4  7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  2  3  6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  4  5  5  8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  5  6  6  6  8  8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  3  4  4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9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  6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Straight Connector 5"/>
          <p:cNvSpPr/>
          <p:nvPr/>
        </p:nvSpPr>
        <p:spPr>
          <a:xfrm flipH="1">
            <a:off x="3505320" y="2819520"/>
            <a:ext cx="1440" cy="3539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asures of Center Ba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an:  the average, add up all the values and divide by the number of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dian:  the middle number in an ordered set of dat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de:  the most frequent number in a set of data; the number that occurs the mo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a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57200" y="141768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following set of data is Greg’s Test scores from his Math Class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5, 88, 84, 47, 72, 68, 98, 100, 78, 72, 96, 84, 55, 72, 90, 72, 10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57200" y="25588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)  First you should add up all the test scores together. What do you get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457200" y="296712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should have gotten 1,371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)  Next, figure out how many tests Greg took altogether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457200" y="389088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 test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457200" y="42591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 compute the mean, take the sum of all the test scores (1,371) and divide by the total number of tests he took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457200" y="51814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should have gotten 80.6.  This means that Greg’s average test score was an 80.6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inding the mean on the TI-83 Plu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457200" y="141768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rst enter all the data into a list by hitting the STAT button and then 1:  Edit…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5, 88, 84, 47, 72, 68, 98, 100, 78, 72, 96, 84, 55, 72, 90, 72, 10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304920" y="4876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**Be sure to take your time when typing in the numbers, one small mistake can make a big difference.  It might be a good idea to double check that you entered everything correctly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2806560" cy="1828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4495680" y="2514600"/>
            <a:ext cx="3149640" cy="2050920"/>
          </a:xfrm>
          <a:prstGeom prst="rect">
            <a:avLst/>
          </a:prstGeom>
          <a:ln w="0">
            <a:noFill/>
          </a:ln>
        </p:spPr>
      </p:pic>
      <p:sp>
        <p:nvSpPr>
          <p:cNvPr id="57" name="Right Arrow 8"/>
          <p:cNvSpPr/>
          <p:nvPr/>
        </p:nvSpPr>
        <p:spPr>
          <a:xfrm rot="1202400">
            <a:off x="1177560" y="3368160"/>
            <a:ext cx="1220760" cy="419400"/>
          </a:xfrm>
          <a:prstGeom prst="rightArrow">
            <a:avLst>
              <a:gd name="adj1" fmla="val 50000"/>
              <a:gd name="adj2" fmla="val 50089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Right Arrow 9"/>
          <p:cNvSpPr/>
          <p:nvPr/>
        </p:nvSpPr>
        <p:spPr>
          <a:xfrm rot="10531800">
            <a:off x="5802120" y="2555640"/>
            <a:ext cx="1066680" cy="3348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inding the mean on the TI-83 Plu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457200" y="141768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nce everything is typed into a list, hit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button and then the STAT butt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ess right until you get to the MATH screen and then choose 3:  mean(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2927520" cy="196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2"/>
          <a:stretch/>
        </p:blipFill>
        <p:spPr>
          <a:xfrm>
            <a:off x="4952880" y="2432160"/>
            <a:ext cx="2863800" cy="1968480"/>
          </a:xfrm>
          <a:prstGeom prst="rect">
            <a:avLst/>
          </a:prstGeom>
          <a:ln w="0">
            <a:noFill/>
          </a:ln>
        </p:spPr>
      </p:pic>
      <p:sp>
        <p:nvSpPr>
          <p:cNvPr id="63" name="TextBox 7"/>
          <p:cNvSpPr/>
          <p:nvPr/>
        </p:nvSpPr>
        <p:spPr>
          <a:xfrm>
            <a:off x="457200" y="59436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should still get the same mean of 80.6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457200" y="474336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nce that is up on your home screen, hit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button and then whatever number list you put your data into and hit enter.  For example,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….1,  will give you L1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dia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685800" y="1417680"/>
            <a:ext cx="7772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 find the median, the first step we must do is to get all the data in ascending order (from least to greatest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685800" y="23623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5, 88, 84, 47, 72, 68, 98, 100, 78, 72, 96, 84, 55, 72, 90, 72, 10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685800" y="380988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should get…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7, 55, 68, 72, 72, 72, 72, 78, 84, 84, 88, 90, 95, 96, 98, 100, 100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dian (odd amount of data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685800" y="1417680"/>
            <a:ext cx="701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 data sets that have an odd amount of data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 find the median (or middle number)  cross out the lowest number and the largest numb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7, 55, 68, 72, 72, 72, 72, 78, 84, 84, 88, 90, 95, 96, 98, 100, 100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Straight Connector 5"/>
          <p:cNvSpPr/>
          <p:nvPr/>
        </p:nvSpPr>
        <p:spPr>
          <a:xfrm flipH="1">
            <a:off x="83772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Straight Connector 6"/>
          <p:cNvSpPr/>
          <p:nvPr/>
        </p:nvSpPr>
        <p:spPr>
          <a:xfrm flipH="1">
            <a:off x="716256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Straight Connector 7"/>
          <p:cNvSpPr/>
          <p:nvPr/>
        </p:nvSpPr>
        <p:spPr>
          <a:xfrm flipH="1">
            <a:off x="121896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Straight Connector 8"/>
          <p:cNvSpPr/>
          <p:nvPr/>
        </p:nvSpPr>
        <p:spPr>
          <a:xfrm flipH="1">
            <a:off x="350496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Straight Connector 9"/>
          <p:cNvSpPr/>
          <p:nvPr/>
        </p:nvSpPr>
        <p:spPr>
          <a:xfrm flipH="1">
            <a:off x="662904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Straight Connector 10"/>
          <p:cNvSpPr/>
          <p:nvPr/>
        </p:nvSpPr>
        <p:spPr>
          <a:xfrm flipH="1">
            <a:off x="152352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Straight Connector 11"/>
          <p:cNvSpPr/>
          <p:nvPr/>
        </p:nvSpPr>
        <p:spPr>
          <a:xfrm flipH="1">
            <a:off x="617184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Straight Connector 12"/>
          <p:cNvSpPr/>
          <p:nvPr/>
        </p:nvSpPr>
        <p:spPr>
          <a:xfrm flipH="1">
            <a:off x="198072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Straight Connector 13"/>
          <p:cNvSpPr/>
          <p:nvPr/>
        </p:nvSpPr>
        <p:spPr>
          <a:xfrm flipH="1">
            <a:off x="579096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Straight Connector 14"/>
          <p:cNvSpPr/>
          <p:nvPr/>
        </p:nvSpPr>
        <p:spPr>
          <a:xfrm flipH="1">
            <a:off x="236196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Straight Connector 15"/>
          <p:cNvSpPr/>
          <p:nvPr/>
        </p:nvSpPr>
        <p:spPr>
          <a:xfrm flipH="1">
            <a:off x="540972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Straight Connector 16"/>
          <p:cNvSpPr/>
          <p:nvPr/>
        </p:nvSpPr>
        <p:spPr>
          <a:xfrm flipH="1">
            <a:off x="274284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Straight Connector 17"/>
          <p:cNvSpPr/>
          <p:nvPr/>
        </p:nvSpPr>
        <p:spPr>
          <a:xfrm flipH="1">
            <a:off x="502884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Straight Connector 18"/>
          <p:cNvSpPr/>
          <p:nvPr/>
        </p:nvSpPr>
        <p:spPr>
          <a:xfrm flipH="1">
            <a:off x="312372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Straight Connector 19"/>
          <p:cNvSpPr/>
          <p:nvPr/>
        </p:nvSpPr>
        <p:spPr>
          <a:xfrm flipH="1">
            <a:off x="464796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Straight Connector 20"/>
          <p:cNvSpPr/>
          <p:nvPr/>
        </p:nvSpPr>
        <p:spPr>
          <a:xfrm flipH="1">
            <a:off x="426672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TextBox 21"/>
          <p:cNvSpPr/>
          <p:nvPr/>
        </p:nvSpPr>
        <p:spPr>
          <a:xfrm>
            <a:off x="838080" y="3581280"/>
            <a:ext cx="754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84 is the median since there are exactly the same amount of numbers above it and below it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otice that there are eight numbers smaller than 84 and eight numbers larger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Donut 22"/>
          <p:cNvSpPr/>
          <p:nvPr/>
        </p:nvSpPr>
        <p:spPr>
          <a:xfrm>
            <a:off x="3733920" y="2743200"/>
            <a:ext cx="457200" cy="53352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dian (even amount of data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457200" y="1417680"/>
            <a:ext cx="8229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f there is an even amount of data the process is similar, but you will have no exact middle number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et’s say we use the same data except that we get rid of one of the 100’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7, 55, 68, 72, 72, 72, 72, 78, 84, 84, 88, 90, 95, 96, 98, 100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Straight Connector 4"/>
          <p:cNvSpPr/>
          <p:nvPr/>
        </p:nvSpPr>
        <p:spPr>
          <a:xfrm flipH="1">
            <a:off x="152352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Straight Connector 5"/>
          <p:cNvSpPr/>
          <p:nvPr/>
        </p:nvSpPr>
        <p:spPr>
          <a:xfrm flipH="1">
            <a:off x="198072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Straight Connector 6"/>
          <p:cNvSpPr/>
          <p:nvPr/>
        </p:nvSpPr>
        <p:spPr>
          <a:xfrm flipH="1">
            <a:off x="236196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Straight Connector 7"/>
          <p:cNvSpPr/>
          <p:nvPr/>
        </p:nvSpPr>
        <p:spPr>
          <a:xfrm flipH="1">
            <a:off x="731484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Straight Connector 8"/>
          <p:cNvSpPr/>
          <p:nvPr/>
        </p:nvSpPr>
        <p:spPr>
          <a:xfrm flipH="1">
            <a:off x="693396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Straight Connector 9"/>
          <p:cNvSpPr/>
          <p:nvPr/>
        </p:nvSpPr>
        <p:spPr>
          <a:xfrm flipH="1">
            <a:off x="651492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Straight Connector 10"/>
          <p:cNvSpPr/>
          <p:nvPr/>
        </p:nvSpPr>
        <p:spPr>
          <a:xfrm flipH="1">
            <a:off x="274284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Straight Connector 11"/>
          <p:cNvSpPr/>
          <p:nvPr/>
        </p:nvSpPr>
        <p:spPr>
          <a:xfrm flipH="1">
            <a:off x="609552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Straight Connector 12"/>
          <p:cNvSpPr/>
          <p:nvPr/>
        </p:nvSpPr>
        <p:spPr>
          <a:xfrm flipH="1">
            <a:off x="312372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Straight Connector 13"/>
          <p:cNvSpPr/>
          <p:nvPr/>
        </p:nvSpPr>
        <p:spPr>
          <a:xfrm flipH="1">
            <a:off x="571464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Straight Connector 14"/>
          <p:cNvSpPr/>
          <p:nvPr/>
        </p:nvSpPr>
        <p:spPr>
          <a:xfrm flipH="1">
            <a:off x="342864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Straight Connector 15"/>
          <p:cNvSpPr/>
          <p:nvPr/>
        </p:nvSpPr>
        <p:spPr>
          <a:xfrm flipH="1">
            <a:off x="533376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Straight Connector 16"/>
          <p:cNvSpPr/>
          <p:nvPr/>
        </p:nvSpPr>
        <p:spPr>
          <a:xfrm flipH="1">
            <a:off x="380952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Straight Connector 17"/>
          <p:cNvSpPr/>
          <p:nvPr/>
        </p:nvSpPr>
        <p:spPr>
          <a:xfrm flipH="1">
            <a:off x="502884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Straight Connector 18"/>
          <p:cNvSpPr/>
          <p:nvPr/>
        </p:nvSpPr>
        <p:spPr>
          <a:xfrm flipH="1">
            <a:off x="426672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Straight Connector 19"/>
          <p:cNvSpPr/>
          <p:nvPr/>
        </p:nvSpPr>
        <p:spPr>
          <a:xfrm flipH="1">
            <a:off x="464796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Straight Connector 25"/>
          <p:cNvSpPr/>
          <p:nvPr/>
        </p:nvSpPr>
        <p:spPr>
          <a:xfrm flipH="1">
            <a:off x="4497480" y="2971800"/>
            <a:ext cx="1440" cy="5335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TextBox 20"/>
          <p:cNvSpPr/>
          <p:nvPr/>
        </p:nvSpPr>
        <p:spPr>
          <a:xfrm>
            <a:off x="457200" y="3886200"/>
            <a:ext cx="8229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s you can see the median falls between two value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hen this happens take the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average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f those two number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r this problem the average of 78 and 84 is  81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TextBox 21"/>
          <p:cNvSpPr/>
          <p:nvPr/>
        </p:nvSpPr>
        <p:spPr>
          <a:xfrm>
            <a:off x="457200" y="5943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 the median of this data set is 8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mode is the number that happens the most (the most frequent value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85800" y="281952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hat is the mode of the following set of data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7, 55, 68, 72, 72, 72, 72, 78, 84, 84, 88, 90, 95, 96, 98, 100, 100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685800" y="4267080"/>
            <a:ext cx="8001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f you said 72, then you were correct!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2 occurs four times. The next most frequent values would be 84 and 100 which both occur twice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** It is possible to have two modes, this happens when two numbers both occur the most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5:00:16Z</dcterms:created>
  <dc:creator>Jennifer Dugan</dc:creator>
  <dc:description/>
  <dc:language>en-US</dc:language>
  <cp:lastModifiedBy>Jennifer Dugan</cp:lastModifiedBy>
  <dcterms:modified xsi:type="dcterms:W3CDTF">2010-09-27T15:01:24Z</dcterms:modified>
  <cp:revision>46</cp:revision>
  <dc:subject/>
  <dc:title>Stem and Leaf Plots</dc:title>
</cp:coreProperties>
</file>