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ct" ContentType="image/x-pict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02C-5D6E-47A8-B7DF-ED863976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13A-340D-48BA-9E2F-F4E2CBA9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1BB-0686-404D-A292-ED23EC3D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E1B-D79B-437E-9411-5B638490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75C-785D-45E0-A474-8CFEB610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27C-8CEE-4D5A-AEB6-50EF9CB0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EA0-61FB-41C1-970D-B5A504E6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BEB-4C51-47FE-91C7-AA8C7654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553-3597-4C8B-9342-F00BC4E1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DFD-A11B-49A6-A26B-8E9812D4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887-4F84-4D0A-BCB1-D18A26C5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C8E-2C18-4604-998D-0EFEA926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6C97D-0286-4E7F-8E35-39D5C161BAE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53F90-3377-4200-8766-16FF9CCDE1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ear Regressio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800600" y="129528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= -2525.0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1.6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4724280" y="31240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the equation of the line 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952880" y="4111560"/>
          <a:ext cx="3886200" cy="5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11560"/>
                    <a:ext cx="3886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8"/>
          <p:cNvSpPr/>
          <p:nvPr/>
        </p:nvSpPr>
        <p:spPr>
          <a:xfrm>
            <a:off x="4572000" y="27036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general form of the equation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 =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,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your y-interecept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your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5486400"/>
          <a:ext cx="3886200" cy="5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86400"/>
                    <a:ext cx="38862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8"/>
          <p:cNvSpPr/>
          <p:nvPr/>
        </p:nvSpPr>
        <p:spPr>
          <a:xfrm>
            <a:off x="5257800" y="14479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can we check that this line is a good f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4952880" y="3200400"/>
            <a:ext cx="403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a scatterplot of the information on the calculator then graph the y=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13" descr="Picture 8.png"/>
          <p:cNvPicPr/>
          <p:nvPr/>
        </p:nvPicPr>
        <p:blipFill>
          <a:blip r:embed="rId4"/>
          <a:stretch/>
        </p:blipFill>
        <p:spPr>
          <a:xfrm>
            <a:off x="457200" y="195732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5486400"/>
          <a:ext cx="3886200" cy="5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86400"/>
                    <a:ext cx="38862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8"/>
          <p:cNvSpPr/>
          <p:nvPr/>
        </p:nvSpPr>
        <p:spPr>
          <a:xfrm>
            <a:off x="4952880" y="1828800"/>
            <a:ext cx="381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eck to see if the line touches some points, has some points above it and some points below it. This line is a great fi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13" descr="Picture 8.png"/>
          <p:cNvPicPr/>
          <p:nvPr/>
        </p:nvPicPr>
        <p:blipFill>
          <a:blip r:embed="rId4"/>
          <a:stretch/>
        </p:blipFill>
        <p:spPr>
          <a:xfrm>
            <a:off x="457200" y="195732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80880" y="1747800"/>
            <a:ext cx="38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you have your line of best fit, you can use it to make estim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876920" y="148428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example, our problem was talking about income in 1988 versus the income in 1994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57200" y="46371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earned $120,000 in 1988, how much could you expect to earn in 1994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80880" y="1523880"/>
            <a:ext cx="3810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your equation in y= then find $120,000 in your x column by changing your TblStart to 120,00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10" descr="Picture 1.png"/>
          <p:cNvPicPr/>
          <p:nvPr/>
        </p:nvPicPr>
        <p:blipFill>
          <a:blip r:embed="rId2"/>
          <a:stretch/>
        </p:blipFill>
        <p:spPr>
          <a:xfrm>
            <a:off x="4419720" y="1447920"/>
            <a:ext cx="4419360" cy="3259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1"/>
          <p:cNvSpPr/>
          <p:nvPr/>
        </p:nvSpPr>
        <p:spPr>
          <a:xfrm>
            <a:off x="380880" y="5257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made $120,000 in 1988, you can expect to earn $196,675 in 199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676520" y="4044960"/>
            <a:ext cx="1796760" cy="260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648320" y="4044960"/>
            <a:ext cx="3038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419720" y="1946160"/>
            <a:ext cx="4638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are the prices for different Nintendo game systems when they were first released. Answer the following questions based on this inform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05400" y="17524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E: When entering the years in your list, change them to YEARS SINCE 198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505400" y="4110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example, 1991 would be entered as 6 since it is 6 years since 1985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6"/>
          <p:cNvSpPr/>
          <p:nvPr/>
        </p:nvSpPr>
        <p:spPr>
          <a:xfrm>
            <a:off x="4343400" y="1371600"/>
            <a:ext cx="4809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rite the linear regression line for the Nintendo informa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hat is the slope? What is the y-intercep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ing your linear regression line, estimate the price of a new system if it were released in 2011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 what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ye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will the price of a newly released system be $277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Linear Regression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ear regression is also known as “line of best fit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estimate it by hand using a scatterplot and a rul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get the exact line of best fit by using the LinReg function on your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eps for Finding Linear Regression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your information in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Quit your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nd the linear regression line by going to STAT then CALC then 8:LinReg(a+bx)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your calculator where the information is (Ex. L1, L2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 and plug in your values fo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Round values fo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to 2 decimal places.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417680"/>
          <a:ext cx="4114800" cy="4678200"/>
        </p:xfrm>
        <a:graphic>
          <a:graphicData uri="http://schemas.openxmlformats.org/drawingml/2006/table">
            <a:tbl>
              <a:tblPr/>
              <a:tblGrid>
                <a:gridCol w="2070000"/>
                <a:gridCol w="2044800"/>
              </a:tblGrid>
              <a:tr h="13302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7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1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02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74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55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5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4,3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,4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8"/>
          <p:cNvSpPr/>
          <p:nvPr/>
        </p:nvSpPr>
        <p:spPr>
          <a:xfrm>
            <a:off x="4952880" y="247500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able to the left gives the average income for different medical specialties for 1988 and 199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417680"/>
          <a:ext cx="4114800" cy="4678200"/>
        </p:xfrm>
        <a:graphic>
          <a:graphicData uri="http://schemas.openxmlformats.org/drawingml/2006/table">
            <a:tbl>
              <a:tblPr/>
              <a:tblGrid>
                <a:gridCol w="2070000"/>
                <a:gridCol w="2044800"/>
              </a:tblGrid>
              <a:tr h="13302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7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1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02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74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55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5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4,3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,4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8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you’ll need to enter your information into a li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800600" y="353520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t the Income in 1988 in L1 and the Income in 1994 in L2 then quit your lis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 need to hit STAT then go over to CAL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800600" y="35352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down to 8:LinReg(a+bx) and hit 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5" descr="Picture 2.png"/>
          <p:cNvPicPr/>
          <p:nvPr/>
        </p:nvPicPr>
        <p:blipFill>
          <a:blip r:embed="rId2"/>
          <a:stretch/>
        </p:blipFill>
        <p:spPr>
          <a:xfrm>
            <a:off x="457200" y="1957320"/>
            <a:ext cx="4038480" cy="29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icture 3.png"/>
          <p:cNvPicPr/>
          <p:nvPr/>
        </p:nvPicPr>
        <p:blipFill>
          <a:blip r:embed="rId3"/>
          <a:stretch/>
        </p:blipFill>
        <p:spPr>
          <a:xfrm>
            <a:off x="457200" y="1957320"/>
            <a:ext cx="4046400" cy="299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Picture 4.png"/>
          <p:cNvPicPr/>
          <p:nvPr/>
        </p:nvPicPr>
        <p:blipFill>
          <a:blip r:embed="rId4"/>
          <a:stretch/>
        </p:blipFill>
        <p:spPr>
          <a:xfrm>
            <a:off x="457200" y="1957320"/>
            <a:ext cx="40654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800600" y="16765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see this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800600" y="236232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need to tell the calculator where your information is. In this case, the x information is in L1 and the y information is L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1 t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ma (above the 7) th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4724280" y="37987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ENTER. You’ll see the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800600" y="160164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all you need to do to find your line of best fit is plug in your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the general equation for the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4724280" y="49417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n’t forget to round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TWO decimal place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3:47:56Z</dcterms:created>
  <dc:creator>Jennifer Dugan</dc:creator>
  <dc:description/>
  <dc:language>en-US</dc:language>
  <cp:lastModifiedBy>Jennifer Dugan</cp:lastModifiedBy>
  <dcterms:modified xsi:type="dcterms:W3CDTF">2010-02-16T13:53:20Z</dcterms:modified>
  <cp:revision>26</cp:revision>
  <dc:subject/>
  <dc:title>Linear Regression on the Calculator</dc:title>
</cp:coreProperties>
</file>