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ct" ContentType="image/x-pict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8EB6-D5AF-4D23-89D9-04C571AD3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BEFE-08B2-4B8A-AA8D-F65F6FAB9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A050-EC2C-4BAB-B4FD-A07913FC0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638C-5AF0-4246-BE5F-CE213EDF2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B24F-2D15-4B56-B8EC-E5FE439F4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F16E-E654-4EF4-A2AF-6B570599E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E0AB-8D51-4896-9F2C-4FE2CD357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B90A-0387-45FC-88BD-68AEB18A7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D0E6-72A0-4814-8867-91D08A574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5A35-B160-4BEA-900B-168FE990C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6771-7E88-4518-8FB0-D2B1734CA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F6D6-8AAF-411D-80F4-2B3749600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9FE9E9-3E51-4F9D-8487-F873F75561C4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DA2FF1-6E01-4094-830F-F03814102F0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8.pct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ct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ct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Linear Regression on the Calculato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Please view this tutorial and answer the follow-up questions on loose leaf to turn in to your teacher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TextBox 4"/>
          <p:cNvSpPr/>
          <p:nvPr/>
        </p:nvSpPr>
        <p:spPr>
          <a:xfrm>
            <a:off x="4800600" y="1295280"/>
            <a:ext cx="4191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= -2525.06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 = 1.66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8" name="Picture 10" descr="Picture 5.png"/>
          <p:cNvPicPr/>
          <p:nvPr/>
        </p:nvPicPr>
        <p:blipFill>
          <a:blip r:embed="rId2"/>
          <a:stretch/>
        </p:blipFill>
        <p:spPr>
          <a:xfrm>
            <a:off x="457200" y="1981080"/>
            <a:ext cx="4054320" cy="29955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Picture 6.png"/>
          <p:cNvPicPr/>
          <p:nvPr/>
        </p:nvPicPr>
        <p:blipFill>
          <a:blip r:embed="rId3"/>
          <a:stretch/>
        </p:blipFill>
        <p:spPr>
          <a:xfrm>
            <a:off x="457200" y="1981080"/>
            <a:ext cx="4054320" cy="3011760"/>
          </a:xfrm>
          <a:prstGeom prst="rect">
            <a:avLst/>
          </a:prstGeom>
          <a:ln w="0">
            <a:noFill/>
          </a:ln>
        </p:spPr>
      </p:pic>
      <p:sp>
        <p:nvSpPr>
          <p:cNvPr id="80" name="TextBox 9"/>
          <p:cNvSpPr/>
          <p:nvPr/>
        </p:nvSpPr>
        <p:spPr>
          <a:xfrm>
            <a:off x="4724280" y="3124080"/>
            <a:ext cx="434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o the equation of the line is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1" name="Picture 11" descr="Picture 7.png"/>
          <p:cNvPicPr/>
          <p:nvPr/>
        </p:nvPicPr>
        <p:blipFill>
          <a:blip r:embed="rId4"/>
          <a:stretch/>
        </p:blipFill>
        <p:spPr>
          <a:xfrm>
            <a:off x="457200" y="1981080"/>
            <a:ext cx="4067280" cy="30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2" name=""/>
          <p:cNvGraphicFramePr/>
          <p:nvPr/>
        </p:nvGraphicFramePr>
        <p:xfrm>
          <a:off x="4952880" y="4111560"/>
          <a:ext cx="3886200" cy="536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52880" y="4111560"/>
                    <a:ext cx="3886200" cy="5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Rectangle 8"/>
          <p:cNvSpPr/>
          <p:nvPr/>
        </p:nvSpPr>
        <p:spPr>
          <a:xfrm>
            <a:off x="4572000" y="2703600"/>
            <a:ext cx="4572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nce the general form of the equation i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 = 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+ 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x, 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is your y-interecept and 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is your slop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33520" y="5486400"/>
          <a:ext cx="3886200" cy="53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5486400"/>
                    <a:ext cx="3886200" cy="53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TextBox 8"/>
          <p:cNvSpPr/>
          <p:nvPr/>
        </p:nvSpPr>
        <p:spPr>
          <a:xfrm>
            <a:off x="5257800" y="1447920"/>
            <a:ext cx="3429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ow can we check that this line is a good fit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TextBox 12"/>
          <p:cNvSpPr/>
          <p:nvPr/>
        </p:nvSpPr>
        <p:spPr>
          <a:xfrm>
            <a:off x="4952880" y="3200400"/>
            <a:ext cx="4038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ke a scatterplot of the information on the calculator then graph the y= equatio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0" name="Picture 13" descr="Picture 8.png"/>
          <p:cNvPicPr/>
          <p:nvPr/>
        </p:nvPicPr>
        <p:blipFill>
          <a:blip r:embed="rId4"/>
          <a:stretch/>
        </p:blipFill>
        <p:spPr>
          <a:xfrm>
            <a:off x="457200" y="1957320"/>
            <a:ext cx="405432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533520" y="5486400"/>
          <a:ext cx="3886200" cy="53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5486400"/>
                    <a:ext cx="3886200" cy="53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TextBox 8"/>
          <p:cNvSpPr/>
          <p:nvPr/>
        </p:nvSpPr>
        <p:spPr>
          <a:xfrm>
            <a:off x="4952880" y="1828800"/>
            <a:ext cx="3810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eck to see if the line touches some points, has some points above it and some points below it. This line is a great fit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5" name="Picture 13" descr="Picture 8.png"/>
          <p:cNvPicPr/>
          <p:nvPr/>
        </p:nvPicPr>
        <p:blipFill>
          <a:blip r:embed="rId4"/>
          <a:stretch/>
        </p:blipFill>
        <p:spPr>
          <a:xfrm>
            <a:off x="457200" y="1957320"/>
            <a:ext cx="405432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TextBox 8"/>
          <p:cNvSpPr/>
          <p:nvPr/>
        </p:nvSpPr>
        <p:spPr>
          <a:xfrm>
            <a:off x="380880" y="1747800"/>
            <a:ext cx="3810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nce you have your line of best fit, you can use it to make estimation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TextBox 9"/>
          <p:cNvSpPr/>
          <p:nvPr/>
        </p:nvSpPr>
        <p:spPr>
          <a:xfrm>
            <a:off x="4876920" y="1484280"/>
            <a:ext cx="3809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r example, our problem was talking about income in 1988 versus the income in 1994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TextBox 5"/>
          <p:cNvSpPr/>
          <p:nvPr/>
        </p:nvSpPr>
        <p:spPr>
          <a:xfrm>
            <a:off x="457200" y="463716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f you earned $120,000 in 1988, how much could you expect to earn in 1994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TextBox 9"/>
          <p:cNvSpPr/>
          <p:nvPr/>
        </p:nvSpPr>
        <p:spPr>
          <a:xfrm>
            <a:off x="380880" y="1523880"/>
            <a:ext cx="38102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ype your equation in y= then find $120,000 in your x column by changing your TblStart to 120,000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Picture 10" descr="Picture 1.png"/>
          <p:cNvPicPr/>
          <p:nvPr/>
        </p:nvPicPr>
        <p:blipFill>
          <a:blip r:embed="rId2"/>
          <a:stretch/>
        </p:blipFill>
        <p:spPr>
          <a:xfrm>
            <a:off x="4419720" y="1447920"/>
            <a:ext cx="4419360" cy="3259080"/>
          </a:xfrm>
          <a:prstGeom prst="rect">
            <a:avLst/>
          </a:prstGeom>
          <a:ln w="0">
            <a:noFill/>
          </a:ln>
        </p:spPr>
      </p:pic>
      <p:sp>
        <p:nvSpPr>
          <p:cNvPr id="103" name="TextBox 11"/>
          <p:cNvSpPr/>
          <p:nvPr/>
        </p:nvSpPr>
        <p:spPr>
          <a:xfrm>
            <a:off x="380880" y="525780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f you made $120,000 in 1988, you can expect to earn $196,675 in 1994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-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457200" y="266688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swer the following questions on loose leaf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d hand them in to your teacher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2"/>
          <a:stretch/>
        </p:blipFill>
        <p:spPr>
          <a:xfrm>
            <a:off x="1676520" y="4044960"/>
            <a:ext cx="1796760" cy="26035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"/>
          <p:cNvPicPr/>
          <p:nvPr/>
        </p:nvPicPr>
        <p:blipFill>
          <a:blip r:embed="rId3"/>
          <a:stretch/>
        </p:blipFill>
        <p:spPr>
          <a:xfrm>
            <a:off x="4648320" y="4044960"/>
            <a:ext cx="303840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-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TextBox 4"/>
          <p:cNvSpPr/>
          <p:nvPr/>
        </p:nvSpPr>
        <p:spPr>
          <a:xfrm>
            <a:off x="4419720" y="1946160"/>
            <a:ext cx="4638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are the prices for different Nintendo game systems when they were first released. Answer the following questions based on this information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7200" y="1397160"/>
          <a:ext cx="3886200" cy="4566960"/>
        </p:xfrm>
        <a:graphic>
          <a:graphicData uri="http://schemas.openxmlformats.org/drawingml/2006/table">
            <a:tbl>
              <a:tblPr/>
              <a:tblGrid>
                <a:gridCol w="1828800"/>
                <a:gridCol w="990720"/>
                <a:gridCol w="1066680"/>
              </a:tblGrid>
              <a:tr h="803160"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ame System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Year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ic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ES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985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20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3160"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uper Nintendo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99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249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3160"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intendo 6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996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199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3520"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ame Cub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0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225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i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06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25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-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4505400" y="1752480"/>
            <a:ext cx="4572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TE: When entering the years in your list, change them to YEARS SINCE 1985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4505400" y="411012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r example, 1991 would be entered as 6 since it is 6 years since 1985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7200" y="1397160"/>
          <a:ext cx="3886200" cy="4566960"/>
        </p:xfrm>
        <a:graphic>
          <a:graphicData uri="http://schemas.openxmlformats.org/drawingml/2006/table">
            <a:tbl>
              <a:tblPr/>
              <a:tblGrid>
                <a:gridCol w="1828800"/>
                <a:gridCol w="990720"/>
                <a:gridCol w="1066680"/>
              </a:tblGrid>
              <a:tr h="803160"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ame System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Year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ic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ES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985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20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3160"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uper Nintendo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99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249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3160"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intendo 6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996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199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3520"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ame Cub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0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225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i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06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25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-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7200" y="1397160"/>
          <a:ext cx="3886200" cy="4566960"/>
        </p:xfrm>
        <a:graphic>
          <a:graphicData uri="http://schemas.openxmlformats.org/drawingml/2006/table">
            <a:tbl>
              <a:tblPr/>
              <a:tblGrid>
                <a:gridCol w="1828800"/>
                <a:gridCol w="990720"/>
                <a:gridCol w="1066680"/>
              </a:tblGrid>
              <a:tr h="803160"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ame System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Year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ic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ES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985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20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3160"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uper Nintendo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99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249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3160"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intendo 6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996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199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3520"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ame Cub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0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225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i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06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25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Rectangle 6"/>
          <p:cNvSpPr/>
          <p:nvPr/>
        </p:nvSpPr>
        <p:spPr>
          <a:xfrm>
            <a:off x="4343400" y="1371600"/>
            <a:ext cx="480996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rite the linear regression line for the Nintendo informatio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hat is the slope? What is the y-intercept?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Using your linear regression line, estimate the price of a new system if it were released in 2011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 what 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year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will the price of a newly released system be $277?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hat is Linear Regression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inear regression is also known as “line of best fit”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ou can estimate it by hand using a scatterplot and a rul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ou can get the exact line of best fit by using the LinReg function on your calculato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teps for Finding Linear Regression on the Calculator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Enter your information in a lis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Quit your list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ind the linear regression line by going to STAT then CALC then 8:LinReg(a+bx) then hit ENTER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ell your calculator where the information is (Ex. L1, L2)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Hit ENTER and plug in your values for </a:t>
            </a:r>
            <a:r>
              <a:rPr b="0" i="1" lang="en-US" sz="30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and </a:t>
            </a:r>
            <a:r>
              <a:rPr b="0" i="1" lang="en-US" sz="3000" spc="-1" strike="noStrike">
                <a:solidFill>
                  <a:srgbClr val="ffffff"/>
                </a:solidFill>
                <a:latin typeface="Calibri"/>
              </a:rPr>
              <a:t>b 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(Round values for </a:t>
            </a:r>
            <a:r>
              <a:rPr b="0" i="1" lang="en-US" sz="30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and </a:t>
            </a:r>
            <a:r>
              <a:rPr b="0" i="1" lang="en-US" sz="3000" spc="-1" strike="noStrike">
                <a:solidFill>
                  <a:srgbClr val="ffffff"/>
                </a:solidFill>
                <a:latin typeface="Calibri"/>
              </a:rPr>
              <a:t>b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to 2 decimal places.)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1417680"/>
          <a:ext cx="4114800" cy="4678200"/>
        </p:xfrm>
        <a:graphic>
          <a:graphicData uri="http://schemas.openxmlformats.org/drawingml/2006/table">
            <a:tbl>
              <a:tblPr/>
              <a:tblGrid>
                <a:gridCol w="2070000"/>
                <a:gridCol w="2044800"/>
              </a:tblGrid>
              <a:tr h="133020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come in 198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come in 199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77,900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121,200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852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102,000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174,900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155,000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255,200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960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76,200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126,200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124,300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200,400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TextBox 8"/>
          <p:cNvSpPr/>
          <p:nvPr/>
        </p:nvSpPr>
        <p:spPr>
          <a:xfrm>
            <a:off x="4952880" y="2475000"/>
            <a:ext cx="38862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table to the left gives the average income for different medical specialties for 1988 and 1994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57200" y="1417680"/>
          <a:ext cx="4114800" cy="4678200"/>
        </p:xfrm>
        <a:graphic>
          <a:graphicData uri="http://schemas.openxmlformats.org/drawingml/2006/table">
            <a:tbl>
              <a:tblPr/>
              <a:tblGrid>
                <a:gridCol w="2070000"/>
                <a:gridCol w="2044800"/>
              </a:tblGrid>
              <a:tr h="133020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come in 198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come in 199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77,900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121,200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852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102,000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174,900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155,000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255,200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960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76,200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126,200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124,300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200,400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TextBox 8"/>
          <p:cNvSpPr/>
          <p:nvPr/>
        </p:nvSpPr>
        <p:spPr>
          <a:xfrm>
            <a:off x="4800600" y="1676520"/>
            <a:ext cx="4191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rst, you’ll need to enter your information into a lis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4800600" y="3535200"/>
            <a:ext cx="4191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ut the Income in 1988 in L1 and the Income in 1994 in L2 then quit your list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TextBox 8"/>
          <p:cNvSpPr/>
          <p:nvPr/>
        </p:nvSpPr>
        <p:spPr>
          <a:xfrm>
            <a:off x="4800600" y="1676520"/>
            <a:ext cx="4191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ext, you need to hit STAT then go over to CALC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TextBox 4"/>
          <p:cNvSpPr/>
          <p:nvPr/>
        </p:nvSpPr>
        <p:spPr>
          <a:xfrm>
            <a:off x="4800600" y="3535200"/>
            <a:ext cx="4191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n go down to 8:LinReg(a+bx) and hit ENTER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7" name="Picture 5" descr="Picture 2.png"/>
          <p:cNvPicPr/>
          <p:nvPr/>
        </p:nvPicPr>
        <p:blipFill>
          <a:blip r:embed="rId2"/>
          <a:stretch/>
        </p:blipFill>
        <p:spPr>
          <a:xfrm>
            <a:off x="457200" y="1957320"/>
            <a:ext cx="4038480" cy="2995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Picture 3.png"/>
          <p:cNvPicPr/>
          <p:nvPr/>
        </p:nvPicPr>
        <p:blipFill>
          <a:blip r:embed="rId3"/>
          <a:stretch/>
        </p:blipFill>
        <p:spPr>
          <a:xfrm>
            <a:off x="457200" y="1957320"/>
            <a:ext cx="4046400" cy="2995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Picture 4.png"/>
          <p:cNvPicPr/>
          <p:nvPr/>
        </p:nvPicPr>
        <p:blipFill>
          <a:blip r:embed="rId4"/>
          <a:stretch/>
        </p:blipFill>
        <p:spPr>
          <a:xfrm>
            <a:off x="457200" y="1957320"/>
            <a:ext cx="406548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TextBox 8"/>
          <p:cNvSpPr/>
          <p:nvPr/>
        </p:nvSpPr>
        <p:spPr>
          <a:xfrm>
            <a:off x="4800600" y="167652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ou’ll see this scree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4800600" y="2362320"/>
            <a:ext cx="4191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ou need to tell the calculator where your information is. In this case, the x information is in L1 and the y information is L2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3" name="Picture 10" descr="Picture 5.png"/>
          <p:cNvPicPr/>
          <p:nvPr/>
        </p:nvPicPr>
        <p:blipFill>
          <a:blip r:embed="rId2"/>
          <a:stretch/>
        </p:blipFill>
        <p:spPr>
          <a:xfrm>
            <a:off x="457200" y="1981080"/>
            <a:ext cx="405432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TextBox 4"/>
          <p:cNvSpPr/>
          <p:nvPr/>
        </p:nvSpPr>
        <p:spPr>
          <a:xfrm>
            <a:off x="4800600" y="1676520"/>
            <a:ext cx="4191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it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1 then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mma (above the 7) then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2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6" name="Picture 10" descr="Picture 5.png"/>
          <p:cNvPicPr/>
          <p:nvPr/>
        </p:nvPicPr>
        <p:blipFill>
          <a:blip r:embed="rId2"/>
          <a:stretch/>
        </p:blipFill>
        <p:spPr>
          <a:xfrm>
            <a:off x="457200" y="1981080"/>
            <a:ext cx="4054320" cy="2995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Picture 6.png"/>
          <p:cNvPicPr/>
          <p:nvPr/>
        </p:nvPicPr>
        <p:blipFill>
          <a:blip r:embed="rId3"/>
          <a:stretch/>
        </p:blipFill>
        <p:spPr>
          <a:xfrm>
            <a:off x="457200" y="1981080"/>
            <a:ext cx="4054320" cy="3011760"/>
          </a:xfrm>
          <a:prstGeom prst="rect">
            <a:avLst/>
          </a:prstGeom>
          <a:ln w="0">
            <a:noFill/>
          </a:ln>
        </p:spPr>
      </p:pic>
      <p:sp>
        <p:nvSpPr>
          <p:cNvPr id="68" name="TextBox 9"/>
          <p:cNvSpPr/>
          <p:nvPr/>
        </p:nvSpPr>
        <p:spPr>
          <a:xfrm>
            <a:off x="4724280" y="3798720"/>
            <a:ext cx="434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it ENTER. You’ll see the values for 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and 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9" name="Picture 11" descr="Picture 7.png"/>
          <p:cNvPicPr/>
          <p:nvPr/>
        </p:nvPicPr>
        <p:blipFill>
          <a:blip r:embed="rId4"/>
          <a:stretch/>
        </p:blipFill>
        <p:spPr>
          <a:xfrm>
            <a:off x="457200" y="1981080"/>
            <a:ext cx="4067280" cy="30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4800600" y="1601640"/>
            <a:ext cx="4191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w all you need to do to find your line of best fit is plug in your values for 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and 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to the general equation for the lin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2" name="Picture 10" descr="Picture 5.png"/>
          <p:cNvPicPr/>
          <p:nvPr/>
        </p:nvPicPr>
        <p:blipFill>
          <a:blip r:embed="rId2"/>
          <a:stretch/>
        </p:blipFill>
        <p:spPr>
          <a:xfrm>
            <a:off x="457200" y="1981080"/>
            <a:ext cx="4054320" cy="29955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Picture 6.png"/>
          <p:cNvPicPr/>
          <p:nvPr/>
        </p:nvPicPr>
        <p:blipFill>
          <a:blip r:embed="rId3"/>
          <a:stretch/>
        </p:blipFill>
        <p:spPr>
          <a:xfrm>
            <a:off x="457200" y="1981080"/>
            <a:ext cx="4054320" cy="3011760"/>
          </a:xfrm>
          <a:prstGeom prst="rect">
            <a:avLst/>
          </a:prstGeom>
          <a:ln w="0">
            <a:noFill/>
          </a:ln>
        </p:spPr>
      </p:pic>
      <p:sp>
        <p:nvSpPr>
          <p:cNvPr id="74" name="TextBox 9"/>
          <p:cNvSpPr/>
          <p:nvPr/>
        </p:nvSpPr>
        <p:spPr>
          <a:xfrm>
            <a:off x="4724280" y="4941720"/>
            <a:ext cx="4343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on’t forget to round values for 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and 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to TWO decimal places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5" name="Picture 11" descr="Picture 7.png"/>
          <p:cNvPicPr/>
          <p:nvPr/>
        </p:nvPicPr>
        <p:blipFill>
          <a:blip r:embed="rId4"/>
          <a:stretch/>
        </p:blipFill>
        <p:spPr>
          <a:xfrm>
            <a:off x="457200" y="1981080"/>
            <a:ext cx="4067280" cy="30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3:47:56Z</dcterms:created>
  <dc:creator>Jennifer Dugan</dc:creator>
  <dc:description/>
  <dc:language>en-US</dc:language>
  <cp:lastModifiedBy>Jennifer Dugan</cp:lastModifiedBy>
  <dcterms:modified xsi:type="dcterms:W3CDTF">2010-02-16T13:53:20Z</dcterms:modified>
  <cp:revision>26</cp:revision>
  <dc:subject/>
  <dc:title>Linear Regression on the Calculator</dc:title>
</cp:coreProperties>
</file>