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ct" ContentType="image/x-pict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82AC-B086-4C38-9D45-A5047F3F9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F5CD-90E3-4917-A2EC-5F03C062D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CADF-D7B7-4D00-ACCF-C0C8C0EE4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E155-A8EF-4873-A701-8672DA7C9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B052-1516-4021-828E-AACEC6E1F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95AC-C9CE-41A0-8BC4-4DF453A5C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07FC-9B36-4167-B4EB-87BF2C72E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9BA5-0F32-4FF2-BDB9-610CF7764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ABE4-4BED-4841-A2C2-FD3FC45D5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1E39-62E5-480A-9394-F7208C901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C536-EBA3-4F3A-B930-614521A98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036F-90B8-4902-81B7-C92FC4668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40BF46-02A3-4653-892F-DDAB529D69AA}" type="datetime">
              <a:rPr b="0" lang="en-US" sz="1200" spc="-1" strike="noStrike">
                <a:solidFill>
                  <a:srgbClr val="ffffff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2F8C11-DDD0-4560-9ED2-774F8D12E69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8.pct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ct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ct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Linear Regression on the Calculator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Please view this tutorial and answer the follow-up questions on loose leaf to turn in to your teacher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xampl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TextBox 4"/>
          <p:cNvSpPr/>
          <p:nvPr/>
        </p:nvSpPr>
        <p:spPr>
          <a:xfrm>
            <a:off x="4800600" y="1295280"/>
            <a:ext cx="4191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 = -2525.06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 = 1.66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8" name="Picture 10" descr="Picture 5.png"/>
          <p:cNvPicPr/>
          <p:nvPr/>
        </p:nvPicPr>
        <p:blipFill>
          <a:blip r:embed="rId2"/>
          <a:stretch/>
        </p:blipFill>
        <p:spPr>
          <a:xfrm>
            <a:off x="457200" y="1981080"/>
            <a:ext cx="4054320" cy="29955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Picture 6.png"/>
          <p:cNvPicPr/>
          <p:nvPr/>
        </p:nvPicPr>
        <p:blipFill>
          <a:blip r:embed="rId3"/>
          <a:stretch/>
        </p:blipFill>
        <p:spPr>
          <a:xfrm>
            <a:off x="457200" y="1981080"/>
            <a:ext cx="4054320" cy="3011760"/>
          </a:xfrm>
          <a:prstGeom prst="rect">
            <a:avLst/>
          </a:prstGeom>
          <a:ln w="0">
            <a:noFill/>
          </a:ln>
        </p:spPr>
      </p:pic>
      <p:sp>
        <p:nvSpPr>
          <p:cNvPr id="80" name="TextBox 9"/>
          <p:cNvSpPr/>
          <p:nvPr/>
        </p:nvSpPr>
        <p:spPr>
          <a:xfrm>
            <a:off x="4724280" y="3124080"/>
            <a:ext cx="4343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o the equation of the line is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1" name="Picture 11" descr="Picture 7.png"/>
          <p:cNvPicPr/>
          <p:nvPr/>
        </p:nvPicPr>
        <p:blipFill>
          <a:blip r:embed="rId4"/>
          <a:stretch/>
        </p:blipFill>
        <p:spPr>
          <a:xfrm>
            <a:off x="457200" y="1981080"/>
            <a:ext cx="4067280" cy="301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2" name=""/>
          <p:cNvGraphicFramePr/>
          <p:nvPr/>
        </p:nvGraphicFramePr>
        <p:xfrm>
          <a:off x="4952880" y="4111560"/>
          <a:ext cx="3886200" cy="536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952880" y="4111560"/>
                    <a:ext cx="3886200" cy="53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Rectangle 8"/>
          <p:cNvSpPr/>
          <p:nvPr/>
        </p:nvSpPr>
        <p:spPr>
          <a:xfrm>
            <a:off x="4572000" y="2703600"/>
            <a:ext cx="4572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nce the general form of the equation is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y = </a:t>
            </a: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+ </a:t>
            </a: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x, </a:t>
            </a: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is your y-interecept and </a:t>
            </a: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is your slop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xampl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33520" y="5486400"/>
          <a:ext cx="3886200" cy="536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5486400"/>
                    <a:ext cx="3886200" cy="53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TextBox 8"/>
          <p:cNvSpPr/>
          <p:nvPr/>
        </p:nvSpPr>
        <p:spPr>
          <a:xfrm>
            <a:off x="5257800" y="1447920"/>
            <a:ext cx="3429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ow can we check that this line is a good fit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TextBox 12"/>
          <p:cNvSpPr/>
          <p:nvPr/>
        </p:nvSpPr>
        <p:spPr>
          <a:xfrm>
            <a:off x="4952880" y="3200400"/>
            <a:ext cx="40388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ake a scatterplot of the information on the calculator then graph the y= equation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0" name="Picture 13" descr="Picture 8.png"/>
          <p:cNvPicPr/>
          <p:nvPr/>
        </p:nvPicPr>
        <p:blipFill>
          <a:blip r:embed="rId4"/>
          <a:stretch/>
        </p:blipFill>
        <p:spPr>
          <a:xfrm>
            <a:off x="457200" y="1957320"/>
            <a:ext cx="4054320" cy="29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xampl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533520" y="5486400"/>
          <a:ext cx="3886200" cy="536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5486400"/>
                    <a:ext cx="3886200" cy="53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TextBox 8"/>
          <p:cNvSpPr/>
          <p:nvPr/>
        </p:nvSpPr>
        <p:spPr>
          <a:xfrm>
            <a:off x="4952880" y="1828800"/>
            <a:ext cx="38102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heck to see if the line touches some points, has some points above it and some points below it. This line is a great fit!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5" name="Picture 13" descr="Picture 8.png"/>
          <p:cNvPicPr/>
          <p:nvPr/>
        </p:nvPicPr>
        <p:blipFill>
          <a:blip r:embed="rId4"/>
          <a:stretch/>
        </p:blipFill>
        <p:spPr>
          <a:xfrm>
            <a:off x="457200" y="1957320"/>
            <a:ext cx="4054320" cy="29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xampl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TextBox 8"/>
          <p:cNvSpPr/>
          <p:nvPr/>
        </p:nvSpPr>
        <p:spPr>
          <a:xfrm>
            <a:off x="380880" y="1747800"/>
            <a:ext cx="38102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Once you have your line of best fit, you can use it to make estimation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TextBox 9"/>
          <p:cNvSpPr/>
          <p:nvPr/>
        </p:nvSpPr>
        <p:spPr>
          <a:xfrm>
            <a:off x="4876920" y="1484280"/>
            <a:ext cx="38098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r example, our problem was talking about income in 1988 versus the income in 1994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TextBox 5"/>
          <p:cNvSpPr/>
          <p:nvPr/>
        </p:nvSpPr>
        <p:spPr>
          <a:xfrm>
            <a:off x="457200" y="4637160"/>
            <a:ext cx="8305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f you earned $120,000 in 1988, how much could you expect to earn in 1994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xampl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TextBox 9"/>
          <p:cNvSpPr/>
          <p:nvPr/>
        </p:nvSpPr>
        <p:spPr>
          <a:xfrm>
            <a:off x="380880" y="1523880"/>
            <a:ext cx="38102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ype your equation in y= then find $120,000 in your x column by changing your TblStart to 120,000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2" name="Picture 10" descr="Picture 1.png"/>
          <p:cNvPicPr/>
          <p:nvPr/>
        </p:nvPicPr>
        <p:blipFill>
          <a:blip r:embed="rId2"/>
          <a:stretch/>
        </p:blipFill>
        <p:spPr>
          <a:xfrm>
            <a:off x="4419720" y="1447920"/>
            <a:ext cx="4419360" cy="3259080"/>
          </a:xfrm>
          <a:prstGeom prst="rect">
            <a:avLst/>
          </a:prstGeom>
          <a:ln w="0">
            <a:noFill/>
          </a:ln>
        </p:spPr>
      </p:pic>
      <p:sp>
        <p:nvSpPr>
          <p:cNvPr id="103" name="TextBox 11"/>
          <p:cNvSpPr/>
          <p:nvPr/>
        </p:nvSpPr>
        <p:spPr>
          <a:xfrm>
            <a:off x="380880" y="5257800"/>
            <a:ext cx="845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f you made $120,000 in 1988, you can expect to earn $196,675 in 1994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ollow-Up Ques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457200" y="266688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nswer the following questions on loose leaf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nd hand them in to your teacher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6" name="Picture 5" descr=""/>
          <p:cNvPicPr/>
          <p:nvPr/>
        </p:nvPicPr>
        <p:blipFill>
          <a:blip r:embed="rId2"/>
          <a:stretch/>
        </p:blipFill>
        <p:spPr>
          <a:xfrm>
            <a:off x="1676520" y="4044960"/>
            <a:ext cx="1796760" cy="26035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"/>
          <p:cNvPicPr/>
          <p:nvPr/>
        </p:nvPicPr>
        <p:blipFill>
          <a:blip r:embed="rId3"/>
          <a:stretch/>
        </p:blipFill>
        <p:spPr>
          <a:xfrm>
            <a:off x="4648320" y="4044960"/>
            <a:ext cx="3038400" cy="26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ollow-Up Ques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TextBox 4"/>
          <p:cNvSpPr/>
          <p:nvPr/>
        </p:nvSpPr>
        <p:spPr>
          <a:xfrm>
            <a:off x="4419720" y="1946160"/>
            <a:ext cx="46386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ere are the prices for different Nintendo game systems when they were first released. Answer the following questions based on this information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7200" y="1397160"/>
          <a:ext cx="3886200" cy="4566960"/>
        </p:xfrm>
        <a:graphic>
          <a:graphicData uri="http://schemas.openxmlformats.org/drawingml/2006/table">
            <a:tbl>
              <a:tblPr/>
              <a:tblGrid>
                <a:gridCol w="1828800"/>
                <a:gridCol w="990720"/>
                <a:gridCol w="1066680"/>
              </a:tblGrid>
              <a:tr h="803160">
                <a:tc>
                  <a:txBody>
                    <a:bodyPr lIns="10800" rIns="10800" tIns="108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ame System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800" marR="108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Year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0800" marR="108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ice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0800" marR="108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ES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0800" marR="108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985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0800" marR="108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$20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0800" marR="108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03160"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uper Nintendo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0800" marR="108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99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0800" marR="108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$249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0800" marR="108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03160"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intendo 64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0800" marR="108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996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0800" marR="108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$199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0800" marR="108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03520"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ame Cube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0800" marR="108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00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0800" marR="108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$225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0800" marR="108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ii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0800" marR="108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006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0800" marR="108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$25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0800" marR="108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ollow-Up Ques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4505400" y="1752480"/>
            <a:ext cx="4572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OTE: When entering the years in your list, change them to YEARS SINCE 1985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4505400" y="4110120"/>
            <a:ext cx="457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r example, 1991 would be entered as 6 since it is 6 years since 1985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7200" y="1397160"/>
          <a:ext cx="3886200" cy="4566960"/>
        </p:xfrm>
        <a:graphic>
          <a:graphicData uri="http://schemas.openxmlformats.org/drawingml/2006/table">
            <a:tbl>
              <a:tblPr/>
              <a:tblGrid>
                <a:gridCol w="1828800"/>
                <a:gridCol w="990720"/>
                <a:gridCol w="1066680"/>
              </a:tblGrid>
              <a:tr h="803160">
                <a:tc>
                  <a:txBody>
                    <a:bodyPr lIns="10800" rIns="10800" tIns="108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ame System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800" marR="108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Year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0800" marR="108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ice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0800" marR="108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ES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0800" marR="108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985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0800" marR="108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$20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0800" marR="108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03160"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uper Nintendo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0800" marR="108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99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0800" marR="108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$249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0800" marR="108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03160"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intendo 64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0800" marR="108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996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0800" marR="108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$199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0800" marR="108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03520"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ame Cube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0800" marR="108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00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0800" marR="108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$225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0800" marR="108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ii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0800" marR="108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006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0800" marR="108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$25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0800" marR="108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ollow-Up Ques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7200" y="1397160"/>
          <a:ext cx="3886200" cy="4566960"/>
        </p:xfrm>
        <a:graphic>
          <a:graphicData uri="http://schemas.openxmlformats.org/drawingml/2006/table">
            <a:tbl>
              <a:tblPr/>
              <a:tblGrid>
                <a:gridCol w="1828800"/>
                <a:gridCol w="990720"/>
                <a:gridCol w="1066680"/>
              </a:tblGrid>
              <a:tr h="803160">
                <a:tc>
                  <a:txBody>
                    <a:bodyPr lIns="10800" rIns="10800" tIns="108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ame System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800" marR="108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Year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0800" marR="108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ice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0800" marR="108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ES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0800" marR="108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985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0800" marR="108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$20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0800" marR="108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03160"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uper Nintendo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0800" marR="108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99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0800" marR="108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$249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0800" marR="108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03160"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intendo 64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0800" marR="108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996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0800" marR="108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$199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0800" marR="108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03520"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ame Cube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0800" marR="108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00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0800" marR="108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$225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0800" marR="108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ii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0800" marR="108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006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0800" marR="108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$25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0800" marR="108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" name="Rectangle 6"/>
          <p:cNvSpPr/>
          <p:nvPr/>
        </p:nvSpPr>
        <p:spPr>
          <a:xfrm>
            <a:off x="4343400" y="1371600"/>
            <a:ext cx="480996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Write the linear regression line for the Nintendo information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What is the slope? What is the y-intercept?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Using your linear regression line, estimate the price of a new system if it were released in 2011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n what </a:t>
            </a: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year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 will the price of a newly released system be $277?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What is Linear Regression?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inear regression is also known as “line of best fit”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You can estimate it by hand using a scatterplot and a rule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You can get the exact line of best fit by using the LinReg function on your calculato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Steps for Finding Linear Regression on the Calculator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Enter your information in a list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Quit your lists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Find the linear regression line by going to STAT then CALC then 8:LinReg(a+bx) then hit ENTER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Tell your calculator where the information is (Ex. L1, L2)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Hit ENTER and plug in your values for </a:t>
            </a:r>
            <a:r>
              <a:rPr b="0" i="1" lang="en-US" sz="30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 and </a:t>
            </a:r>
            <a:r>
              <a:rPr b="0" i="1" lang="en-US" sz="3000" spc="-1" strike="noStrike">
                <a:solidFill>
                  <a:srgbClr val="ffffff"/>
                </a:solidFill>
                <a:latin typeface="Calibri"/>
              </a:rPr>
              <a:t>b 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(Round values for </a:t>
            </a:r>
            <a:r>
              <a:rPr b="0" i="1" lang="en-US" sz="30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 and </a:t>
            </a:r>
            <a:r>
              <a:rPr b="0" i="1" lang="en-US" sz="3000" spc="-1" strike="noStrike">
                <a:solidFill>
                  <a:srgbClr val="ffffff"/>
                </a:solidFill>
                <a:latin typeface="Calibri"/>
              </a:rPr>
              <a:t>b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 to 2 decimal places.)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xampl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57200" y="1417680"/>
          <a:ext cx="4114800" cy="4678200"/>
        </p:xfrm>
        <a:graphic>
          <a:graphicData uri="http://schemas.openxmlformats.org/drawingml/2006/table">
            <a:tbl>
              <a:tblPr/>
              <a:tblGrid>
                <a:gridCol w="2070000"/>
                <a:gridCol w="2044800"/>
              </a:tblGrid>
              <a:tr h="133020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ncome in 198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ncome in 199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9960"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$77,900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2600" marR="126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$121,200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2600" marR="126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8520"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$102,000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2600" marR="126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$174,900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2600" marR="126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9960"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$155,000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2600" marR="126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$255,200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2600" marR="126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9600"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$76,200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2600" marR="126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$126,200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2600" marR="126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9960"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$124,300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2600" marR="126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$200,400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2600" marR="126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TextBox 8"/>
          <p:cNvSpPr/>
          <p:nvPr/>
        </p:nvSpPr>
        <p:spPr>
          <a:xfrm>
            <a:off x="4952880" y="2475000"/>
            <a:ext cx="38862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table to the left gives the average income for different medical specialties for 1988 and 1994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xampl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457200" y="1417680"/>
          <a:ext cx="4114800" cy="4678200"/>
        </p:xfrm>
        <a:graphic>
          <a:graphicData uri="http://schemas.openxmlformats.org/drawingml/2006/table">
            <a:tbl>
              <a:tblPr/>
              <a:tblGrid>
                <a:gridCol w="2070000"/>
                <a:gridCol w="2044800"/>
              </a:tblGrid>
              <a:tr h="133020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ncome in 198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ncome in 199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9960"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$77,900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2600" marR="126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$121,200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2600" marR="126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8520"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$102,000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2600" marR="126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$174,900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2600" marR="126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9960"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$155,000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2600" marR="126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$255,200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2600" marR="126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9600"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$76,200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2600" marR="126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$126,200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2600" marR="126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9960"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$124,300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2600" marR="126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$200,400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2600" marR="126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TextBox 8"/>
          <p:cNvSpPr/>
          <p:nvPr/>
        </p:nvSpPr>
        <p:spPr>
          <a:xfrm>
            <a:off x="4800600" y="1676520"/>
            <a:ext cx="4191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rst, you’ll need to enter your information into a list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TextBox 4"/>
          <p:cNvSpPr/>
          <p:nvPr/>
        </p:nvSpPr>
        <p:spPr>
          <a:xfrm>
            <a:off x="4800600" y="3535200"/>
            <a:ext cx="4191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ut the Income in 1988 in L1 and the Income in 1994 in L2 then quit your list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xampl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TextBox 8"/>
          <p:cNvSpPr/>
          <p:nvPr/>
        </p:nvSpPr>
        <p:spPr>
          <a:xfrm>
            <a:off x="4800600" y="1676520"/>
            <a:ext cx="4191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ext, you need to hit STAT then go over to CALC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TextBox 4"/>
          <p:cNvSpPr/>
          <p:nvPr/>
        </p:nvSpPr>
        <p:spPr>
          <a:xfrm>
            <a:off x="4800600" y="3535200"/>
            <a:ext cx="4191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n go down to 8:LinReg(a+bx) and hit ENTER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7" name="Picture 5" descr="Picture 2.png"/>
          <p:cNvPicPr/>
          <p:nvPr/>
        </p:nvPicPr>
        <p:blipFill>
          <a:blip r:embed="rId2"/>
          <a:stretch/>
        </p:blipFill>
        <p:spPr>
          <a:xfrm>
            <a:off x="457200" y="1957320"/>
            <a:ext cx="4038480" cy="29955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Picture 3.png"/>
          <p:cNvPicPr/>
          <p:nvPr/>
        </p:nvPicPr>
        <p:blipFill>
          <a:blip r:embed="rId3"/>
          <a:stretch/>
        </p:blipFill>
        <p:spPr>
          <a:xfrm>
            <a:off x="457200" y="1957320"/>
            <a:ext cx="4046400" cy="29955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9" descr="Picture 4.png"/>
          <p:cNvPicPr/>
          <p:nvPr/>
        </p:nvPicPr>
        <p:blipFill>
          <a:blip r:embed="rId4"/>
          <a:stretch/>
        </p:blipFill>
        <p:spPr>
          <a:xfrm>
            <a:off x="457200" y="1957320"/>
            <a:ext cx="4065480" cy="29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xampl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TextBox 8"/>
          <p:cNvSpPr/>
          <p:nvPr/>
        </p:nvSpPr>
        <p:spPr>
          <a:xfrm>
            <a:off x="4800600" y="1676520"/>
            <a:ext cx="41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You’ll see this screen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TextBox 4"/>
          <p:cNvSpPr/>
          <p:nvPr/>
        </p:nvSpPr>
        <p:spPr>
          <a:xfrm>
            <a:off x="4800600" y="2362320"/>
            <a:ext cx="41911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You need to tell the calculator where your information is. In this case, the x information is in L1 and the y information is L2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3" name="Picture 10" descr="Picture 5.png"/>
          <p:cNvPicPr/>
          <p:nvPr/>
        </p:nvPicPr>
        <p:blipFill>
          <a:blip r:embed="rId2"/>
          <a:stretch/>
        </p:blipFill>
        <p:spPr>
          <a:xfrm>
            <a:off x="457200" y="1981080"/>
            <a:ext cx="4054320" cy="29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xampl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TextBox 4"/>
          <p:cNvSpPr/>
          <p:nvPr/>
        </p:nvSpPr>
        <p:spPr>
          <a:xfrm>
            <a:off x="4800600" y="1676520"/>
            <a:ext cx="4191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it 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nd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1 then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omma (above the 7) then 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nd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2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6" name="Picture 10" descr="Picture 5.png"/>
          <p:cNvPicPr/>
          <p:nvPr/>
        </p:nvPicPr>
        <p:blipFill>
          <a:blip r:embed="rId2"/>
          <a:stretch/>
        </p:blipFill>
        <p:spPr>
          <a:xfrm>
            <a:off x="457200" y="1981080"/>
            <a:ext cx="4054320" cy="29955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Picture 6.png"/>
          <p:cNvPicPr/>
          <p:nvPr/>
        </p:nvPicPr>
        <p:blipFill>
          <a:blip r:embed="rId3"/>
          <a:stretch/>
        </p:blipFill>
        <p:spPr>
          <a:xfrm>
            <a:off x="457200" y="1981080"/>
            <a:ext cx="4054320" cy="3011760"/>
          </a:xfrm>
          <a:prstGeom prst="rect">
            <a:avLst/>
          </a:prstGeom>
          <a:ln w="0">
            <a:noFill/>
          </a:ln>
        </p:spPr>
      </p:pic>
      <p:sp>
        <p:nvSpPr>
          <p:cNvPr id="68" name="TextBox 9"/>
          <p:cNvSpPr/>
          <p:nvPr/>
        </p:nvSpPr>
        <p:spPr>
          <a:xfrm>
            <a:off x="4724280" y="3798720"/>
            <a:ext cx="4343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it ENTER. You’ll see the values for </a:t>
            </a: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and </a:t>
            </a: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9" name="Picture 11" descr="Picture 7.png"/>
          <p:cNvPicPr/>
          <p:nvPr/>
        </p:nvPicPr>
        <p:blipFill>
          <a:blip r:embed="rId4"/>
          <a:stretch/>
        </p:blipFill>
        <p:spPr>
          <a:xfrm>
            <a:off x="457200" y="1981080"/>
            <a:ext cx="4067280" cy="30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xampl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TextBox 4"/>
          <p:cNvSpPr/>
          <p:nvPr/>
        </p:nvSpPr>
        <p:spPr>
          <a:xfrm>
            <a:off x="4800600" y="1601640"/>
            <a:ext cx="41911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ow all you need to do to find your line of best fit is plug in your values for </a:t>
            </a: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and </a:t>
            </a: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to the general equation for the lin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2" name="Picture 10" descr="Picture 5.png"/>
          <p:cNvPicPr/>
          <p:nvPr/>
        </p:nvPicPr>
        <p:blipFill>
          <a:blip r:embed="rId2"/>
          <a:stretch/>
        </p:blipFill>
        <p:spPr>
          <a:xfrm>
            <a:off x="457200" y="1981080"/>
            <a:ext cx="4054320" cy="29955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" descr="Picture 6.png"/>
          <p:cNvPicPr/>
          <p:nvPr/>
        </p:nvPicPr>
        <p:blipFill>
          <a:blip r:embed="rId3"/>
          <a:stretch/>
        </p:blipFill>
        <p:spPr>
          <a:xfrm>
            <a:off x="457200" y="1981080"/>
            <a:ext cx="4054320" cy="3011760"/>
          </a:xfrm>
          <a:prstGeom prst="rect">
            <a:avLst/>
          </a:prstGeom>
          <a:ln w="0">
            <a:noFill/>
          </a:ln>
        </p:spPr>
      </p:pic>
      <p:sp>
        <p:nvSpPr>
          <p:cNvPr id="74" name="TextBox 9"/>
          <p:cNvSpPr/>
          <p:nvPr/>
        </p:nvSpPr>
        <p:spPr>
          <a:xfrm>
            <a:off x="4724280" y="4941720"/>
            <a:ext cx="4343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on’t forget to round values for </a:t>
            </a: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and </a:t>
            </a: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to TWO decimal places!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5" name="Picture 11" descr="Picture 7.png"/>
          <p:cNvPicPr/>
          <p:nvPr/>
        </p:nvPicPr>
        <p:blipFill>
          <a:blip r:embed="rId4"/>
          <a:stretch/>
        </p:blipFill>
        <p:spPr>
          <a:xfrm>
            <a:off x="457200" y="1981080"/>
            <a:ext cx="4067280" cy="30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6T13:47:56Z</dcterms:created>
  <dc:creator>Jennifer Dugan</dc:creator>
  <dc:description/>
  <dc:language>en-US</dc:language>
  <cp:lastModifiedBy>Jennifer Dugan</cp:lastModifiedBy>
  <dcterms:modified xsi:type="dcterms:W3CDTF">2010-02-16T13:53:20Z</dcterms:modified>
  <cp:revision>26</cp:revision>
  <dc:subject/>
  <dc:title>Linear Regression on the Calculator</dc:title>
</cp:coreProperties>
</file>