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11.pct" ContentType="image/x-pict"/>
  <Override PartName="/ppt/media/image12.pct" ContentType="image/x-pict"/>
  <Override PartName="/ppt/media/image7.pct" ContentType="image/x-pict"/>
  <Override PartName="/ppt/media/image37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31.pct" ContentType="image/x-pict"/>
  <Override PartName="/ppt/media/image29.pct" ContentType="image/x-pict"/>
  <Override PartName="/ppt/media/image6.pct" ContentType="image/x-pict"/>
  <Override PartName="/ppt/media/image36.pct" ContentType="image/x-pict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B35-9882-4B2D-94C9-CC5A4878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917-5DD1-4472-AC2F-C3BE2C23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AFB-831D-441C-B9C5-B2D66191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E1A-C065-4E95-AD26-A98227B7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E0C-0BD1-47AC-8541-7769A3E5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2F7-3F55-4629-8527-8731F333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8DB-45D6-4C80-A780-56416FD8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781-BD0C-451F-8800-1AEB0DF9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E50-2BEC-497D-9A55-509370B7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B37-3C1B-45E0-B850-975CC270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AA2-DA4B-4FB7-9529-E7603E67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5AB-ABC3-491E-9E11-30C98DD2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7E873-436C-414C-8D99-8C01D39403A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3CF63-5D35-49D7-8EBB-417B595958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ct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pct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pct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 and 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circle the next term that is not like the first. Circle any other terms that are “like terms” for th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is a constant (it does not have a variable) and it is the only term le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5181480" y="3505320"/>
            <a:ext cx="1447920" cy="1336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can combine the coefficients for each set of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5181480" y="3505320"/>
            <a:ext cx="1447920" cy="1336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124080" y="5299200"/>
          <a:ext cx="126216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299200"/>
                    <a:ext cx="12621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8320" y="5299200"/>
          <a:ext cx="90936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299200"/>
                    <a:ext cx="909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Left Brace 10"/>
          <p:cNvSpPr/>
          <p:nvPr/>
        </p:nvSpPr>
        <p:spPr>
          <a:xfrm rot="16200000">
            <a:off x="3526560" y="4096440"/>
            <a:ext cx="648000" cy="1757520"/>
          </a:xfrm>
          <a:custGeom>
            <a:avLst/>
            <a:gdLst>
              <a:gd name="textAreaLeft" fmla="*/ 414000 w 648000"/>
              <a:gd name="textAreaRight" fmla="*/ 648000 w 648000"/>
              <a:gd name="textAreaTop" fmla="*/ 16560 h 1757520"/>
              <a:gd name="textAreaBottom" fmla="*/ 1740960 h 17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2"/>
                  <a:pt x="10800" y="664"/>
                </a:cubicBezTo>
                <a:lnTo>
                  <a:pt x="10800" y="10136"/>
                </a:lnTo>
                <a:cubicBezTo>
                  <a:pt x="10800" y="10468"/>
                  <a:pt x="5400" y="10800"/>
                  <a:pt x="0" y="10800"/>
                </a:cubicBezTo>
                <a:cubicBezTo>
                  <a:pt x="5400" y="10800"/>
                  <a:pt x="10800" y="11132"/>
                  <a:pt x="10800" y="11464"/>
                </a:cubicBezTo>
                <a:lnTo>
                  <a:pt x="10800" y="20936"/>
                </a:lnTo>
                <a:cubicBezTo>
                  <a:pt x="10800" y="2126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6" name="Straight Arrow Connector 12"/>
          <p:cNvCxnSpPr/>
          <p:nvPr/>
        </p:nvCxnSpPr>
        <p:spPr>
          <a:xfrm flipH="1">
            <a:off x="5409720" y="4842000"/>
            <a:ext cx="148320" cy="457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the simplified version of the expression after you combine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124080" y="5299200"/>
          <a:ext cx="126216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299200"/>
                    <a:ext cx="12621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648320" y="5299200"/>
          <a:ext cx="90936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299200"/>
                    <a:ext cx="909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ounded Rectangle 11"/>
          <p:cNvSpPr/>
          <p:nvPr/>
        </p:nvSpPr>
        <p:spPr>
          <a:xfrm>
            <a:off x="2666880" y="5181480"/>
            <a:ext cx="3581640" cy="102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something a little bit more difficult. Group your like terms together before simplify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0280" y="3675240"/>
          <a:ext cx="8080200" cy="94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280" y="3675240"/>
                    <a:ext cx="80802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530280" y="3675240"/>
            <a:ext cx="1069920" cy="947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943600" y="3675240"/>
            <a:ext cx="1450800" cy="947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1600200" y="3505320"/>
            <a:ext cx="1600200" cy="127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4343400" y="3505320"/>
            <a:ext cx="1600200" cy="127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Isosceles Triangle 9"/>
          <p:cNvSpPr/>
          <p:nvPr/>
        </p:nvSpPr>
        <p:spPr>
          <a:xfrm>
            <a:off x="2895480" y="3235320"/>
            <a:ext cx="175284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Isosceles Triangle 10"/>
          <p:cNvSpPr/>
          <p:nvPr/>
        </p:nvSpPr>
        <p:spPr>
          <a:xfrm>
            <a:off x="7162920" y="320976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y and 2y are like terms because they each have a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5x and -7x are like terms because they eac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1371600" y="509436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and 6 are like terms because they are each constants (no variable with them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1371600" y="1477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, you’ll have the same variable raised to different pow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14"/>
          <p:cNvSpPr/>
          <p:nvPr/>
        </p:nvSpPr>
        <p:spPr>
          <a:xfrm>
            <a:off x="1523880" y="31240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NOT LIKE TERM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like terms because they both have an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like terms because they both have an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8 doesn’t have any other like terms because it is the only consta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Isosceles Triangle 9"/>
          <p:cNvSpPr/>
          <p:nvPr/>
        </p:nvSpPr>
        <p:spPr>
          <a:xfrm>
            <a:off x="6972480" y="358128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371600" y="19699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combine all your like terms to simplify the expres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Isosceles Triangle 9"/>
          <p:cNvSpPr/>
          <p:nvPr/>
        </p:nvSpPr>
        <p:spPr>
          <a:xfrm>
            <a:off x="6972480" y="358128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56000" y="5486400"/>
          <a:ext cx="16668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5486400"/>
                    <a:ext cx="1666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1" name="Straight Arrow Connector 13"/>
          <p:cNvCxnSpPr/>
          <p:nvPr/>
        </p:nvCxnSpPr>
        <p:spPr>
          <a:xfrm>
            <a:off x="1600200" y="4952880"/>
            <a:ext cx="1829520" cy="797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32" name="Straight Arrow Connector 16"/>
          <p:cNvCxnSpPr/>
          <p:nvPr/>
        </p:nvCxnSpPr>
        <p:spPr>
          <a:xfrm flipH="1">
            <a:off x="3504960" y="5028120"/>
            <a:ext cx="76248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33" name="Straight Arrow Connector 18"/>
          <p:cNvCxnSpPr/>
          <p:nvPr/>
        </p:nvCxnSpPr>
        <p:spPr>
          <a:xfrm>
            <a:off x="3200400" y="5146560"/>
            <a:ext cx="1829520" cy="797760"/>
          </a:xfrm>
          <a:prstGeom prst="straightConnector1">
            <a:avLst/>
          </a:prstGeom>
          <a:ln w="38160">
            <a:solidFill>
              <a:srgbClr val="ccffcc"/>
            </a:solidFill>
            <a:miter/>
            <a:tailEnd len="med" type="arrow" w="med"/>
          </a:ln>
        </p:spPr>
      </p:cxnSp>
      <p:cxnSp>
        <p:nvCxnSpPr>
          <p:cNvPr id="234" name="Straight Arrow Connector 21"/>
          <p:cNvCxnSpPr/>
          <p:nvPr/>
        </p:nvCxnSpPr>
        <p:spPr>
          <a:xfrm flipH="1">
            <a:off x="5028840" y="5143680"/>
            <a:ext cx="915120" cy="800640"/>
          </a:xfrm>
          <a:prstGeom prst="straightConnector1">
            <a:avLst/>
          </a:prstGeom>
          <a:ln w="38160">
            <a:solidFill>
              <a:srgbClr val="ccffcc"/>
            </a:solidFill>
            <a:miter/>
            <a:tailEnd len="med" type="arrow" w="med"/>
          </a:ln>
        </p:spPr>
      </p:cxnSp>
      <p:cxnSp>
        <p:nvCxnSpPr>
          <p:cNvPr id="235" name="Straight Arrow Connector 23"/>
          <p:cNvCxnSpPr/>
          <p:nvPr/>
        </p:nvCxnSpPr>
        <p:spPr>
          <a:xfrm flipH="1">
            <a:off x="6376680" y="5146560"/>
            <a:ext cx="1053360" cy="79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236" name=""/>
          <p:cNvGraphicFramePr/>
          <p:nvPr/>
        </p:nvGraphicFramePr>
        <p:xfrm>
          <a:off x="4267080" y="5772240"/>
          <a:ext cx="1020960" cy="64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772240"/>
                    <a:ext cx="10209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410080" y="5664240"/>
          <a:ext cx="966960" cy="75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0080" y="5664240"/>
                    <a:ext cx="9669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57200" y="1741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stributive property is used to simplify expressions with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457200" y="32004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multiply the term on the outside of the parenthesis by each term on the inside of the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2971800" y="509436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you are combining like terms, find terms with common variables (raised to the same power) then add the coefficien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ke sure you use the distributive property to get rid of any parenthesis before combining like ter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an expression is completely simplified, you will only have one of each term from the original expression (ex. 4x +2y – 5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this problem, you need to multiply 3 by each term on the inside of the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3519360"/>
          <a:ext cx="198108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19360"/>
                    <a:ext cx="1981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Curved Down Arrow 6"/>
          <p:cNvSpPr/>
          <p:nvPr/>
        </p:nvSpPr>
        <p:spPr>
          <a:xfrm>
            <a:off x="1523880" y="3048120"/>
            <a:ext cx="609840" cy="471240"/>
          </a:xfrm>
          <a:custGeom>
            <a:avLst/>
            <a:gdLst>
              <a:gd name="textAreaLeft" fmla="*/ 108000 w 609840"/>
              <a:gd name="textAreaRight" fmla="*/ 442800 w 60984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68" hR="21600" stAng="10800000" swAng="5400000"/>
                <a:lnTo>
                  <a:pt x="11845" y="0"/>
                </a:lnTo>
                <a:arcTo wR="7668" hR="21600" stAng="-5400000" swAng="3238143"/>
                <a:lnTo>
                  <a:pt x="21357" y="16200"/>
                </a:lnTo>
                <a:lnTo>
                  <a:pt x="17424" y="21600"/>
                </a:lnTo>
                <a:lnTo>
                  <a:pt x="13004" y="16200"/>
                </a:lnTo>
                <a:lnTo>
                  <a:pt x="15092" y="16200"/>
                </a:lnTo>
                <a:arcTo wR="7668" hR="21600" stAng="-2161857" swAng="-2893841"/>
                <a:lnTo>
                  <a:pt x="9756" y="817"/>
                </a:lnTo>
                <a:arcTo wR="7668" hR="21600" stAng="-5744301" swAng="-5055699"/>
                <a:close/>
              </a:path>
              <a:path fill="darkenLess" w="21600" h="21600">
                <a:moveTo>
                  <a:pt x="0" y="21600"/>
                </a:moveTo>
                <a:arcTo wR="7668" hR="21600" stAng="10800000" swAng="5400000"/>
                <a:lnTo>
                  <a:pt x="7668" y="0"/>
                </a:lnTo>
                <a:arcTo wR="7668" hR="21600" stAng="-5400000" swAng="344301"/>
                <a:lnTo>
                  <a:pt x="9756" y="817"/>
                </a:lnTo>
                <a:arcTo wR="7668" hR="21600" stAng="-5744301" swAng="-5055699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Curved Down Arrow 7"/>
          <p:cNvSpPr/>
          <p:nvPr/>
        </p:nvSpPr>
        <p:spPr>
          <a:xfrm>
            <a:off x="1523880" y="2743200"/>
            <a:ext cx="1447920" cy="776160"/>
          </a:xfrm>
          <a:custGeom>
            <a:avLst/>
            <a:gdLst>
              <a:gd name="textAreaLeft" fmla="*/ 289080 w 1447920"/>
              <a:gd name="textAreaRight" fmla="*/ 1061640 w 144792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29" hR="21600" stAng="10800000" swAng="5400000"/>
                <a:lnTo>
                  <a:pt x="11524" y="0"/>
                </a:lnTo>
                <a:arcTo wR="8629" hR="21600" stAng="-5400000" swAng="3427385"/>
                <a:lnTo>
                  <a:pt x="21326" y="16200"/>
                </a:lnTo>
                <a:lnTo>
                  <a:pt x="18705" y="21600"/>
                </a:lnTo>
                <a:lnTo>
                  <a:pt x="15535" y="16200"/>
                </a:lnTo>
                <a:lnTo>
                  <a:pt x="16983" y="16200"/>
                </a:lnTo>
                <a:arcTo wR="8629" hR="21600" stAng="-1972615" swAng="-3194056"/>
                <a:lnTo>
                  <a:pt x="10076" y="306"/>
                </a:lnTo>
                <a:arcTo wR="8629" hR="21600" stAng="-5633330" swAng="-5166670"/>
                <a:close/>
              </a:path>
              <a:path fill="darkenLess" w="21600" h="21600">
                <a:moveTo>
                  <a:pt x="0" y="21600"/>
                </a:moveTo>
                <a:arcTo wR="8629" hR="21600" stAng="10800000" swAng="5400000"/>
                <a:lnTo>
                  <a:pt x="8629" y="0"/>
                </a:lnTo>
                <a:arcTo wR="8629" hR="21600" stAng="-5400000" swAng="233330"/>
                <a:lnTo>
                  <a:pt x="10076" y="306"/>
                </a:lnTo>
                <a:arcTo wR="8629" hR="21600" stAng="-5633330" swAng="-516667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08040" y="4724280"/>
          <a:ext cx="70164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8040" y="472428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695680" y="4724280"/>
          <a:ext cx="42840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95680" y="4724280"/>
                    <a:ext cx="428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209680" y="4952880"/>
          <a:ext cx="468360" cy="35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09680" y="4952880"/>
                    <a:ext cx="468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Box 9"/>
          <p:cNvSpPr/>
          <p:nvPr/>
        </p:nvSpPr>
        <p:spPr>
          <a:xfrm>
            <a:off x="4419720" y="304812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will use this same method for each set of parenthesis in an expression or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09680" y="3519360"/>
          <a:ext cx="491184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519360"/>
                    <a:ext cx="4911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Curved Down Arrow 6"/>
          <p:cNvSpPr/>
          <p:nvPr/>
        </p:nvSpPr>
        <p:spPr>
          <a:xfrm>
            <a:off x="2438280" y="3048120"/>
            <a:ext cx="914400" cy="471240"/>
          </a:xfrm>
          <a:custGeom>
            <a:avLst/>
            <a:gdLst>
              <a:gd name="textAreaLeft" fmla="*/ 184320 w 914400"/>
              <a:gd name="textAreaRight" fmla="*/ 671040 w 91440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2" hR="21600" stAng="10800000" swAng="5400000"/>
                <a:lnTo>
                  <a:pt x="11497" y="0"/>
                </a:lnTo>
                <a:arcTo wR="8712" hR="21600" stAng="-5400000" swAng="3442359"/>
                <a:lnTo>
                  <a:pt x="21323" y="16200"/>
                </a:lnTo>
                <a:lnTo>
                  <a:pt x="18816" y="21600"/>
                </a:lnTo>
                <a:lnTo>
                  <a:pt x="15754" y="16200"/>
                </a:lnTo>
                <a:lnTo>
                  <a:pt x="17146" y="16200"/>
                </a:lnTo>
                <a:arcTo wR="8712" hR="21600" stAng="-1957641" swAng="-3218168"/>
                <a:lnTo>
                  <a:pt x="10104" y="278"/>
                </a:lnTo>
                <a:arcTo wR="8712" hR="21600" stAng="-5624192" swAng="-5175808"/>
                <a:close/>
              </a:path>
              <a:path fill="darkenLess" w="21600" h="21600">
                <a:moveTo>
                  <a:pt x="0" y="21600"/>
                </a:moveTo>
                <a:arcTo wR="8712" hR="21600" stAng="10800000" swAng="5400000"/>
                <a:lnTo>
                  <a:pt x="8712" y="0"/>
                </a:lnTo>
                <a:arcTo wR="8712" hR="21600" stAng="-5400000" swAng="224192"/>
                <a:lnTo>
                  <a:pt x="10104" y="278"/>
                </a:lnTo>
                <a:arcTo wR="8712" hR="21600" stAng="-5624192" swAng="-5175808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Curved Down Arrow 7"/>
          <p:cNvSpPr/>
          <p:nvPr/>
        </p:nvSpPr>
        <p:spPr>
          <a:xfrm>
            <a:off x="2438280" y="2743200"/>
            <a:ext cx="1828800" cy="776160"/>
          </a:xfrm>
          <a:custGeom>
            <a:avLst/>
            <a:gdLst>
              <a:gd name="textAreaLeft" fmla="*/ 384480 w 1828800"/>
              <a:gd name="textAreaRight" fmla="*/ 1347480 w 182880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81" hR="21600" stAng="10800000" swAng="5400000"/>
                <a:lnTo>
                  <a:pt x="11373" y="0"/>
                </a:lnTo>
                <a:arcTo wR="9081" hR="21600" stAng="-5400000" swAng="3506630"/>
                <a:lnTo>
                  <a:pt x="21312" y="16200"/>
                </a:lnTo>
                <a:lnTo>
                  <a:pt x="19308" y="21600"/>
                </a:lnTo>
                <a:lnTo>
                  <a:pt x="16728" y="16200"/>
                </a:lnTo>
                <a:lnTo>
                  <a:pt x="17874" y="16200"/>
                </a:lnTo>
                <a:arcTo wR="9081" hR="21600" stAng="-1893370" swAng="-3322944"/>
                <a:lnTo>
                  <a:pt x="10227" y="173"/>
                </a:lnTo>
                <a:arcTo wR="9081" hR="21600" stAng="-5583687" swAng="-5216313"/>
                <a:close/>
              </a:path>
              <a:path fill="darkenLess" w="21600" h="21600">
                <a:moveTo>
                  <a:pt x="0" y="21600"/>
                </a:moveTo>
                <a:arcTo wR="9081" hR="21600" stAng="10800000" swAng="5400000"/>
                <a:lnTo>
                  <a:pt x="9081" y="0"/>
                </a:lnTo>
                <a:arcTo wR="9081" hR="21600" stAng="-5400000" swAng="183687"/>
                <a:lnTo>
                  <a:pt x="10227" y="173"/>
                </a:lnTo>
                <a:arcTo wR="9081" hR="21600" stAng="-5583687" swAng="-5216313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651040" y="4419720"/>
          <a:ext cx="70164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51040" y="441972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62520" y="4406760"/>
          <a:ext cx="42840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4406760"/>
                    <a:ext cx="428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429000" y="4484520"/>
          <a:ext cx="46836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29000" y="4484520"/>
                    <a:ext cx="468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45720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 each set of parenthesis separately and then combine like terms to find the simplified expres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Curved Down Arrow 10"/>
          <p:cNvSpPr/>
          <p:nvPr/>
        </p:nvSpPr>
        <p:spPr>
          <a:xfrm>
            <a:off x="4800600" y="3048120"/>
            <a:ext cx="914400" cy="471240"/>
          </a:xfrm>
          <a:custGeom>
            <a:avLst/>
            <a:gdLst>
              <a:gd name="textAreaLeft" fmla="*/ 184320 w 914400"/>
              <a:gd name="textAreaRight" fmla="*/ 671040 w 91440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2" hR="21600" stAng="10800000" swAng="5400000"/>
                <a:lnTo>
                  <a:pt x="11497" y="0"/>
                </a:lnTo>
                <a:arcTo wR="8712" hR="21600" stAng="-5400000" swAng="3442359"/>
                <a:lnTo>
                  <a:pt x="21323" y="16200"/>
                </a:lnTo>
                <a:lnTo>
                  <a:pt x="18816" y="21600"/>
                </a:lnTo>
                <a:lnTo>
                  <a:pt x="15754" y="16200"/>
                </a:lnTo>
                <a:lnTo>
                  <a:pt x="17146" y="16200"/>
                </a:lnTo>
                <a:arcTo wR="8712" hR="21600" stAng="-1957641" swAng="-3218168"/>
                <a:lnTo>
                  <a:pt x="10104" y="278"/>
                </a:lnTo>
                <a:arcTo wR="8712" hR="21600" stAng="-5624192" swAng="-5175808"/>
                <a:close/>
              </a:path>
              <a:path fill="darkenLess" w="21600" h="21600">
                <a:moveTo>
                  <a:pt x="0" y="21600"/>
                </a:moveTo>
                <a:arcTo wR="8712" hR="21600" stAng="10800000" swAng="5400000"/>
                <a:lnTo>
                  <a:pt x="8712" y="0"/>
                </a:lnTo>
                <a:arcTo wR="8712" hR="21600" stAng="-5400000" swAng="224192"/>
                <a:lnTo>
                  <a:pt x="10104" y="278"/>
                </a:lnTo>
                <a:arcTo wR="8712" hR="21600" stAng="-5624192" swAng="-5175808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Curved Down Arrow 11"/>
          <p:cNvSpPr/>
          <p:nvPr/>
        </p:nvSpPr>
        <p:spPr>
          <a:xfrm>
            <a:off x="4800600" y="2819520"/>
            <a:ext cx="1828800" cy="776160"/>
          </a:xfrm>
          <a:custGeom>
            <a:avLst/>
            <a:gdLst>
              <a:gd name="textAreaLeft" fmla="*/ 384480 w 1828800"/>
              <a:gd name="textAreaRight" fmla="*/ 1347480 w 182880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81" hR="21600" stAng="10800000" swAng="5400000"/>
                <a:lnTo>
                  <a:pt x="11373" y="0"/>
                </a:lnTo>
                <a:arcTo wR="9081" hR="21600" stAng="-5400000" swAng="3506630"/>
                <a:lnTo>
                  <a:pt x="21312" y="16200"/>
                </a:lnTo>
                <a:lnTo>
                  <a:pt x="19308" y="21600"/>
                </a:lnTo>
                <a:lnTo>
                  <a:pt x="16728" y="16200"/>
                </a:lnTo>
                <a:lnTo>
                  <a:pt x="17874" y="16200"/>
                </a:lnTo>
                <a:arcTo wR="9081" hR="21600" stAng="-1893370" swAng="-3322944"/>
                <a:lnTo>
                  <a:pt x="10227" y="173"/>
                </a:lnTo>
                <a:arcTo wR="9081" hR="21600" stAng="-5583687" swAng="-5216313"/>
                <a:close/>
              </a:path>
              <a:path fill="darkenLess" w="21600" h="21600">
                <a:moveTo>
                  <a:pt x="0" y="21600"/>
                </a:moveTo>
                <a:arcTo wR="9081" hR="21600" stAng="10800000" swAng="5400000"/>
                <a:lnTo>
                  <a:pt x="9081" y="0"/>
                </a:lnTo>
                <a:arcTo wR="9081" hR="21600" stAng="-5400000" swAng="183687"/>
                <a:lnTo>
                  <a:pt x="10227" y="173"/>
                </a:lnTo>
                <a:arcTo wR="9081" hR="21600" stAng="-5583687" swAng="-5216313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952880" y="4406760"/>
          <a:ext cx="70164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440676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408560" y="4602240"/>
          <a:ext cx="468360" cy="35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08560" y="4602240"/>
                    <a:ext cx="46836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856120" y="4484520"/>
          <a:ext cx="468360" cy="468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56120" y="4484520"/>
                    <a:ext cx="468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424560" y="4419720"/>
          <a:ext cx="66204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24560" y="4419720"/>
                    <a:ext cx="662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809880" y="5257800"/>
          <a:ext cx="175284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09880" y="5257800"/>
                    <a:ext cx="1752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510000" y="3519360"/>
          <a:ext cx="231120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10000" y="3519360"/>
                    <a:ext cx="2311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Curved Down Arrow 6"/>
          <p:cNvSpPr/>
          <p:nvPr/>
        </p:nvSpPr>
        <p:spPr>
          <a:xfrm>
            <a:off x="3809880" y="3124080"/>
            <a:ext cx="685800" cy="471600"/>
          </a:xfrm>
          <a:custGeom>
            <a:avLst/>
            <a:gdLst>
              <a:gd name="textAreaLeft" fmla="*/ 127080 w 685800"/>
              <a:gd name="textAreaRight" fmla="*/ 499680 w 685800"/>
              <a:gd name="textAreaTop" fmla="*/ 63000 h 471600"/>
              <a:gd name="textAreaBottom" fmla="*/ 408600 h 4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6" hR="21600" stAng="10800000" swAng="5400000"/>
                <a:lnTo>
                  <a:pt x="11729" y="0"/>
                </a:lnTo>
                <a:arcTo wR="8016" hR="21600" stAng="-5400000" swAng="3310214"/>
                <a:lnTo>
                  <a:pt x="21345" y="16200"/>
                </a:lnTo>
                <a:lnTo>
                  <a:pt x="17888" y="21600"/>
                </a:lnTo>
                <a:lnTo>
                  <a:pt x="13920" y="16200"/>
                </a:lnTo>
                <a:lnTo>
                  <a:pt x="15776" y="16200"/>
                </a:lnTo>
                <a:arcTo wR="8016" hR="21600" stAng="-2089786" swAng="-3007270"/>
                <a:lnTo>
                  <a:pt x="9872" y="587"/>
                </a:lnTo>
                <a:arcTo wR="8016" hR="21600" stAng="-5702944" swAng="-5097056"/>
                <a:close/>
              </a:path>
              <a:path fill="darkenLess" w="21600" h="21600">
                <a:moveTo>
                  <a:pt x="0" y="21600"/>
                </a:moveTo>
                <a:arcTo wR="8016" hR="21600" stAng="10800000" swAng="5400000"/>
                <a:lnTo>
                  <a:pt x="8016" y="0"/>
                </a:lnTo>
                <a:arcTo wR="8016" hR="21600" stAng="-5400000" swAng="302944"/>
                <a:lnTo>
                  <a:pt x="9872" y="587"/>
                </a:lnTo>
                <a:arcTo wR="8016" hR="21600" stAng="-5702944" swAng="-5097056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Curved Down Arrow 7"/>
          <p:cNvSpPr/>
          <p:nvPr/>
        </p:nvSpPr>
        <p:spPr>
          <a:xfrm>
            <a:off x="3733920" y="2805120"/>
            <a:ext cx="1752480" cy="776160"/>
          </a:xfrm>
          <a:custGeom>
            <a:avLst/>
            <a:gdLst>
              <a:gd name="textAreaLeft" fmla="*/ 365400 w 1752480"/>
              <a:gd name="textAreaRight" fmla="*/ 1290240 w 175248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6" hR="21600" stAng="10800000" swAng="5400000"/>
                <a:lnTo>
                  <a:pt x="11398" y="0"/>
                </a:lnTo>
                <a:arcTo wR="9006" hR="21600" stAng="-5400000" swAng="3493892"/>
                <a:lnTo>
                  <a:pt x="21314" y="16200"/>
                </a:lnTo>
                <a:lnTo>
                  <a:pt x="19208" y="21600"/>
                </a:lnTo>
                <a:lnTo>
                  <a:pt x="16530" y="16200"/>
                </a:lnTo>
                <a:lnTo>
                  <a:pt x="17726" y="16200"/>
                </a:lnTo>
                <a:arcTo wR="9006" hR="21600" stAng="-1906108" swAng="-3302041"/>
                <a:lnTo>
                  <a:pt x="10202" y="191"/>
                </a:lnTo>
                <a:arcTo wR="9006" hR="21600" stAng="-5591851" swAng="-5208149"/>
                <a:close/>
              </a:path>
              <a:path fill="darkenLess" w="21600" h="21600">
                <a:moveTo>
                  <a:pt x="0" y="21600"/>
                </a:moveTo>
                <a:arcTo wR="9006" hR="21600" stAng="10800000" swAng="5400000"/>
                <a:lnTo>
                  <a:pt x="9006" y="0"/>
                </a:lnTo>
                <a:arcTo wR="9006" hR="21600" stAng="-5400000" swAng="191851"/>
                <a:lnTo>
                  <a:pt x="10202" y="191"/>
                </a:lnTo>
                <a:arcTo wR="9006" hR="21600" stAng="-5591851" swAng="-5208149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9880" y="4483080"/>
          <a:ext cx="97488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483080"/>
                    <a:ext cx="974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257800" y="4470480"/>
          <a:ext cx="42876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4470480"/>
                    <a:ext cx="428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724280" y="4606920"/>
          <a:ext cx="468360" cy="35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4606920"/>
                    <a:ext cx="468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Box 9"/>
          <p:cNvSpPr/>
          <p:nvPr/>
        </p:nvSpPr>
        <p:spPr>
          <a:xfrm>
            <a:off x="45720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have an expression with just a negative sign in front of the parenthesis, assume it is -1 and distribu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219320" y="1587600"/>
          <a:ext cx="228276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587600"/>
                    <a:ext cx="2282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295280" y="2502000"/>
          <a:ext cx="2014560" cy="46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502000"/>
                    <a:ext cx="2014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219320" y="3392640"/>
          <a:ext cx="3289320" cy="56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3392640"/>
                    <a:ext cx="3289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27240" y="4459320"/>
          <a:ext cx="372564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27240" y="4459320"/>
                    <a:ext cx="37256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219320" y="5549760"/>
          <a:ext cx="5070240" cy="56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5549760"/>
                    <a:ext cx="50702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9"/>
          <p:cNvSpPr/>
          <p:nvPr/>
        </p:nvSpPr>
        <p:spPr>
          <a:xfrm>
            <a:off x="574560" y="15796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74560" y="24940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609480" y="35053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3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650880" y="447516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4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685800" y="55627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5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554120" y="1562040"/>
          <a:ext cx="164628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562040"/>
                    <a:ext cx="1646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374840" y="2452680"/>
          <a:ext cx="2282760" cy="56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4840" y="2452680"/>
                    <a:ext cx="22827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47920" y="3343320"/>
          <a:ext cx="1779480" cy="66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343320"/>
                    <a:ext cx="1779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295280" y="4459320"/>
          <a:ext cx="396108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4459320"/>
                    <a:ext cx="3961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538280" y="5549760"/>
          <a:ext cx="4432320" cy="56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38280" y="5549760"/>
                    <a:ext cx="4432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9"/>
          <p:cNvSpPr/>
          <p:nvPr/>
        </p:nvSpPr>
        <p:spPr>
          <a:xfrm>
            <a:off x="574560" y="15796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6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574560" y="24940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7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609480" y="35053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8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650880" y="447516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9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533520" y="5562720"/>
            <a:ext cx="79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to pick out the “like terms” from the list bel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x and -2x are like terms because they bot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xy and -7xy are like terms because they both have an x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5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like terms because they bot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y and y are like terms because they both have a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590920" y="14778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 proble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1371600" y="1477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strategy to solve this problem is to box things that are like ter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both 3x and -4x have an x, they are considered “like terms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6:58:03Z</dcterms:created>
  <dc:creator>Jennifer Dugan</dc:creator>
  <dc:description/>
  <dc:language>en-US</dc:language>
  <cp:lastModifiedBy>Jennifer Dugan</cp:lastModifiedBy>
  <dcterms:modified xsi:type="dcterms:W3CDTF">2010-07-13T16:59:08Z</dcterms:modified>
  <cp:revision>33</cp:revision>
  <dc:subject/>
  <dc:title>Combining Like Terms and Distributive Property</dc:title>
</cp:coreProperties>
</file>