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11.pct" ContentType="image/x-pict"/>
  <Override PartName="/ppt/media/image12.pct" ContentType="image/x-pict"/>
  <Override PartName="/ppt/media/image7.pct" ContentType="image/x-pict"/>
  <Override PartName="/ppt/media/image37.pct" ContentType="image/x-pict"/>
  <Override PartName="/ppt/media/image13.pct" ContentType="image/x-pict"/>
  <Override PartName="/ppt/media/image8.pct" ContentType="image/x-pict"/>
  <Override PartName="/ppt/media/image38.pct" ContentType="image/x-pict"/>
  <Override PartName="/ppt/media/image40.pct" ContentType="image/x-pict"/>
  <Override PartName="/ppt/media/image9.pct" ContentType="image/x-pict"/>
  <Override PartName="/ppt/media/image39.pct" ContentType="image/x-pict"/>
  <Override PartName="/ppt/media/image41.pct" ContentType="image/x-pict"/>
  <Override PartName="/ppt/media/image30.pct" ContentType="image/x-pict"/>
  <Override PartName="/ppt/media/image28.pct" ContentType="image/x-pict"/>
  <Override PartName="/ppt/media/image31.pct" ContentType="image/x-pict"/>
  <Override PartName="/ppt/media/image29.pct" ContentType="image/x-pict"/>
  <Override PartName="/ppt/media/image6.pct" ContentType="image/x-pict"/>
  <Override PartName="/ppt/media/image36.pct" ContentType="image/x-pict"/>
  <Override PartName="/ppt/media/image10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468-F759-4FE6-A3A4-EEE0468A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99E-D181-4820-82A1-2D88E697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7DC-0F9F-4F58-8106-AC36B081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E15-B7D5-490C-9879-6C2792D2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2A5-D851-4AF4-B31F-E827A529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CE4B-C48C-4B60-B080-B0C27701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242-0A7E-490C-B017-2DBF3D89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228-2328-477E-9AE3-594BE8AA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EF0-A840-41A5-B859-F3DACCC7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F0C-C017-4FCD-83F0-0060EE94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BCC-34D3-46B4-A34C-23FB37DF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631-6F1A-4B9B-B515-3E34772F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C4752-AB4A-4F2C-82A1-476FBED2A29D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03262-1CC2-480D-B594-67684D7BA6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pct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ct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5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8.pct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ct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pct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.pct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 and 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1371600" y="14778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circle the next term that is not like the first. Circle any other terms that are “like terms” for th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5"/>
          <p:cNvSpPr/>
          <p:nvPr/>
        </p:nvSpPr>
        <p:spPr>
          <a:xfrm>
            <a:off x="2590920" y="3759120"/>
            <a:ext cx="99036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581280" y="3759120"/>
            <a:ext cx="160020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1371600" y="5094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is a constant (it does not have a variable) and it is the only term le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5181480" y="3505320"/>
            <a:ext cx="1447920" cy="1336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371600" y="14778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you can combine the coefficients for each set of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5"/>
          <p:cNvSpPr/>
          <p:nvPr/>
        </p:nvSpPr>
        <p:spPr>
          <a:xfrm>
            <a:off x="2590920" y="3759120"/>
            <a:ext cx="99036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581280" y="3759120"/>
            <a:ext cx="160020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5181480" y="3505320"/>
            <a:ext cx="1447920" cy="1336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124080" y="5299200"/>
          <a:ext cx="1262160" cy="77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299200"/>
                    <a:ext cx="12621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648320" y="5299200"/>
          <a:ext cx="909360" cy="7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5299200"/>
                    <a:ext cx="9093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Left Brace 10"/>
          <p:cNvSpPr/>
          <p:nvPr/>
        </p:nvSpPr>
        <p:spPr>
          <a:xfrm rot="16200000">
            <a:off x="3526560" y="4096440"/>
            <a:ext cx="648000" cy="1757520"/>
          </a:xfrm>
          <a:custGeom>
            <a:avLst/>
            <a:gdLst>
              <a:gd name="textAreaLeft" fmla="*/ 414000 w 648000"/>
              <a:gd name="textAreaRight" fmla="*/ 648000 w 648000"/>
              <a:gd name="textAreaTop" fmla="*/ 16560 h 1757520"/>
              <a:gd name="textAreaBottom" fmla="*/ 1740960 h 17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2"/>
                  <a:pt x="10800" y="664"/>
                </a:cubicBezTo>
                <a:lnTo>
                  <a:pt x="10800" y="10136"/>
                </a:lnTo>
                <a:cubicBezTo>
                  <a:pt x="10800" y="10468"/>
                  <a:pt x="5400" y="10800"/>
                  <a:pt x="0" y="10800"/>
                </a:cubicBezTo>
                <a:cubicBezTo>
                  <a:pt x="5400" y="10800"/>
                  <a:pt x="10800" y="11132"/>
                  <a:pt x="10800" y="11464"/>
                </a:cubicBezTo>
                <a:lnTo>
                  <a:pt x="10800" y="20936"/>
                </a:lnTo>
                <a:cubicBezTo>
                  <a:pt x="10800" y="2126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6" name="Straight Arrow Connector 12"/>
          <p:cNvCxnSpPr/>
          <p:nvPr/>
        </p:nvCxnSpPr>
        <p:spPr>
          <a:xfrm flipH="1">
            <a:off x="5409720" y="4842000"/>
            <a:ext cx="148320" cy="457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371600" y="14778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the simplified version of the expression after you combine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124080" y="5299200"/>
          <a:ext cx="1262160" cy="77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299200"/>
                    <a:ext cx="12621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648320" y="5299200"/>
          <a:ext cx="909360" cy="7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5299200"/>
                    <a:ext cx="9093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ounded Rectangle 11"/>
          <p:cNvSpPr/>
          <p:nvPr/>
        </p:nvSpPr>
        <p:spPr>
          <a:xfrm>
            <a:off x="2666880" y="5181480"/>
            <a:ext cx="3581640" cy="102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371600" y="14778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something a little bit more difficult. Group your like terms together before simplify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0280" y="3675240"/>
          <a:ext cx="8080200" cy="94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0280" y="3675240"/>
                    <a:ext cx="808020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5"/>
          <p:cNvSpPr/>
          <p:nvPr/>
        </p:nvSpPr>
        <p:spPr>
          <a:xfrm>
            <a:off x="530280" y="3675240"/>
            <a:ext cx="1069920" cy="947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5943600" y="3675240"/>
            <a:ext cx="1450800" cy="947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1600200" y="3505320"/>
            <a:ext cx="1600200" cy="1277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4343400" y="3505320"/>
            <a:ext cx="1600200" cy="1277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Isosceles Triangle 9"/>
          <p:cNvSpPr/>
          <p:nvPr/>
        </p:nvSpPr>
        <p:spPr>
          <a:xfrm>
            <a:off x="2895480" y="3235320"/>
            <a:ext cx="1752840" cy="1413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Isosceles Triangle 10"/>
          <p:cNvSpPr/>
          <p:nvPr/>
        </p:nvSpPr>
        <p:spPr>
          <a:xfrm>
            <a:off x="7162920" y="3209760"/>
            <a:ext cx="1752480" cy="1413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1371600" y="5094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y and 2y are like terms because they each have a 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1371600" y="5094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5x and -7x are like terms because they each have a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1371600" y="509436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and 6 are like terms because they are each constants (no variable with them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1371600" y="1477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, you’ll have the same variable raised to different pow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14"/>
          <p:cNvSpPr/>
          <p:nvPr/>
        </p:nvSpPr>
        <p:spPr>
          <a:xfrm>
            <a:off x="1523880" y="31240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ARE NOT LIKE TERM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1371600" y="1477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find our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Box 14"/>
          <p:cNvSpPr/>
          <p:nvPr/>
        </p:nvSpPr>
        <p:spPr>
          <a:xfrm>
            <a:off x="1523880" y="22860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are like terms because they both have an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752400" y="3929040"/>
            <a:ext cx="122868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657600" y="3929040"/>
            <a:ext cx="190512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1371600" y="1477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find our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Box 14"/>
          <p:cNvSpPr/>
          <p:nvPr/>
        </p:nvSpPr>
        <p:spPr>
          <a:xfrm>
            <a:off x="1523880" y="22860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are like terms because they both have an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752400" y="3929040"/>
            <a:ext cx="122868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657600" y="3929040"/>
            <a:ext cx="190512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205740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556272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1371600" y="1477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find our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Box 14"/>
          <p:cNvSpPr/>
          <p:nvPr/>
        </p:nvSpPr>
        <p:spPr>
          <a:xfrm>
            <a:off x="1523880" y="22860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8 doesn’t have any other like terms because it is the only consta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752400" y="3929040"/>
            <a:ext cx="122868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657600" y="3929040"/>
            <a:ext cx="190512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05740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556272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Isosceles Triangle 9"/>
          <p:cNvSpPr/>
          <p:nvPr/>
        </p:nvSpPr>
        <p:spPr>
          <a:xfrm>
            <a:off x="6972480" y="3581280"/>
            <a:ext cx="1752480" cy="1413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1371600" y="196992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combine all your like terms to simplify the express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5"/>
          <p:cNvSpPr/>
          <p:nvPr/>
        </p:nvSpPr>
        <p:spPr>
          <a:xfrm>
            <a:off x="752400" y="3929040"/>
            <a:ext cx="122868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3657600" y="3929040"/>
            <a:ext cx="190512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05740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556272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Isosceles Triangle 9"/>
          <p:cNvSpPr/>
          <p:nvPr/>
        </p:nvSpPr>
        <p:spPr>
          <a:xfrm>
            <a:off x="6972480" y="3581280"/>
            <a:ext cx="1752480" cy="1413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56000" y="5486400"/>
          <a:ext cx="16668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6000" y="5486400"/>
                    <a:ext cx="1666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31" name="Straight Arrow Connector 13"/>
          <p:cNvCxnSpPr/>
          <p:nvPr/>
        </p:nvCxnSpPr>
        <p:spPr>
          <a:xfrm>
            <a:off x="1600200" y="4952880"/>
            <a:ext cx="1829520" cy="7977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32" name="Straight Arrow Connector 16"/>
          <p:cNvCxnSpPr/>
          <p:nvPr/>
        </p:nvCxnSpPr>
        <p:spPr>
          <a:xfrm flipH="1">
            <a:off x="3504960" y="5028120"/>
            <a:ext cx="762480" cy="686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33" name="Straight Arrow Connector 18"/>
          <p:cNvCxnSpPr/>
          <p:nvPr/>
        </p:nvCxnSpPr>
        <p:spPr>
          <a:xfrm>
            <a:off x="3200400" y="5146560"/>
            <a:ext cx="1829520" cy="797760"/>
          </a:xfrm>
          <a:prstGeom prst="straightConnector1">
            <a:avLst/>
          </a:prstGeom>
          <a:ln w="38160">
            <a:solidFill>
              <a:srgbClr val="ccffcc"/>
            </a:solidFill>
            <a:miter/>
            <a:tailEnd len="med" type="arrow" w="med"/>
          </a:ln>
        </p:spPr>
      </p:cxnSp>
      <p:cxnSp>
        <p:nvCxnSpPr>
          <p:cNvPr id="234" name="Straight Arrow Connector 21"/>
          <p:cNvCxnSpPr/>
          <p:nvPr/>
        </p:nvCxnSpPr>
        <p:spPr>
          <a:xfrm flipH="1">
            <a:off x="5028840" y="5143680"/>
            <a:ext cx="915120" cy="800640"/>
          </a:xfrm>
          <a:prstGeom prst="straightConnector1">
            <a:avLst/>
          </a:prstGeom>
          <a:ln w="38160">
            <a:solidFill>
              <a:srgbClr val="ccffcc"/>
            </a:solidFill>
            <a:miter/>
            <a:tailEnd len="med" type="arrow" w="med"/>
          </a:ln>
        </p:spPr>
      </p:cxnSp>
      <p:cxnSp>
        <p:nvCxnSpPr>
          <p:cNvPr id="235" name="Straight Arrow Connector 23"/>
          <p:cNvCxnSpPr/>
          <p:nvPr/>
        </p:nvCxnSpPr>
        <p:spPr>
          <a:xfrm flipH="1">
            <a:off x="6376680" y="5146560"/>
            <a:ext cx="1053360" cy="797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236" name=""/>
          <p:cNvGraphicFramePr/>
          <p:nvPr/>
        </p:nvGraphicFramePr>
        <p:xfrm>
          <a:off x="4267080" y="5772240"/>
          <a:ext cx="1020960" cy="646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772240"/>
                    <a:ext cx="10209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410080" y="5664240"/>
          <a:ext cx="966960" cy="754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10080" y="5664240"/>
                    <a:ext cx="9669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457200" y="1741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istributive property is used to simplify expressions with parenthe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457200" y="32004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multiply the term on the outside of the parenthesis by each term on the inside of the parenthe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2971800" y="509436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an examp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hen you are combining like terms, find terms with common variables (raised to the same power) then add the coefficien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ke sure you use the distributive property to get rid of any parenthesis before combining like term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hen an expression is completely simplified, you will only have one of each term from the original expression (ex. 4x +2y – 5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this problem, you need to multiply 3 by each term on the inside of the parenthe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371600" y="3519360"/>
          <a:ext cx="198108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519360"/>
                    <a:ext cx="19810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Curved Down Arrow 6"/>
          <p:cNvSpPr/>
          <p:nvPr/>
        </p:nvSpPr>
        <p:spPr>
          <a:xfrm>
            <a:off x="1523880" y="3048120"/>
            <a:ext cx="609840" cy="471240"/>
          </a:xfrm>
          <a:custGeom>
            <a:avLst/>
            <a:gdLst>
              <a:gd name="textAreaLeft" fmla="*/ 108000 w 609840"/>
              <a:gd name="textAreaRight" fmla="*/ 442800 w 609840"/>
              <a:gd name="textAreaTop" fmla="*/ 63000 h 471240"/>
              <a:gd name="textAreaBottom" fmla="*/ 408240 h 47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68" hR="21600" stAng="10800000" swAng="5400000"/>
                <a:lnTo>
                  <a:pt x="11845" y="0"/>
                </a:lnTo>
                <a:arcTo wR="7668" hR="21600" stAng="-5400000" swAng="3238143"/>
                <a:lnTo>
                  <a:pt x="21357" y="16200"/>
                </a:lnTo>
                <a:lnTo>
                  <a:pt x="17424" y="21600"/>
                </a:lnTo>
                <a:lnTo>
                  <a:pt x="13004" y="16200"/>
                </a:lnTo>
                <a:lnTo>
                  <a:pt x="15092" y="16200"/>
                </a:lnTo>
                <a:arcTo wR="7668" hR="21600" stAng="-2161857" swAng="-2893841"/>
                <a:lnTo>
                  <a:pt x="9756" y="817"/>
                </a:lnTo>
                <a:arcTo wR="7668" hR="21600" stAng="-5744301" swAng="-5055699"/>
                <a:close/>
              </a:path>
              <a:path fill="darkenLess" w="21600" h="21600">
                <a:moveTo>
                  <a:pt x="0" y="21600"/>
                </a:moveTo>
                <a:arcTo wR="7668" hR="21600" stAng="10800000" swAng="5400000"/>
                <a:lnTo>
                  <a:pt x="7668" y="0"/>
                </a:lnTo>
                <a:arcTo wR="7668" hR="21600" stAng="-5400000" swAng="344301"/>
                <a:lnTo>
                  <a:pt x="9756" y="817"/>
                </a:lnTo>
                <a:arcTo wR="7668" hR="21600" stAng="-5744301" swAng="-5055699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Curved Down Arrow 7"/>
          <p:cNvSpPr/>
          <p:nvPr/>
        </p:nvSpPr>
        <p:spPr>
          <a:xfrm>
            <a:off x="1523880" y="2743200"/>
            <a:ext cx="1447920" cy="776160"/>
          </a:xfrm>
          <a:custGeom>
            <a:avLst/>
            <a:gdLst>
              <a:gd name="textAreaLeft" fmla="*/ 289080 w 1447920"/>
              <a:gd name="textAreaRight" fmla="*/ 1061640 w 1447920"/>
              <a:gd name="textAreaTop" fmla="*/ 103680 h 776160"/>
              <a:gd name="textAreaBottom" fmla="*/ 6724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29" hR="21600" stAng="10800000" swAng="5400000"/>
                <a:lnTo>
                  <a:pt x="11524" y="0"/>
                </a:lnTo>
                <a:arcTo wR="8629" hR="21600" stAng="-5400000" swAng="3427385"/>
                <a:lnTo>
                  <a:pt x="21326" y="16200"/>
                </a:lnTo>
                <a:lnTo>
                  <a:pt x="18705" y="21600"/>
                </a:lnTo>
                <a:lnTo>
                  <a:pt x="15535" y="16200"/>
                </a:lnTo>
                <a:lnTo>
                  <a:pt x="16983" y="16200"/>
                </a:lnTo>
                <a:arcTo wR="8629" hR="21600" stAng="-1972615" swAng="-3194056"/>
                <a:lnTo>
                  <a:pt x="10076" y="306"/>
                </a:lnTo>
                <a:arcTo wR="8629" hR="21600" stAng="-5633330" swAng="-5166670"/>
                <a:close/>
              </a:path>
              <a:path fill="darkenLess" w="21600" h="21600">
                <a:moveTo>
                  <a:pt x="0" y="21600"/>
                </a:moveTo>
                <a:arcTo wR="8629" hR="21600" stAng="10800000" swAng="5400000"/>
                <a:lnTo>
                  <a:pt x="8629" y="0"/>
                </a:lnTo>
                <a:arcTo wR="8629" hR="21600" stAng="-5400000" swAng="233330"/>
                <a:lnTo>
                  <a:pt x="10076" y="306"/>
                </a:lnTo>
                <a:arcTo wR="8629" hR="21600" stAng="-5633330" swAng="-516667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508040" y="4724280"/>
          <a:ext cx="70164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08040" y="4724280"/>
                    <a:ext cx="701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695680" y="4724280"/>
          <a:ext cx="42840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95680" y="4724280"/>
                    <a:ext cx="4284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2209680" y="4952880"/>
          <a:ext cx="468360" cy="351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09680" y="4952880"/>
                    <a:ext cx="4683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Box 9"/>
          <p:cNvSpPr/>
          <p:nvPr/>
        </p:nvSpPr>
        <p:spPr>
          <a:xfrm>
            <a:off x="4419720" y="304812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will use this same method for each set of parenthesis in an expression or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209680" y="3519360"/>
          <a:ext cx="491184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519360"/>
                    <a:ext cx="49118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Curved Down Arrow 6"/>
          <p:cNvSpPr/>
          <p:nvPr/>
        </p:nvSpPr>
        <p:spPr>
          <a:xfrm>
            <a:off x="2438280" y="3048120"/>
            <a:ext cx="914400" cy="471240"/>
          </a:xfrm>
          <a:custGeom>
            <a:avLst/>
            <a:gdLst>
              <a:gd name="textAreaLeft" fmla="*/ 184320 w 914400"/>
              <a:gd name="textAreaRight" fmla="*/ 671040 w 914400"/>
              <a:gd name="textAreaTop" fmla="*/ 63000 h 471240"/>
              <a:gd name="textAreaBottom" fmla="*/ 408240 h 47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2" hR="21600" stAng="10800000" swAng="5400000"/>
                <a:lnTo>
                  <a:pt x="11497" y="0"/>
                </a:lnTo>
                <a:arcTo wR="8712" hR="21600" stAng="-5400000" swAng="3442359"/>
                <a:lnTo>
                  <a:pt x="21323" y="16200"/>
                </a:lnTo>
                <a:lnTo>
                  <a:pt x="18816" y="21600"/>
                </a:lnTo>
                <a:lnTo>
                  <a:pt x="15754" y="16200"/>
                </a:lnTo>
                <a:lnTo>
                  <a:pt x="17146" y="16200"/>
                </a:lnTo>
                <a:arcTo wR="8712" hR="21600" stAng="-1957641" swAng="-3218168"/>
                <a:lnTo>
                  <a:pt x="10104" y="278"/>
                </a:lnTo>
                <a:arcTo wR="8712" hR="21600" stAng="-5624192" swAng="-5175808"/>
                <a:close/>
              </a:path>
              <a:path fill="darkenLess" w="21600" h="21600">
                <a:moveTo>
                  <a:pt x="0" y="21600"/>
                </a:moveTo>
                <a:arcTo wR="8712" hR="21600" stAng="10800000" swAng="5400000"/>
                <a:lnTo>
                  <a:pt x="8712" y="0"/>
                </a:lnTo>
                <a:arcTo wR="8712" hR="21600" stAng="-5400000" swAng="224192"/>
                <a:lnTo>
                  <a:pt x="10104" y="278"/>
                </a:lnTo>
                <a:arcTo wR="8712" hR="21600" stAng="-5624192" swAng="-5175808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Curved Down Arrow 7"/>
          <p:cNvSpPr/>
          <p:nvPr/>
        </p:nvSpPr>
        <p:spPr>
          <a:xfrm>
            <a:off x="2438280" y="2743200"/>
            <a:ext cx="1828800" cy="776160"/>
          </a:xfrm>
          <a:custGeom>
            <a:avLst/>
            <a:gdLst>
              <a:gd name="textAreaLeft" fmla="*/ 384480 w 1828800"/>
              <a:gd name="textAreaRight" fmla="*/ 1347480 w 1828800"/>
              <a:gd name="textAreaTop" fmla="*/ 103680 h 776160"/>
              <a:gd name="textAreaBottom" fmla="*/ 6724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81" hR="21600" stAng="10800000" swAng="5400000"/>
                <a:lnTo>
                  <a:pt x="11373" y="0"/>
                </a:lnTo>
                <a:arcTo wR="9081" hR="21600" stAng="-5400000" swAng="3506630"/>
                <a:lnTo>
                  <a:pt x="21312" y="16200"/>
                </a:lnTo>
                <a:lnTo>
                  <a:pt x="19308" y="21600"/>
                </a:lnTo>
                <a:lnTo>
                  <a:pt x="16728" y="16200"/>
                </a:lnTo>
                <a:lnTo>
                  <a:pt x="17874" y="16200"/>
                </a:lnTo>
                <a:arcTo wR="9081" hR="21600" stAng="-1893370" swAng="-3322944"/>
                <a:lnTo>
                  <a:pt x="10227" y="173"/>
                </a:lnTo>
                <a:arcTo wR="9081" hR="21600" stAng="-5583687" swAng="-5216313"/>
                <a:close/>
              </a:path>
              <a:path fill="darkenLess" w="21600" h="21600">
                <a:moveTo>
                  <a:pt x="0" y="21600"/>
                </a:moveTo>
                <a:arcTo wR="9081" hR="21600" stAng="10800000" swAng="5400000"/>
                <a:lnTo>
                  <a:pt x="9081" y="0"/>
                </a:lnTo>
                <a:arcTo wR="9081" hR="21600" stAng="-5400000" swAng="183687"/>
                <a:lnTo>
                  <a:pt x="10227" y="173"/>
                </a:lnTo>
                <a:arcTo wR="9081" hR="21600" stAng="-5583687" swAng="-5216313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651040" y="4419720"/>
          <a:ext cx="70164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51040" y="4419720"/>
                    <a:ext cx="701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62520" y="4406760"/>
          <a:ext cx="42840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2520" y="4406760"/>
                    <a:ext cx="4284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429000" y="4484520"/>
          <a:ext cx="468360" cy="46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29000" y="4484520"/>
                    <a:ext cx="4683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Box 9"/>
          <p:cNvSpPr/>
          <p:nvPr/>
        </p:nvSpPr>
        <p:spPr>
          <a:xfrm>
            <a:off x="457200" y="1295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ke each set of parenthesis separately and then combine like terms to find the simplified express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Curved Down Arrow 10"/>
          <p:cNvSpPr/>
          <p:nvPr/>
        </p:nvSpPr>
        <p:spPr>
          <a:xfrm>
            <a:off x="4800600" y="3048120"/>
            <a:ext cx="914400" cy="471240"/>
          </a:xfrm>
          <a:custGeom>
            <a:avLst/>
            <a:gdLst>
              <a:gd name="textAreaLeft" fmla="*/ 184320 w 914400"/>
              <a:gd name="textAreaRight" fmla="*/ 671040 w 914400"/>
              <a:gd name="textAreaTop" fmla="*/ 63000 h 471240"/>
              <a:gd name="textAreaBottom" fmla="*/ 408240 h 47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2" hR="21600" stAng="10800000" swAng="5400000"/>
                <a:lnTo>
                  <a:pt x="11497" y="0"/>
                </a:lnTo>
                <a:arcTo wR="8712" hR="21600" stAng="-5400000" swAng="3442359"/>
                <a:lnTo>
                  <a:pt x="21323" y="16200"/>
                </a:lnTo>
                <a:lnTo>
                  <a:pt x="18816" y="21600"/>
                </a:lnTo>
                <a:lnTo>
                  <a:pt x="15754" y="16200"/>
                </a:lnTo>
                <a:lnTo>
                  <a:pt x="17146" y="16200"/>
                </a:lnTo>
                <a:arcTo wR="8712" hR="21600" stAng="-1957641" swAng="-3218168"/>
                <a:lnTo>
                  <a:pt x="10104" y="278"/>
                </a:lnTo>
                <a:arcTo wR="8712" hR="21600" stAng="-5624192" swAng="-5175808"/>
                <a:close/>
              </a:path>
              <a:path fill="darkenLess" w="21600" h="21600">
                <a:moveTo>
                  <a:pt x="0" y="21600"/>
                </a:moveTo>
                <a:arcTo wR="8712" hR="21600" stAng="10800000" swAng="5400000"/>
                <a:lnTo>
                  <a:pt x="8712" y="0"/>
                </a:lnTo>
                <a:arcTo wR="8712" hR="21600" stAng="-5400000" swAng="224192"/>
                <a:lnTo>
                  <a:pt x="10104" y="278"/>
                </a:lnTo>
                <a:arcTo wR="8712" hR="21600" stAng="-5624192" swAng="-5175808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Curved Down Arrow 11"/>
          <p:cNvSpPr/>
          <p:nvPr/>
        </p:nvSpPr>
        <p:spPr>
          <a:xfrm>
            <a:off x="4800600" y="2819520"/>
            <a:ext cx="1828800" cy="776160"/>
          </a:xfrm>
          <a:custGeom>
            <a:avLst/>
            <a:gdLst>
              <a:gd name="textAreaLeft" fmla="*/ 384480 w 1828800"/>
              <a:gd name="textAreaRight" fmla="*/ 1347480 w 1828800"/>
              <a:gd name="textAreaTop" fmla="*/ 103680 h 776160"/>
              <a:gd name="textAreaBottom" fmla="*/ 6724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81" hR="21600" stAng="10800000" swAng="5400000"/>
                <a:lnTo>
                  <a:pt x="11373" y="0"/>
                </a:lnTo>
                <a:arcTo wR="9081" hR="21600" stAng="-5400000" swAng="3506630"/>
                <a:lnTo>
                  <a:pt x="21312" y="16200"/>
                </a:lnTo>
                <a:lnTo>
                  <a:pt x="19308" y="21600"/>
                </a:lnTo>
                <a:lnTo>
                  <a:pt x="16728" y="16200"/>
                </a:lnTo>
                <a:lnTo>
                  <a:pt x="17874" y="16200"/>
                </a:lnTo>
                <a:arcTo wR="9081" hR="21600" stAng="-1893370" swAng="-3322944"/>
                <a:lnTo>
                  <a:pt x="10227" y="173"/>
                </a:lnTo>
                <a:arcTo wR="9081" hR="21600" stAng="-5583687" swAng="-5216313"/>
                <a:close/>
              </a:path>
              <a:path fill="darkenLess" w="21600" h="21600">
                <a:moveTo>
                  <a:pt x="0" y="21600"/>
                </a:moveTo>
                <a:arcTo wR="9081" hR="21600" stAng="10800000" swAng="5400000"/>
                <a:lnTo>
                  <a:pt x="9081" y="0"/>
                </a:lnTo>
                <a:arcTo wR="9081" hR="21600" stAng="-5400000" swAng="183687"/>
                <a:lnTo>
                  <a:pt x="10227" y="173"/>
                </a:lnTo>
                <a:arcTo wR="9081" hR="21600" stAng="-5583687" swAng="-5216313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952880" y="4406760"/>
          <a:ext cx="701640" cy="54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52880" y="4406760"/>
                    <a:ext cx="701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408560" y="4602240"/>
          <a:ext cx="468360" cy="350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08560" y="4602240"/>
                    <a:ext cx="46836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5856120" y="4484520"/>
          <a:ext cx="468360" cy="468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56120" y="4484520"/>
                    <a:ext cx="4683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6424560" y="4419720"/>
          <a:ext cx="66204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424560" y="4419720"/>
                    <a:ext cx="662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809880" y="5257800"/>
          <a:ext cx="1752840" cy="546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809880" y="5257800"/>
                    <a:ext cx="1752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510000" y="3519360"/>
          <a:ext cx="231120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10000" y="3519360"/>
                    <a:ext cx="23112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Curved Down Arrow 6"/>
          <p:cNvSpPr/>
          <p:nvPr/>
        </p:nvSpPr>
        <p:spPr>
          <a:xfrm>
            <a:off x="3809880" y="3124080"/>
            <a:ext cx="685800" cy="471600"/>
          </a:xfrm>
          <a:custGeom>
            <a:avLst/>
            <a:gdLst>
              <a:gd name="textAreaLeft" fmla="*/ 127080 w 685800"/>
              <a:gd name="textAreaRight" fmla="*/ 499680 w 685800"/>
              <a:gd name="textAreaTop" fmla="*/ 63000 h 471600"/>
              <a:gd name="textAreaBottom" fmla="*/ 408600 h 4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6" hR="21600" stAng="10800000" swAng="5400000"/>
                <a:lnTo>
                  <a:pt x="11729" y="0"/>
                </a:lnTo>
                <a:arcTo wR="8016" hR="21600" stAng="-5400000" swAng="3310214"/>
                <a:lnTo>
                  <a:pt x="21345" y="16200"/>
                </a:lnTo>
                <a:lnTo>
                  <a:pt x="17888" y="21600"/>
                </a:lnTo>
                <a:lnTo>
                  <a:pt x="13920" y="16200"/>
                </a:lnTo>
                <a:lnTo>
                  <a:pt x="15776" y="16200"/>
                </a:lnTo>
                <a:arcTo wR="8016" hR="21600" stAng="-2089786" swAng="-3007270"/>
                <a:lnTo>
                  <a:pt x="9872" y="587"/>
                </a:lnTo>
                <a:arcTo wR="8016" hR="21600" stAng="-5702944" swAng="-5097056"/>
                <a:close/>
              </a:path>
              <a:path fill="darkenLess" w="21600" h="21600">
                <a:moveTo>
                  <a:pt x="0" y="21600"/>
                </a:moveTo>
                <a:arcTo wR="8016" hR="21600" stAng="10800000" swAng="5400000"/>
                <a:lnTo>
                  <a:pt x="8016" y="0"/>
                </a:lnTo>
                <a:arcTo wR="8016" hR="21600" stAng="-5400000" swAng="302944"/>
                <a:lnTo>
                  <a:pt x="9872" y="587"/>
                </a:lnTo>
                <a:arcTo wR="8016" hR="21600" stAng="-5702944" swAng="-5097056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Curved Down Arrow 7"/>
          <p:cNvSpPr/>
          <p:nvPr/>
        </p:nvSpPr>
        <p:spPr>
          <a:xfrm>
            <a:off x="3733920" y="2805120"/>
            <a:ext cx="1752480" cy="776160"/>
          </a:xfrm>
          <a:custGeom>
            <a:avLst/>
            <a:gdLst>
              <a:gd name="textAreaLeft" fmla="*/ 365400 w 1752480"/>
              <a:gd name="textAreaRight" fmla="*/ 1290240 w 1752480"/>
              <a:gd name="textAreaTop" fmla="*/ 103680 h 776160"/>
              <a:gd name="textAreaBottom" fmla="*/ 6724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6" hR="21600" stAng="10800000" swAng="5400000"/>
                <a:lnTo>
                  <a:pt x="11398" y="0"/>
                </a:lnTo>
                <a:arcTo wR="9006" hR="21600" stAng="-5400000" swAng="3493892"/>
                <a:lnTo>
                  <a:pt x="21314" y="16200"/>
                </a:lnTo>
                <a:lnTo>
                  <a:pt x="19208" y="21600"/>
                </a:lnTo>
                <a:lnTo>
                  <a:pt x="16530" y="16200"/>
                </a:lnTo>
                <a:lnTo>
                  <a:pt x="17726" y="16200"/>
                </a:lnTo>
                <a:arcTo wR="9006" hR="21600" stAng="-1906108" swAng="-3302041"/>
                <a:lnTo>
                  <a:pt x="10202" y="191"/>
                </a:lnTo>
                <a:arcTo wR="9006" hR="21600" stAng="-5591851" swAng="-5208149"/>
                <a:close/>
              </a:path>
              <a:path fill="darkenLess" w="21600" h="21600">
                <a:moveTo>
                  <a:pt x="0" y="21600"/>
                </a:moveTo>
                <a:arcTo wR="9006" hR="21600" stAng="10800000" swAng="5400000"/>
                <a:lnTo>
                  <a:pt x="9006" y="0"/>
                </a:lnTo>
                <a:arcTo wR="9006" hR="21600" stAng="-5400000" swAng="191851"/>
                <a:lnTo>
                  <a:pt x="10202" y="191"/>
                </a:lnTo>
                <a:arcTo wR="9006" hR="21600" stAng="-5591851" swAng="-5208149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9880" y="4483080"/>
          <a:ext cx="97488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483080"/>
                    <a:ext cx="9748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257800" y="4470480"/>
          <a:ext cx="42876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4470480"/>
                    <a:ext cx="428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724280" y="4606920"/>
          <a:ext cx="468360" cy="351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24280" y="4606920"/>
                    <a:ext cx="4683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TextBox 9"/>
          <p:cNvSpPr/>
          <p:nvPr/>
        </p:nvSpPr>
        <p:spPr>
          <a:xfrm>
            <a:off x="457200" y="1295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 have an expression with just a negative sign in front of the parenthesis, assume it is -1 and distribu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219320" y="1587600"/>
          <a:ext cx="228276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587600"/>
                    <a:ext cx="22827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1295280" y="2502000"/>
          <a:ext cx="2014560" cy="46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2502000"/>
                    <a:ext cx="2014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1219320" y="3392640"/>
          <a:ext cx="3289320" cy="569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3392640"/>
                    <a:ext cx="32893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227240" y="4459320"/>
          <a:ext cx="3725640" cy="569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27240" y="4459320"/>
                    <a:ext cx="37256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1219320" y="5549760"/>
          <a:ext cx="5070240" cy="569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5549760"/>
                    <a:ext cx="50702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Box 9"/>
          <p:cNvSpPr/>
          <p:nvPr/>
        </p:nvSpPr>
        <p:spPr>
          <a:xfrm>
            <a:off x="574560" y="157968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574560" y="249408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TextBox 12"/>
          <p:cNvSpPr/>
          <p:nvPr/>
        </p:nvSpPr>
        <p:spPr>
          <a:xfrm>
            <a:off x="609480" y="350532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3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650880" y="447516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4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extBox 14"/>
          <p:cNvSpPr/>
          <p:nvPr/>
        </p:nvSpPr>
        <p:spPr>
          <a:xfrm>
            <a:off x="685800" y="556272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5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554120" y="1562040"/>
          <a:ext cx="1646280" cy="5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562040"/>
                    <a:ext cx="16462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374840" y="2452680"/>
          <a:ext cx="2282760" cy="56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4840" y="2452680"/>
                    <a:ext cx="22827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447920" y="3343320"/>
          <a:ext cx="1779480" cy="66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343320"/>
                    <a:ext cx="17794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1295280" y="4459320"/>
          <a:ext cx="3961080" cy="569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5280" y="4459320"/>
                    <a:ext cx="39610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1538280" y="5549760"/>
          <a:ext cx="4432320" cy="569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38280" y="5549760"/>
                    <a:ext cx="44323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Box 9"/>
          <p:cNvSpPr/>
          <p:nvPr/>
        </p:nvSpPr>
        <p:spPr>
          <a:xfrm>
            <a:off x="574560" y="157968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6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11"/>
          <p:cNvSpPr/>
          <p:nvPr/>
        </p:nvSpPr>
        <p:spPr>
          <a:xfrm>
            <a:off x="574560" y="249408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7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TextBox 12"/>
          <p:cNvSpPr/>
          <p:nvPr/>
        </p:nvSpPr>
        <p:spPr>
          <a:xfrm>
            <a:off x="609480" y="350532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8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TextBox 13"/>
          <p:cNvSpPr/>
          <p:nvPr/>
        </p:nvSpPr>
        <p:spPr>
          <a:xfrm>
            <a:off x="650880" y="447516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9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TextBox 14"/>
          <p:cNvSpPr/>
          <p:nvPr/>
        </p:nvSpPr>
        <p:spPr>
          <a:xfrm>
            <a:off x="533520" y="5562720"/>
            <a:ext cx="79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0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to pick out the “like terms” from the list below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x and -2x are like terms because they both have a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8xy and -7xy are like terms because they both have an x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5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like terms because they both have a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y and y are like terms because they both have a 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590920" y="1477800"/>
            <a:ext cx="37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an example problem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1371600" y="1477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e strategy to solve this problem is to box things that are like term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5"/>
          <p:cNvSpPr/>
          <p:nvPr/>
        </p:nvSpPr>
        <p:spPr>
          <a:xfrm>
            <a:off x="2590920" y="3759120"/>
            <a:ext cx="99036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581280" y="3759120"/>
            <a:ext cx="160020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1371600" y="5094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both 3x and -4x have an x, they are considered “like terms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6:58:03Z</dcterms:created>
  <dc:creator>Jennifer Dugan</dc:creator>
  <dc:description/>
  <dc:language>en-US</dc:language>
  <cp:lastModifiedBy>Jennifer Dugan</cp:lastModifiedBy>
  <dcterms:modified xsi:type="dcterms:W3CDTF">2010-07-13T16:59:08Z</dcterms:modified>
  <cp:revision>33</cp:revision>
  <dc:subject/>
  <dc:title>Combining Like Terms and Distributive Property</dc:title>
</cp:coreProperties>
</file>