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ct" ContentType="image/x-pict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.pct" ContentType="image/x-pict"/>
  <Override PartName="/ppt/media/image35.png" ContentType="image/png"/>
  <Override PartName="/ppt/media/image3.pct" ContentType="image/x-pict"/>
  <Override PartName="/ppt/media/image4.pct" ContentType="image/x-pict"/>
  <Override PartName="/ppt/media/image40.pct" ContentType="image/x-pict"/>
  <Override PartName="/ppt/media/image32.png" ContentType="image/png"/>
  <Override PartName="/ppt/media/image41.pct" ContentType="image/x-pict"/>
  <Override PartName="/ppt/media/image44.png" ContentType="image/png"/>
  <Override PartName="/ppt/media/image28.pct" ContentType="image/x-pict"/>
  <Override PartName="/ppt/media/image30.pct" ContentType="image/x-pict"/>
  <Override PartName="/ppt/media/image33.png" ContentType="image/png"/>
  <Override PartName="/ppt/media/image42.pct" ContentType="image/x-pict"/>
  <Override PartName="/ppt/media/image45.png" ContentType="image/png"/>
  <Override PartName="/ppt/media/image8.pct" ContentType="image/x-pict"/>
  <Override PartName="/ppt/media/image29.pct" ContentType="image/x-pict"/>
  <Override PartName="/ppt/media/image31.pct" ContentType="image/x-pict"/>
  <Override PartName="/ppt/media/image34.png" ContentType="image/png"/>
  <Override PartName="/ppt/media/image43.pct" ContentType="image/x-pict"/>
  <Override PartName="/ppt/media/image46.png" ContentType="image/png"/>
  <Override PartName="/ppt/media/image39.pct" ContentType="image/x-pict"/>
  <Override PartName="/ppt/media/image9.pct" ContentType="image/x-pict"/>
  <Override PartName="/ppt/media/image11.png" ContentType="image/png"/>
  <Override PartName="/ppt/media/image48.png" ContentType="image/png"/>
  <Override PartName="/ppt/media/image6.pct" ContentType="image/x-pict"/>
  <Override PartName="/ppt/media/image36.pct" ContentType="image/x-pict"/>
  <Override PartName="/ppt/media/image7.pct" ContentType="image/x-pict"/>
  <Override PartName="/ppt/media/image37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5.pct" ContentType="image/x-pict"/>
  <Override PartName="/ppt/media/image3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681-29C3-4430-9A7D-0352FD7F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21C-29C8-4660-9CDD-68D0635B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72E-441C-4535-A40E-7B07214D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A30-1409-40BE-BA75-EABAAFDA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03B-5292-45CE-A4F0-9B98341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F15-807B-4835-AF45-BB856BD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D67-930B-4B6F-BB28-BE305BEA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882-843E-4216-9D02-08F1A301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F05-7BB2-46AC-AA2E-F8AF091C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CD8-CE9C-4280-BEE5-E37C0A9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7C4-E598-4277-A7A6-AEB5EA1C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4EA-A9F9-4269-BD16-5BA9B9B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13BC1-EEBC-4585-BCFC-B5CCE25945F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23C22-61F4-4E1C-9968-6BB9EC67FC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pct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pct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pct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pct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ct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pct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aphing and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85800" y="277956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’ll need to plo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85800" y="4525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a point at 2 on the y-axi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85800" y="2819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another point on the line using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685800" y="281952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umerator is the change in y and the denominator is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33520" y="2631960"/>
            <a:ext cx="33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positive, you can find the next point by moving up and to the right or down and to the lef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80880" y="300816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 intercept and go up 3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10"/>
          <p:cNvCxnSpPr/>
          <p:nvPr/>
        </p:nvCxnSpPr>
        <p:spPr>
          <a:xfrm flipV="1">
            <a:off x="6474240" y="282024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12"/>
          <p:cNvCxnSpPr/>
          <p:nvPr/>
        </p:nvCxnSpPr>
        <p:spPr>
          <a:xfrm>
            <a:off x="6475320" y="2820960"/>
            <a:ext cx="114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80880" y="3008160"/>
            <a:ext cx="38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also start at the y intercept and go down thr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28600" y="266688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nnect these points with a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0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6"/>
          <p:cNvSpPr/>
          <p:nvPr/>
        </p:nvSpPr>
        <p:spPr>
          <a:xfrm>
            <a:off x="-152280" y="39225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line should go through all the points you plotted and continues through the entire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1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6"/>
          <p:cNvSpPr/>
          <p:nvPr/>
        </p:nvSpPr>
        <p:spPr>
          <a:xfrm>
            <a:off x="76320" y="32767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sure to label the line with your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13" descr="Picture 7.png"/>
          <p:cNvPicPr/>
          <p:nvPr/>
        </p:nvPicPr>
        <p:blipFill>
          <a:blip r:embed="rId9"/>
          <a:stretch/>
        </p:blipFill>
        <p:spPr>
          <a:xfrm>
            <a:off x="4192560" y="1677960"/>
            <a:ext cx="4568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876920" y="1828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slop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800600" y="25146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slope is -2 because that is the value with the x-ter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very careful to always include the sign when you are finding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876920" y="18288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648320" y="323676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is 4 because that is the number that stands al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50840" y="275436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can graph the equ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457200" y="42670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ot a point a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t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graphing a linear equation, you need to know the slope and the y-intercep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slope is the rate of change in your graph or how the y values change as x incr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y-intercept is the place where the graph crosses the y-ax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eneral form of a linear equation is         y =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x where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y-intercept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slop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0840" y="2590920"/>
            <a:ext cx="381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a whole number, we need to change it to a frac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04920" y="48657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ould you write -2 as a fra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457200" y="3840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plot the next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150840" y="3657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-intercept and go down 2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14"/>
          <p:cNvCxnSpPr/>
          <p:nvPr/>
        </p:nvCxnSpPr>
        <p:spPr>
          <a:xfrm flipH="1">
            <a:off x="6474600" y="2989080"/>
            <a:ext cx="3960" cy="51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Straight Arrow Connector 17"/>
          <p:cNvCxnSpPr/>
          <p:nvPr/>
        </p:nvCxnSpPr>
        <p:spPr>
          <a:xfrm>
            <a:off x="6475320" y="3505320"/>
            <a:ext cx="231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3"/>
          <p:cNvSpPr/>
          <p:nvPr/>
        </p:nvSpPr>
        <p:spPr>
          <a:xfrm>
            <a:off x="150840" y="36576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ould also go up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Picture 1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19"/>
          <p:cNvCxnSpPr/>
          <p:nvPr/>
        </p:nvCxnSpPr>
        <p:spPr>
          <a:xfrm flipV="1">
            <a:off x="6477120" y="2591640"/>
            <a:ext cx="216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20"/>
          <p:cNvCxnSpPr/>
          <p:nvPr/>
        </p:nvCxnSpPr>
        <p:spPr>
          <a:xfrm flipH="1" flipV="1">
            <a:off x="6248160" y="2571120"/>
            <a:ext cx="2275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3"/>
          <p:cNvSpPr/>
          <p:nvPr/>
        </p:nvSpPr>
        <p:spPr>
          <a:xfrm>
            <a:off x="227160" y="34290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draw a line to connect the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3"/>
          <p:cNvSpPr/>
          <p:nvPr/>
        </p:nvSpPr>
        <p:spPr>
          <a:xfrm>
            <a:off x="227160" y="34290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be sure to label the line wit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Picture 8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227160" y="167652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given then graph, you’ll need to find the y-intercept and the slop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27160" y="44197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es the line touch the y-axi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3"/>
          <p:cNvSpPr/>
          <p:nvPr/>
        </p:nvSpPr>
        <p:spPr>
          <a:xfrm>
            <a:off x="303120" y="22096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raph crosses the y-axis at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10"/>
          <p:cNvCxnSpPr/>
          <p:nvPr/>
        </p:nvCxnSpPr>
        <p:spPr>
          <a:xfrm flipV="1">
            <a:off x="5943600" y="28188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Rectangle 12"/>
          <p:cNvSpPr/>
          <p:nvPr/>
        </p:nvSpPr>
        <p:spPr>
          <a:xfrm>
            <a:off x="304920" y="4027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fore, the y-intercept is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3"/>
          <p:cNvSpPr/>
          <p:nvPr/>
        </p:nvSpPr>
        <p:spPr>
          <a:xfrm>
            <a:off x="228600" y="26668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o look for “points in corners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2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303120" y="4255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303120" y="19810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point in a corner is at your y-intercept (0, 5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any different ways to represent the slop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x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increasing from left to right, the slope is posi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decreasing from left to right, the slope is nega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58960"/>
          <a:ext cx="114300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58960"/>
                    <a:ext cx="114300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05280" y="2666880"/>
          <a:ext cx="895320" cy="15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5280" y="2666880"/>
                    <a:ext cx="895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traight Connector 6"/>
          <p:cNvSpPr/>
          <p:nvPr/>
        </p:nvSpPr>
        <p:spPr>
          <a:xfrm>
            <a:off x="5638680" y="3579840"/>
            <a:ext cx="2438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3"/>
          <p:cNvSpPr/>
          <p:nvPr/>
        </p:nvSpPr>
        <p:spPr>
          <a:xfrm>
            <a:off x="303120" y="38098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303120" y="19810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ext point in a corner is (1, 1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9" descr="Picture 5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67" name="Straight Arrow Connector 10"/>
          <p:cNvCxnSpPr/>
          <p:nvPr/>
        </p:nvCxnSpPr>
        <p:spPr>
          <a:xfrm flipV="1">
            <a:off x="6172200" y="37332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3"/>
          <p:cNvSpPr/>
          <p:nvPr/>
        </p:nvSpPr>
        <p:spPr>
          <a:xfrm>
            <a:off x="303120" y="4343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above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3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66680" y="4502160"/>
          <a:ext cx="228600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502160"/>
                    <a:ext cx="2286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303120" y="152388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know the slope and y-intercept so you can find you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303120" y="407844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he general form of a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90720" y="5648400"/>
          <a:ext cx="24908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648400"/>
                    <a:ext cx="24908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303120" y="24271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equation of the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914400" y="3726000"/>
          <a:ext cx="24908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726000"/>
                    <a:ext cx="24908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3"/>
          <p:cNvSpPr/>
          <p:nvPr/>
        </p:nvSpPr>
        <p:spPr>
          <a:xfrm>
            <a:off x="304920" y="3112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find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04920" y="45608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y-intercept is -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6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307" name="Straight Arrow Connector 17"/>
          <p:cNvCxnSpPr/>
          <p:nvPr/>
        </p:nvCxnSpPr>
        <p:spPr>
          <a:xfrm>
            <a:off x="5867280" y="4419720"/>
            <a:ext cx="534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1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303120" y="303840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or you can use the graph to find the change in y and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303120" y="40924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3"/>
          <p:cNvSpPr/>
          <p:nvPr/>
        </p:nvSpPr>
        <p:spPr>
          <a:xfrm>
            <a:off x="303120" y="167652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lready have the y-intercept as our first point in a cor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9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303120" y="33066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the triangle method to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3"/>
          <p:cNvSpPr/>
          <p:nvPr/>
        </p:nvSpPr>
        <p:spPr>
          <a:xfrm>
            <a:off x="303120" y="16765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, 1) is a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3"/>
          <p:cNvSpPr/>
          <p:nvPr/>
        </p:nvSpPr>
        <p:spPr>
          <a:xfrm>
            <a:off x="303120" y="24382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from the y-intercept, you need to draw a triangle between your two points in “corner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1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21932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numerator (top number in the fraction) will tell you how much to move up or dow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denominator (bottom number in the fraction) will tell you how much to move left or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posi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righ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lef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nega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lef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3"/>
          <p:cNvSpPr/>
          <p:nvPr/>
        </p:nvSpPr>
        <p:spPr>
          <a:xfrm>
            <a:off x="303120" y="2057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y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04920" y="4449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x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303120" y="289728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your slope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676520" y="3481560"/>
          <a:ext cx="106668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481560"/>
                    <a:ext cx="1066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3"/>
          <p:cNvSpPr/>
          <p:nvPr/>
        </p:nvSpPr>
        <p:spPr>
          <a:xfrm>
            <a:off x="304920" y="20574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plug the slope and y-intercept into the general equation of a li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09520" y="4876920"/>
          <a:ext cx="2200320" cy="56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9520" y="4876920"/>
                    <a:ext cx="2200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14" descr="Picture 3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ph the following equations.  Be sure to label each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71600" y="2895480"/>
          <a:ext cx="17524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895480"/>
                    <a:ext cx="17524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371600" y="4265640"/>
          <a:ext cx="18874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4265640"/>
                    <a:ext cx="18874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371600" y="5638680"/>
          <a:ext cx="107784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638680"/>
                    <a:ext cx="1077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029200" y="3138480"/>
          <a:ext cx="180648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9200" y="3138480"/>
                    <a:ext cx="1806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4672080"/>
          <a:ext cx="143028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4672080"/>
                    <a:ext cx="1430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Box 8"/>
          <p:cNvSpPr/>
          <p:nvPr/>
        </p:nvSpPr>
        <p:spPr>
          <a:xfrm>
            <a:off x="6858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60948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609480" y="467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422928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4229280" y="4657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 Find the equations to the given graph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Picture 4" descr="Picture 1.png"/>
          <p:cNvPicPr/>
          <p:nvPr/>
        </p:nvPicPr>
        <p:blipFill>
          <a:blip r:embed="rId2"/>
          <a:stretch/>
        </p:blipFill>
        <p:spPr>
          <a:xfrm>
            <a:off x="457200" y="2895480"/>
            <a:ext cx="3602160" cy="360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Picture 2.png"/>
          <p:cNvPicPr/>
          <p:nvPr/>
        </p:nvPicPr>
        <p:blipFill>
          <a:blip r:embed="rId3"/>
          <a:stretch/>
        </p:blipFill>
        <p:spPr>
          <a:xfrm>
            <a:off x="4973760" y="289548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44024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7" descr="Picture 4.png"/>
          <p:cNvPicPr/>
          <p:nvPr/>
        </p:nvPicPr>
        <p:blipFill>
          <a:blip r:embed="rId2"/>
          <a:stretch/>
        </p:blipFill>
        <p:spPr>
          <a:xfrm>
            <a:off x="887400" y="2133720"/>
            <a:ext cx="3608280" cy="3601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Picture 5.png"/>
          <p:cNvPicPr/>
          <p:nvPr/>
        </p:nvPicPr>
        <p:blipFill>
          <a:blip r:embed="rId3"/>
          <a:stretch/>
        </p:blipFill>
        <p:spPr>
          <a:xfrm>
            <a:off x="5105520" y="2133720"/>
            <a:ext cx="3608280" cy="36018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46483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3" name="Picture 4" descr="Picture 6.png"/>
          <p:cNvPicPr/>
          <p:nvPr/>
        </p:nvPicPr>
        <p:blipFill>
          <a:blip r:embed="rId2"/>
          <a:stretch/>
        </p:blipFill>
        <p:spPr>
          <a:xfrm>
            <a:off x="1066680" y="2127240"/>
            <a:ext cx="3608640" cy="36082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5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" y="12193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ok at the following fractions to see why you move in specific directions for positive or negative slop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3035160"/>
          <a:ext cx="3562200" cy="92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35160"/>
                    <a:ext cx="3562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02200" y="3035160"/>
          <a:ext cx="368460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3035160"/>
                    <a:ext cx="36846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04720" y="4863960"/>
          <a:ext cx="346572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4720" y="4863960"/>
                    <a:ext cx="34657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965840" y="4863960"/>
          <a:ext cx="3757320" cy="92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65840" y="4863960"/>
                    <a:ext cx="3757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7"/>
          <p:cNvSpPr/>
          <p:nvPr/>
        </p:nvSpPr>
        <p:spPr>
          <a:xfrm>
            <a:off x="4159080" y="327672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159080" y="495288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-Intercep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looking for the y-intercept, you should follow the line until it hits the y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above the x-axis, the y-intercept is po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below the x-axis, the y-intercept is nega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800600" y="1371600"/>
            <a:ext cx="3886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lope will always be the value with the x-term so in this case, the slo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391520" y="4343400"/>
          <a:ext cx="380880" cy="102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4343400"/>
                    <a:ext cx="3808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800600" y="1612800"/>
            <a:ext cx="388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will be the number that stands alone (not with the x term) so in this case the y-intercept i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001000" y="5410080"/>
          <a:ext cx="452520" cy="57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5410080"/>
                    <a:ext cx="4525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85800" y="277956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the slope and y-intercept, we can grap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39:44Z</dcterms:created>
  <dc:creator>Jennifer Dugan</dc:creator>
  <dc:description/>
  <dc:language>en-US</dc:language>
  <cp:lastModifiedBy>Jennifer Dugan</cp:lastModifiedBy>
  <dcterms:modified xsi:type="dcterms:W3CDTF">2010-02-09T17:14:12Z</dcterms:modified>
  <cp:revision>48</cp:revision>
  <dc:subject/>
  <dc:title>Graphing and Equations</dc:title>
</cp:coreProperties>
</file>