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ct" ContentType="image/x-pict"/>
  <Override PartName="/ppt/media/image20.png" ContentType="image/png"/>
  <Override PartName="/ppt/media/image18.png" ContentType="image/png"/>
  <Override PartName="/ppt/media/image17.pct" ContentType="image/x-pict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7.png" ContentType="image/png"/>
  <Override PartName="/ppt/media/image2.pct" ContentType="image/x-pict"/>
  <Override PartName="/ppt/media/image35.png" ContentType="image/png"/>
  <Override PartName="/ppt/media/image3.pct" ContentType="image/x-pict"/>
  <Override PartName="/ppt/media/image4.pct" ContentType="image/x-pict"/>
  <Override PartName="/ppt/media/image40.pct" ContentType="image/x-pict"/>
  <Override PartName="/ppt/media/image32.png" ContentType="image/png"/>
  <Override PartName="/ppt/media/image41.pct" ContentType="image/x-pict"/>
  <Override PartName="/ppt/media/image44.png" ContentType="image/png"/>
  <Override PartName="/ppt/media/image28.pct" ContentType="image/x-pict"/>
  <Override PartName="/ppt/media/image30.pct" ContentType="image/x-pict"/>
  <Override PartName="/ppt/media/image33.png" ContentType="image/png"/>
  <Override PartName="/ppt/media/image42.pct" ContentType="image/x-pict"/>
  <Override PartName="/ppt/media/image45.png" ContentType="image/png"/>
  <Override PartName="/ppt/media/image8.pct" ContentType="image/x-pict"/>
  <Override PartName="/ppt/media/image29.pct" ContentType="image/x-pict"/>
  <Override PartName="/ppt/media/image31.pct" ContentType="image/x-pict"/>
  <Override PartName="/ppt/media/image34.png" ContentType="image/png"/>
  <Override PartName="/ppt/media/image43.pct" ContentType="image/x-pict"/>
  <Override PartName="/ppt/media/image46.png" ContentType="image/png"/>
  <Override PartName="/ppt/media/image39.pct" ContentType="image/x-pict"/>
  <Override PartName="/ppt/media/image9.pct" ContentType="image/x-pict"/>
  <Override PartName="/ppt/media/image11.png" ContentType="image/png"/>
  <Override PartName="/ppt/media/image48.png" ContentType="image/png"/>
  <Override PartName="/ppt/media/image6.pct" ContentType="image/x-pict"/>
  <Override PartName="/ppt/media/image36.pct" ContentType="image/x-pict"/>
  <Override PartName="/ppt/media/image7.pct" ContentType="image/x-pict"/>
  <Override PartName="/ppt/media/image37.pct" ContentType="image/x-pict"/>
  <Override PartName="/ppt/media/image13.png" ContentType="image/png"/>
  <Override PartName="/ppt/media/image10.pct" ContentType="image/x-pict"/>
  <Override PartName="/ppt/media/image22.png" ContentType="image/png"/>
  <Override PartName="/ppt/media/image5.pct" ContentType="image/x-pict"/>
  <Override PartName="/ppt/media/image38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7F8-B074-4CE7-AB15-83B79D56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EC7-4721-49BD-87B0-6B272746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664-1C1A-43E3-A6B1-836A610A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68E-7EB1-4EBA-B439-17BDE84B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747-6348-4DAA-A274-FC1913B7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A0C-42D2-4757-82DF-B414A8F8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2B5-87B8-4E8A-AFEC-217A784A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BA7-EE98-4C42-B774-8F1FA70A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D7C-A744-4428-AA05-39822142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0B7-4640-425A-BFBA-66491944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5CD-EAE3-43DF-92BD-2150C8E8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94F-ED6A-4671-9791-A2BA6A5C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FB2D5-89B8-49DC-B52A-2CA588E7B1CB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6D935-1E89-4FE2-8A8E-478E1092AA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pct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pct"/><Relationship Id="rId7" Type="http://schemas.openxmlformats.org/officeDocument/2006/relationships/oleObject" Target="../embeddings/oleObject2.bin"/><Relationship Id="rId8" Type="http://schemas.openxmlformats.org/officeDocument/2006/relationships/image" Target="../media/image29.pct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0.pct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1.pct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pct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ct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pct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ct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ct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aphing and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85800" y="277956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 you’ll need to plot the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685800" y="45259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t a point at 2 on the y-axi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85800" y="28195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find another point on the line using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685800" y="281952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umerator is the change in y and the denominator is the change i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533520" y="2631960"/>
            <a:ext cx="335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slope is positive, you can find the next point by moving up and to the right or down and to the lef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380880" y="300816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 at the y intercept and go up 3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16" name="Straight Arrow Connector 10"/>
          <p:cNvCxnSpPr/>
          <p:nvPr/>
        </p:nvCxnSpPr>
        <p:spPr>
          <a:xfrm flipV="1">
            <a:off x="6474240" y="282024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Straight Arrow Connector 12"/>
          <p:cNvCxnSpPr/>
          <p:nvPr/>
        </p:nvCxnSpPr>
        <p:spPr>
          <a:xfrm>
            <a:off x="6475320" y="2820960"/>
            <a:ext cx="114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Rectangle 13"/>
          <p:cNvSpPr/>
          <p:nvPr/>
        </p:nvSpPr>
        <p:spPr>
          <a:xfrm>
            <a:off x="457200" y="4648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right 5 and put a poi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380880" y="3008160"/>
            <a:ext cx="38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also start at the y intercept and go down thre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3"/>
          <p:cNvSpPr/>
          <p:nvPr/>
        </p:nvSpPr>
        <p:spPr>
          <a:xfrm>
            <a:off x="457200" y="4648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left 5 and put a poi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11" descr="Picture 4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28" name="Straight Arrow Connector 14"/>
          <p:cNvCxnSpPr/>
          <p:nvPr/>
        </p:nvCxnSpPr>
        <p:spPr>
          <a:xfrm flipH="1">
            <a:off x="6474600" y="35049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Straight Arrow Connector 15"/>
          <p:cNvCxnSpPr/>
          <p:nvPr/>
        </p:nvCxnSpPr>
        <p:spPr>
          <a:xfrm flipH="1" flipV="1">
            <a:off x="5333400" y="4190760"/>
            <a:ext cx="114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28600" y="266688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connect these points with a li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Picture 4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38" name="Straight Arrow Connector 14"/>
          <p:cNvCxnSpPr/>
          <p:nvPr/>
        </p:nvCxnSpPr>
        <p:spPr>
          <a:xfrm flipH="1">
            <a:off x="6474600" y="35049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Straight Arrow Connector 15"/>
          <p:cNvCxnSpPr/>
          <p:nvPr/>
        </p:nvCxnSpPr>
        <p:spPr>
          <a:xfrm flipH="1" flipV="1">
            <a:off x="5333400" y="4190760"/>
            <a:ext cx="114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0" name="Picture 12" descr="Picture 4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6"/>
          <p:cNvSpPr/>
          <p:nvPr/>
        </p:nvSpPr>
        <p:spPr>
          <a:xfrm>
            <a:off x="-152280" y="392256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line should go through all the points you plotted and continues through the entire grap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Picture 4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49" name="Straight Arrow Connector 14"/>
          <p:cNvCxnSpPr/>
          <p:nvPr/>
        </p:nvCxnSpPr>
        <p:spPr>
          <a:xfrm flipH="1">
            <a:off x="6474600" y="35049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Straight Arrow Connector 15"/>
          <p:cNvCxnSpPr/>
          <p:nvPr/>
        </p:nvCxnSpPr>
        <p:spPr>
          <a:xfrm flipH="1" flipV="1">
            <a:off x="5333400" y="4190760"/>
            <a:ext cx="114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1" name="Picture 12" descr="Picture 4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6"/>
          <p:cNvSpPr/>
          <p:nvPr/>
        </p:nvSpPr>
        <p:spPr>
          <a:xfrm>
            <a:off x="76320" y="327672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sure to label the line with your y=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13" descr="Picture 7.png"/>
          <p:cNvPicPr/>
          <p:nvPr/>
        </p:nvPicPr>
        <p:blipFill>
          <a:blip r:embed="rId9"/>
          <a:stretch/>
        </p:blipFill>
        <p:spPr>
          <a:xfrm>
            <a:off x="4192560" y="1677960"/>
            <a:ext cx="45687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380880" y="160020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another example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43000" y="3022560"/>
          <a:ext cx="1766880" cy="4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22560"/>
                    <a:ext cx="1766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13"/>
          <p:cNvSpPr/>
          <p:nvPr/>
        </p:nvSpPr>
        <p:spPr>
          <a:xfrm>
            <a:off x="457200" y="39625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, our first step is to find the slope and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4876920" y="1828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slop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4800600" y="251460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is case, the slope is -2 because that is the value with the x-ter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very careful to always include the sign when you are finding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80880" y="160020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another example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43000" y="3022560"/>
          <a:ext cx="1766880" cy="4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22560"/>
                    <a:ext cx="1766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13"/>
          <p:cNvSpPr/>
          <p:nvPr/>
        </p:nvSpPr>
        <p:spPr>
          <a:xfrm>
            <a:off x="457200" y="39625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, our first step is to find the slope and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4876920" y="182880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y-intercep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4648320" y="3236760"/>
            <a:ext cx="419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y-intercept is 4 because that is the number that stands alo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150840" y="275436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we can graph the equatio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3"/>
          <p:cNvSpPr/>
          <p:nvPr/>
        </p:nvSpPr>
        <p:spPr>
          <a:xfrm>
            <a:off x="457200" y="42670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ot a point at the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mportant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en graphing a linear equation, you need to know the slope and the y-intercep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slope is the rate of change in your graph or how the y values change as x increas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y-intercept is the place where the graph crosses the y-ax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general form of a linear equation is         y =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x where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s the y-intercept and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s the slop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50840" y="2590920"/>
            <a:ext cx="381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slope is a whole number, we need to change it to a frac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304920" y="486576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would you write -2 as a fracti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150840" y="259092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 is equal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3"/>
          <p:cNvSpPr/>
          <p:nvPr/>
        </p:nvSpPr>
        <p:spPr>
          <a:xfrm>
            <a:off x="457200" y="38401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we need to plot the next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2895480" y="2590920"/>
          <a:ext cx="536760" cy="89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590920"/>
                    <a:ext cx="536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150840" y="259092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 is equal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3"/>
          <p:cNvSpPr/>
          <p:nvPr/>
        </p:nvSpPr>
        <p:spPr>
          <a:xfrm>
            <a:off x="150840" y="36576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 at the y-intercept and go down 2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2895480" y="2590920"/>
          <a:ext cx="536760" cy="89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590920"/>
                    <a:ext cx="536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9"/>
          <p:cNvSpPr/>
          <p:nvPr/>
        </p:nvSpPr>
        <p:spPr>
          <a:xfrm>
            <a:off x="227160" y="520704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right 1 and plot a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10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02" name="Straight Arrow Connector 14"/>
          <p:cNvCxnSpPr/>
          <p:nvPr/>
        </p:nvCxnSpPr>
        <p:spPr>
          <a:xfrm flipH="1">
            <a:off x="6474600" y="2989080"/>
            <a:ext cx="3960" cy="51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Straight Arrow Connector 17"/>
          <p:cNvCxnSpPr/>
          <p:nvPr/>
        </p:nvCxnSpPr>
        <p:spPr>
          <a:xfrm>
            <a:off x="6475320" y="3505320"/>
            <a:ext cx="231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150840" y="259092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 is equal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3"/>
          <p:cNvSpPr/>
          <p:nvPr/>
        </p:nvSpPr>
        <p:spPr>
          <a:xfrm>
            <a:off x="150840" y="365760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ould also go up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2895480" y="2590920"/>
          <a:ext cx="536760" cy="89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590920"/>
                    <a:ext cx="536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9"/>
          <p:cNvSpPr/>
          <p:nvPr/>
        </p:nvSpPr>
        <p:spPr>
          <a:xfrm>
            <a:off x="227160" y="520704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left 1 and plot a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Picture 10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Picture 1.png"/>
          <p:cNvPicPr/>
          <p:nvPr/>
        </p:nvPicPr>
        <p:blipFill>
          <a:blip r:embed="rId9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16" name="Straight Arrow Connector 19"/>
          <p:cNvCxnSpPr/>
          <p:nvPr/>
        </p:nvCxnSpPr>
        <p:spPr>
          <a:xfrm flipV="1">
            <a:off x="6477120" y="2591640"/>
            <a:ext cx="2160" cy="39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Straight Arrow Connector 20"/>
          <p:cNvCxnSpPr/>
          <p:nvPr/>
        </p:nvCxnSpPr>
        <p:spPr>
          <a:xfrm flipH="1" flipV="1">
            <a:off x="6248160" y="2571120"/>
            <a:ext cx="2275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9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3"/>
          <p:cNvSpPr/>
          <p:nvPr/>
        </p:nvSpPr>
        <p:spPr>
          <a:xfrm>
            <a:off x="227160" y="342900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draw a line to connect the poi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" descr="Picture 1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8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3"/>
          <p:cNvSpPr/>
          <p:nvPr/>
        </p:nvSpPr>
        <p:spPr>
          <a:xfrm>
            <a:off x="227160" y="34290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, be sure to label the line with the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Picture 1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Picture 8.png"/>
          <p:cNvPicPr/>
          <p:nvPr/>
        </p:nvPicPr>
        <p:blipFill>
          <a:blip r:embed="rId9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3"/>
          <p:cNvSpPr/>
          <p:nvPr/>
        </p:nvSpPr>
        <p:spPr>
          <a:xfrm>
            <a:off x="227160" y="167652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you are given then graph, you’ll need to find the y-intercept and the slop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227160" y="44197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oes the line touch the y-axi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3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3"/>
          <p:cNvSpPr/>
          <p:nvPr/>
        </p:nvSpPr>
        <p:spPr>
          <a:xfrm>
            <a:off x="303120" y="220968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raph crosses the y-axis at 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47" name="Straight Arrow Connector 10"/>
          <p:cNvCxnSpPr/>
          <p:nvPr/>
        </p:nvCxnSpPr>
        <p:spPr>
          <a:xfrm flipV="1">
            <a:off x="5943600" y="2818800"/>
            <a:ext cx="534240" cy="370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Rectangle 12"/>
          <p:cNvSpPr/>
          <p:nvPr/>
        </p:nvSpPr>
        <p:spPr>
          <a:xfrm>
            <a:off x="304920" y="40273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fore, the y-intercept is 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0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3"/>
          <p:cNvSpPr/>
          <p:nvPr/>
        </p:nvSpPr>
        <p:spPr>
          <a:xfrm>
            <a:off x="228600" y="266688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find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member to look for “points in corners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2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3"/>
          <p:cNvSpPr/>
          <p:nvPr/>
        </p:nvSpPr>
        <p:spPr>
          <a:xfrm>
            <a:off x="303120" y="42559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another point in a “corner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7"/>
          <p:cNvSpPr/>
          <p:nvPr/>
        </p:nvSpPr>
        <p:spPr>
          <a:xfrm>
            <a:off x="303120" y="198108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point in a corner is at your y-intercept (0, 5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many different ways to represent the slop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ange in 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;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;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ange in x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line is increasing from left to right, the slope is positi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line is decreasing from left to right, the slope is negati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2658960"/>
          <a:ext cx="1143000" cy="15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658960"/>
                    <a:ext cx="1143000" cy="15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905280" y="2666880"/>
          <a:ext cx="895320" cy="15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5280" y="2666880"/>
                    <a:ext cx="8953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Straight Connector 6"/>
          <p:cNvSpPr/>
          <p:nvPr/>
        </p:nvSpPr>
        <p:spPr>
          <a:xfrm>
            <a:off x="5638680" y="3579840"/>
            <a:ext cx="2438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3"/>
          <p:cNvSpPr/>
          <p:nvPr/>
        </p:nvSpPr>
        <p:spPr>
          <a:xfrm>
            <a:off x="303120" y="380988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find the slope between these two poi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3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303120" y="198108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ext point in a corner is (1, 1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6" name="Picture 9" descr="Picture 5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67" name="Straight Arrow Connector 10"/>
          <p:cNvCxnSpPr/>
          <p:nvPr/>
        </p:nvCxnSpPr>
        <p:spPr>
          <a:xfrm flipV="1">
            <a:off x="6172200" y="3733200"/>
            <a:ext cx="534240" cy="370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3"/>
          <p:cNvSpPr/>
          <p:nvPr/>
        </p:nvSpPr>
        <p:spPr>
          <a:xfrm>
            <a:off x="303120" y="43434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use the slope formula above to find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7"/>
          <p:cNvSpPr/>
          <p:nvPr/>
        </p:nvSpPr>
        <p:spPr>
          <a:xfrm>
            <a:off x="303120" y="167652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0, 5) and (1,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3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1295280" y="2598840"/>
          <a:ext cx="1752840" cy="15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598840"/>
                    <a:ext cx="1752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7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7"/>
          <p:cNvSpPr/>
          <p:nvPr/>
        </p:nvSpPr>
        <p:spPr>
          <a:xfrm>
            <a:off x="303120" y="167652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0, 5) and (1,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0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1295280" y="2598840"/>
          <a:ext cx="1752840" cy="15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598840"/>
                    <a:ext cx="1752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1066680" y="4502160"/>
          <a:ext cx="2286000" cy="12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4502160"/>
                    <a:ext cx="2286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6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7"/>
          <p:cNvSpPr/>
          <p:nvPr/>
        </p:nvSpPr>
        <p:spPr>
          <a:xfrm>
            <a:off x="303120" y="152388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you know the slope and y-intercept so you can find your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9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0"/>
          <p:cNvSpPr/>
          <p:nvPr/>
        </p:nvSpPr>
        <p:spPr>
          <a:xfrm>
            <a:off x="303120" y="407844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member the general form of a line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90720" y="5648400"/>
          <a:ext cx="24908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648400"/>
                    <a:ext cx="24908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4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303120" y="24271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the equation of the line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7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914400" y="3726000"/>
          <a:ext cx="249084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726000"/>
                    <a:ext cx="24908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303120" y="17413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another examp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3"/>
          <p:cNvSpPr/>
          <p:nvPr/>
        </p:nvSpPr>
        <p:spPr>
          <a:xfrm>
            <a:off x="304920" y="31129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you’ll need to find the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304920" y="456084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is case, the y-intercept is -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6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307" name="Straight Arrow Connector 17"/>
          <p:cNvCxnSpPr/>
          <p:nvPr/>
        </p:nvCxnSpPr>
        <p:spPr>
          <a:xfrm>
            <a:off x="5867280" y="4419720"/>
            <a:ext cx="5342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7"/>
          <p:cNvSpPr/>
          <p:nvPr/>
        </p:nvSpPr>
        <p:spPr>
          <a:xfrm>
            <a:off x="303120" y="17413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find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1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3"/>
          <p:cNvSpPr/>
          <p:nvPr/>
        </p:nvSpPr>
        <p:spPr>
          <a:xfrm>
            <a:off x="303120" y="303840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use the slope formula or you can use the graph to find the change in y and the change i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7"/>
          <p:cNvSpPr/>
          <p:nvPr/>
        </p:nvSpPr>
        <p:spPr>
          <a:xfrm>
            <a:off x="303120" y="409248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we need to find another point in a “corner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3"/>
          <p:cNvSpPr/>
          <p:nvPr/>
        </p:nvSpPr>
        <p:spPr>
          <a:xfrm>
            <a:off x="303120" y="167652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lready have the y-intercept as our first point in a corn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9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7"/>
          <p:cNvSpPr/>
          <p:nvPr/>
        </p:nvSpPr>
        <p:spPr>
          <a:xfrm>
            <a:off x="303120" y="330660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use the triangle method to find the slope between these two poi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3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3"/>
          <p:cNvSpPr/>
          <p:nvPr/>
        </p:nvSpPr>
        <p:spPr>
          <a:xfrm>
            <a:off x="303120" y="16765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3, 1) is a point in a “corner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8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3"/>
          <p:cNvSpPr/>
          <p:nvPr/>
        </p:nvSpPr>
        <p:spPr>
          <a:xfrm>
            <a:off x="303120" y="243828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from the y-intercept, you need to draw a triangle between your two points in “corners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1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57200" y="1219320"/>
            <a:ext cx="822960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numerator (top number in the fraction) will tell you how much to move up or dow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denominator (bottom number in the fraction) will tell you how much to move left or righ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slope is positive, start at the y-intercept and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move up and to the righ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down and to the lef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slope is negative, start at the y-intercept and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move up and to the lef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down and to the righ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3"/>
          <p:cNvSpPr/>
          <p:nvPr/>
        </p:nvSpPr>
        <p:spPr>
          <a:xfrm>
            <a:off x="303120" y="20574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difference in your y valu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8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7"/>
          <p:cNvSpPr/>
          <p:nvPr/>
        </p:nvSpPr>
        <p:spPr>
          <a:xfrm>
            <a:off x="6019920" y="3759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TextBox 19"/>
          <p:cNvSpPr/>
          <p:nvPr/>
        </p:nvSpPr>
        <p:spPr>
          <a:xfrm>
            <a:off x="6553080" y="323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304920" y="44496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difference in your x valu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3"/>
          <p:cNvSpPr/>
          <p:nvPr/>
        </p:nvSpPr>
        <p:spPr>
          <a:xfrm>
            <a:off x="303120" y="289728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 your slope 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8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17"/>
          <p:cNvSpPr/>
          <p:nvPr/>
        </p:nvSpPr>
        <p:spPr>
          <a:xfrm>
            <a:off x="6019920" y="3759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Box 19"/>
          <p:cNvSpPr/>
          <p:nvPr/>
        </p:nvSpPr>
        <p:spPr>
          <a:xfrm>
            <a:off x="6553080" y="323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676520" y="3481560"/>
          <a:ext cx="1066680" cy="11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481560"/>
                    <a:ext cx="1066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6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3"/>
          <p:cNvSpPr/>
          <p:nvPr/>
        </p:nvSpPr>
        <p:spPr>
          <a:xfrm>
            <a:off x="304920" y="205740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plug the slope and y-intercept into the general equation of a li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09520" y="4876920"/>
          <a:ext cx="2200320" cy="56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09520" y="4876920"/>
                    <a:ext cx="2200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Picture 14" descr="Picture 3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57200" y="2967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ph the following equations.  Be sure to label each li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371600" y="2895480"/>
          <a:ext cx="17524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895480"/>
                    <a:ext cx="17524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1371600" y="4265640"/>
          <a:ext cx="188748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4265640"/>
                    <a:ext cx="18874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371600" y="5638680"/>
          <a:ext cx="107784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5638680"/>
                    <a:ext cx="1077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029200" y="3138480"/>
          <a:ext cx="180648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29200" y="3138480"/>
                    <a:ext cx="1806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4672080"/>
          <a:ext cx="143028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9200" y="4672080"/>
                    <a:ext cx="14302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TextBox 8"/>
          <p:cNvSpPr/>
          <p:nvPr/>
        </p:nvSpPr>
        <p:spPr>
          <a:xfrm>
            <a:off x="6858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609480" y="5638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609480" y="4672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4229280" y="3048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4229280" y="4657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 Find the equations to the given graphs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Picture 4" descr="Picture 1.png"/>
          <p:cNvPicPr/>
          <p:nvPr/>
        </p:nvPicPr>
        <p:blipFill>
          <a:blip r:embed="rId2"/>
          <a:stretch/>
        </p:blipFill>
        <p:spPr>
          <a:xfrm>
            <a:off x="457200" y="2895480"/>
            <a:ext cx="3602160" cy="3602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Picture 2.png"/>
          <p:cNvPicPr/>
          <p:nvPr/>
        </p:nvPicPr>
        <p:blipFill>
          <a:blip r:embed="rId3"/>
          <a:stretch/>
        </p:blipFill>
        <p:spPr>
          <a:xfrm>
            <a:off x="4973760" y="2895480"/>
            <a:ext cx="3636720" cy="3637080"/>
          </a:xfrm>
          <a:prstGeom prst="rect">
            <a:avLst/>
          </a:prstGeom>
          <a:ln w="0">
            <a:noFill/>
          </a:ln>
        </p:spPr>
      </p:pic>
      <p:sp>
        <p:nvSpPr>
          <p:cNvPr id="385" name="TextBox 6"/>
          <p:cNvSpPr/>
          <p:nvPr/>
        </p:nvSpPr>
        <p:spPr>
          <a:xfrm>
            <a:off x="0" y="2819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4440240" y="2819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8" name="Picture 7" descr="Picture 4.png"/>
          <p:cNvPicPr/>
          <p:nvPr/>
        </p:nvPicPr>
        <p:blipFill>
          <a:blip r:embed="rId2"/>
          <a:stretch/>
        </p:blipFill>
        <p:spPr>
          <a:xfrm>
            <a:off x="887400" y="2133720"/>
            <a:ext cx="3608280" cy="3601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Picture 5.png"/>
          <p:cNvPicPr/>
          <p:nvPr/>
        </p:nvPicPr>
        <p:blipFill>
          <a:blip r:embed="rId3"/>
          <a:stretch/>
        </p:blipFill>
        <p:spPr>
          <a:xfrm>
            <a:off x="5105520" y="2133720"/>
            <a:ext cx="3608280" cy="36018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0"/>
          <p:cNvSpPr/>
          <p:nvPr/>
        </p:nvSpPr>
        <p:spPr>
          <a:xfrm>
            <a:off x="35388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46483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3" name="Picture 4" descr="Picture 6.png"/>
          <p:cNvPicPr/>
          <p:nvPr/>
        </p:nvPicPr>
        <p:blipFill>
          <a:blip r:embed="rId2"/>
          <a:stretch/>
        </p:blipFill>
        <p:spPr>
          <a:xfrm>
            <a:off x="1066680" y="2127240"/>
            <a:ext cx="3608640" cy="3608280"/>
          </a:xfrm>
          <a:prstGeom prst="rect">
            <a:avLst/>
          </a:prstGeom>
          <a:ln w="0">
            <a:noFill/>
          </a:ln>
        </p:spPr>
      </p:pic>
      <p:sp>
        <p:nvSpPr>
          <p:cNvPr id="394" name="TextBox 5"/>
          <p:cNvSpPr/>
          <p:nvPr/>
        </p:nvSpPr>
        <p:spPr>
          <a:xfrm>
            <a:off x="35388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57200" y="121932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ok at the following fractions to see why you move in specific directions for positive or negative slop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3035160"/>
          <a:ext cx="3562200" cy="92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35160"/>
                    <a:ext cx="35622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002200" y="3035160"/>
          <a:ext cx="3684600" cy="92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2200" y="3035160"/>
                    <a:ext cx="36846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04720" y="4863960"/>
          <a:ext cx="3465720" cy="92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4720" y="4863960"/>
                    <a:ext cx="34657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965840" y="4863960"/>
          <a:ext cx="3757320" cy="927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65840" y="4863960"/>
                    <a:ext cx="37573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Box 7"/>
          <p:cNvSpPr/>
          <p:nvPr/>
        </p:nvSpPr>
        <p:spPr>
          <a:xfrm>
            <a:off x="4159080" y="3276720"/>
            <a:ext cx="94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4159080" y="4952880"/>
            <a:ext cx="94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-Intercep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looking for the y-intercept, you should follow the line until it hits the y-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line crosses above the x-axis, the y-intercept is pos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line crosses below the x-axis, the y-intercept is nega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85800" y="1676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the following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95280" y="342900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42900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Box 5"/>
          <p:cNvSpPr/>
          <p:nvPr/>
        </p:nvSpPr>
        <p:spPr>
          <a:xfrm>
            <a:off x="685800" y="46782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slope and y-intercep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800600" y="1371600"/>
            <a:ext cx="3886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lope will always be the value with the x-term so in this case, the slo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391520" y="4343400"/>
          <a:ext cx="380880" cy="102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4343400"/>
                    <a:ext cx="3808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685800" y="1676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the following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95280" y="342900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42900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Box 5"/>
          <p:cNvSpPr/>
          <p:nvPr/>
        </p:nvSpPr>
        <p:spPr>
          <a:xfrm>
            <a:off x="685800" y="46782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slope and y-intercep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800600" y="1612800"/>
            <a:ext cx="388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y-intercept will be the number that stands alone (not with the x term) so in this case the y-intercept i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001000" y="5410080"/>
          <a:ext cx="452520" cy="57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5410080"/>
                    <a:ext cx="45252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685800" y="277956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know the slope and y-intercept, we can graph the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39:44Z</dcterms:created>
  <dc:creator>Jennifer Dugan</dc:creator>
  <dc:description/>
  <dc:language>en-US</dc:language>
  <cp:lastModifiedBy>Jennifer Dugan</cp:lastModifiedBy>
  <dcterms:modified xsi:type="dcterms:W3CDTF">2010-02-09T17:14:12Z</dcterms:modified>
  <cp:revision>48</cp:revision>
  <dc:subject/>
  <dc:title>Graphing and Equations</dc:title>
</cp:coreProperties>
</file>