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96D-205B-4A4F-8CE1-798F9DA8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ABC-1CE4-4B5C-9373-197E083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6E2-9FAE-4E6D-944A-D1AAE4F1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8C1-981B-44EB-88A0-668CF642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C3D-5E7E-4B90-B2B8-60626199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2E0-4625-446B-9611-50EF78D8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DC0-C1BE-46CD-98E2-E4D54237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5CB-27A4-41D2-8362-9D71618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DE2-4872-44C3-9821-2DD71850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D3E-F9EB-45DF-8352-A2DD705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CA6-A1AC-4060-AF7D-42B80B2B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286-44EA-4F21-B709-FED0B8CB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803C4-8254-451D-83FF-A5B80D8A065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FD344-E754-4158-A95F-AFC3FA25A9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257800" y="153684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control the number of stops so that means N is our independent variable. We can use this value to find P, the number of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will start with your dependent variable then an equal sig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57800" y="15368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’ll add your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ly, you’ll add an expression for how your values are chang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257800" y="15368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re increasing the number of people by 4 per stop so you multiply 4 by 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" y="304956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Y= then enter your eq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7200" y="4525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need to replace your independent variable, N, with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3.png"/>
          <p:cNvPicPr/>
          <p:nvPr/>
        </p:nvPicPr>
        <p:blipFill>
          <a:blip r:embed="rId2"/>
          <a:stretch/>
        </p:blipFill>
        <p:spPr>
          <a:xfrm>
            <a:off x="4495680" y="300816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115" name="Right Arrow 9"/>
          <p:cNvSpPr/>
          <p:nvPr/>
        </p:nvSpPr>
        <p:spPr>
          <a:xfrm>
            <a:off x="3886200" y="3200400"/>
            <a:ext cx="990720" cy="53172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ight Arrow 10"/>
          <p:cNvSpPr/>
          <p:nvPr/>
        </p:nvSpPr>
        <p:spPr>
          <a:xfrm rot="20589600">
            <a:off x="3519000" y="5102280"/>
            <a:ext cx="2068560" cy="53172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85800" y="410364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should look like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1" descr="Picture 1.png"/>
          <p:cNvPicPr/>
          <p:nvPr/>
        </p:nvPicPr>
        <p:blipFill>
          <a:blip r:embed="rId2"/>
          <a:stretch/>
        </p:blipFill>
        <p:spPr>
          <a:xfrm>
            <a:off x="4648320" y="3243240"/>
            <a:ext cx="4233600" cy="3157560"/>
          </a:xfrm>
          <a:prstGeom prst="rect">
            <a:avLst/>
          </a:prstGeom>
          <a:ln w="0">
            <a:noFill/>
          </a:ln>
        </p:spPr>
      </p:pic>
      <p:sp>
        <p:nvSpPr>
          <p:cNvPr id="121" name="Right Arrow 12"/>
          <p:cNvSpPr/>
          <p:nvPr/>
        </p:nvSpPr>
        <p:spPr>
          <a:xfrm rot="20367000">
            <a:off x="3863880" y="4140000"/>
            <a:ext cx="1677960" cy="5331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the rule is in Y=, we can easily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85800" y="32767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make a table, click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Key then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6" descr="Picture 3.png"/>
          <p:cNvPicPr/>
          <p:nvPr/>
        </p:nvPicPr>
        <p:blipFill>
          <a:blip r:embed="rId2"/>
          <a:stretch/>
        </p:blipFill>
        <p:spPr>
          <a:xfrm>
            <a:off x="4495680" y="3027240"/>
            <a:ext cx="412128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Right Arrow 7"/>
          <p:cNvSpPr/>
          <p:nvPr/>
        </p:nvSpPr>
        <p:spPr>
          <a:xfrm rot="21089400">
            <a:off x="4152960" y="3448080"/>
            <a:ext cx="1311120" cy="39528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ight Arrow 8"/>
          <p:cNvSpPr/>
          <p:nvPr/>
        </p:nvSpPr>
        <p:spPr>
          <a:xfrm rot="1355400">
            <a:off x="4095720" y="4074840"/>
            <a:ext cx="798480" cy="3967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come to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2590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blStart will be the x value that your table will start a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9" descr="Picture 2.png"/>
          <p:cNvPicPr/>
          <p:nvPr/>
        </p:nvPicPr>
        <p:blipFill>
          <a:blip r:embed="rId2"/>
          <a:stretch/>
        </p:blipFill>
        <p:spPr>
          <a:xfrm>
            <a:off x="4302000" y="2728800"/>
            <a:ext cx="4537080" cy="336708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0"/>
          <p:cNvSpPr/>
          <p:nvPr/>
        </p:nvSpPr>
        <p:spPr>
          <a:xfrm rot="21411000">
            <a:off x="3743280" y="3236400"/>
            <a:ext cx="920880" cy="395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3520" y="43434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ΔTbl will be the value that the x column will count by in your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Right Arrow 12"/>
          <p:cNvSpPr/>
          <p:nvPr/>
        </p:nvSpPr>
        <p:spPr>
          <a:xfrm rot="19229400">
            <a:off x="3697200" y="4252680"/>
            <a:ext cx="1589040" cy="39672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make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en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13" descr="Picture 3.png"/>
          <p:cNvPicPr/>
          <p:nvPr/>
        </p:nvPicPr>
        <p:blipFill>
          <a:blip r:embed="rId2"/>
          <a:stretch/>
        </p:blipFill>
        <p:spPr>
          <a:xfrm>
            <a:off x="4305240" y="2590920"/>
            <a:ext cx="4381560" cy="350496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14"/>
          <p:cNvSpPr/>
          <p:nvPr/>
        </p:nvSpPr>
        <p:spPr>
          <a:xfrm rot="1542600">
            <a:off x="3311640" y="3311640"/>
            <a:ext cx="1614240" cy="3967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Curved Up Arrow 16"/>
          <p:cNvSpPr/>
          <p:nvPr/>
        </p:nvSpPr>
        <p:spPr>
          <a:xfrm>
            <a:off x="3200400" y="3352680"/>
            <a:ext cx="5118120" cy="838440"/>
          </a:xfrm>
          <a:custGeom>
            <a:avLst/>
            <a:gdLst>
              <a:gd name="textAreaLeft" fmla="*/ 1200960 w 5118120"/>
              <a:gd name="textAreaRight" fmla="*/ 3812400 w 51181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-3670826"/>
                <a:lnTo>
                  <a:pt x="21278" y="5400"/>
                </a:lnTo>
                <a:lnTo>
                  <a:pt x="20716" y="0"/>
                </a:lnTo>
                <a:lnTo>
                  <a:pt x="19509" y="5400"/>
                </a:lnTo>
                <a:lnTo>
                  <a:pt x="19951" y="5400"/>
                </a:lnTo>
                <a:arcTo wR="10137" hR="21600" stAng="1729174" swAng="3600343"/>
                <a:lnTo>
                  <a:pt x="10579" y="21579"/>
                </a:lnTo>
                <a:arcTo wR="10137" hR="21600" stAng="5470483" swAng="5329517"/>
                <a:close/>
              </a:path>
              <a:path fill="darkenLess"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70483"/>
                <a:lnTo>
                  <a:pt x="10579" y="21579"/>
                </a:lnTo>
                <a:arcTo wR="10137" hR="21600" stAng="5470483" swAng="5329517"/>
                <a:close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gebraic rules are equations that use variables to model different situ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be two variables in these equations; one representing the x information and the other representing the y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table will come up on your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57200" y="33480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scroll down the table to find exact values for x and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8" descr="Picture 1.png"/>
          <p:cNvPicPr/>
          <p:nvPr/>
        </p:nvPicPr>
        <p:blipFill>
          <a:blip r:embed="rId2"/>
          <a:stretch/>
        </p:blipFill>
        <p:spPr>
          <a:xfrm>
            <a:off x="4249800" y="2743200"/>
            <a:ext cx="4618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4920" y="2819520"/>
            <a:ext cx="441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x value, go back to TBLSET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) then change your TblStart to the value you are looking fo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24280" y="342432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say you want to know how many people will be on the bus after 15 stop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6" descr="Picture 2.png"/>
          <p:cNvPicPr/>
          <p:nvPr/>
        </p:nvPicPr>
        <p:blipFill>
          <a:blip r:embed="rId2"/>
          <a:stretch/>
        </p:blipFill>
        <p:spPr>
          <a:xfrm>
            <a:off x="4757760" y="2743200"/>
            <a:ext cx="2619360" cy="193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icture 4.png"/>
          <p:cNvPicPr/>
          <p:nvPr/>
        </p:nvPicPr>
        <p:blipFill>
          <a:blip r:embed="rId3"/>
          <a:stretch/>
        </p:blipFill>
        <p:spPr>
          <a:xfrm>
            <a:off x="5994360" y="4267080"/>
            <a:ext cx="298944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152280" y="28954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 then change your TblStart to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228600" y="4754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RAPH to look for your answer i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7" descr="Picture 4.png"/>
          <p:cNvPicPr/>
          <p:nvPr/>
        </p:nvPicPr>
        <p:blipFill>
          <a:blip r:embed="rId2"/>
          <a:stretch/>
        </p:blipFill>
        <p:spPr>
          <a:xfrm>
            <a:off x="5168880" y="3657600"/>
            <a:ext cx="3814920" cy="2819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9"/>
          <p:cNvSpPr/>
          <p:nvPr/>
        </p:nvSpPr>
        <p:spPr>
          <a:xfrm>
            <a:off x="457200" y="30481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X = 15, Y = 61 so after 15 stops there will be 61 people on the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280" y="30844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y value, you’ll need to scroll down in the y column of your table to find tha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257800" y="29732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want to know how many stops it will take until there are 25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in your y column until you see the number 2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 = 25, x = 6 so there will be 25 people on the bus after 6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4572000" y="29368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can’t find the value you are looking for, find the closest value to it then change your ΔTbl to a smaller numb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sp>
        <p:nvSpPr>
          <p:cNvPr id="175" name="Left Arrow 5"/>
          <p:cNvSpPr/>
          <p:nvPr/>
        </p:nvSpPr>
        <p:spPr>
          <a:xfrm>
            <a:off x="2590920" y="3924360"/>
            <a:ext cx="2361960" cy="228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x values will now count by .1 since you changed ΔTb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icture 3.png"/>
          <p:cNvPicPr/>
          <p:nvPr/>
        </p:nvPicPr>
        <p:blipFill>
          <a:blip r:embed="rId3"/>
          <a:stretch/>
        </p:blipFill>
        <p:spPr>
          <a:xfrm>
            <a:off x="4724280" y="3057480"/>
            <a:ext cx="4094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 need to figure out what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riables are in your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3105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 need to find letters to repres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varia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457200" y="6094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 a plane, there are eighty-three rows that hold six people each. When the plane lands, the flight attendants dismiss passengers in groups of 18 peopl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suming the flight was filled to capacity (meaning it was sold out), how many passengers would there be on the plan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rite an algebraic rule to find the amount of passengers that still need to get off the plane in terms of groups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your calculator, make a table for the number of passengers left on the plane for the first ten groups. (Start at 0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people still need to get off the plane after 18 groups are dismiss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groups do they have to dismiss in order for everyone to get off the plane. Explain how you got your answer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is example probl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wo variables in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57200" y="1828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variables are the number of people on the bus and the number of stop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48657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umber of people                                   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2120" y="17524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what the variables are, we can assign letters to represent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371600" y="2967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419720" y="426708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ink about the important information in your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15541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people are initially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19720" y="132084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us driver starts as the only one on the bus so our starting value is 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73800" y="358128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 bus driver is driving a school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33520" y="129528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number of people on the bus change at each stop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267080" y="1554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each stop the number of people on the bus increases by 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581560" y="457200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icks up four stud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562720" y="198108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an we control in this situation? The number of stops or the number of people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1:13:31Z</dcterms:created>
  <dc:creator>Jennifer Dugan</dc:creator>
  <dc:description/>
  <dc:language>en-US</dc:language>
  <cp:lastModifiedBy>Jennifer Dugan</cp:lastModifiedBy>
  <dcterms:modified xsi:type="dcterms:W3CDTF">2009-11-23T01:53:52Z</dcterms:modified>
  <cp:revision>39</cp:revision>
  <dc:subject/>
  <dc:title>Algebraic Rules</dc:title>
</cp:coreProperties>
</file>