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90C1-DC4A-4E96-8C01-54466523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48A1-30B1-4DC6-B4B3-14568FBD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4C24-3BE4-4821-A952-B837D4AD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DF09-5D9B-4EC1-9417-3E9414F7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0CDD-047F-4ADF-B4BC-DDD26184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7088-2C59-4B79-B550-73A8BB26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45A8-FF94-44B8-BA0D-785E8552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28CE-059F-4E1C-8465-9C79CEBB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40C5-FA7A-4313-9425-637324A5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1384-B380-4691-B939-8E343500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3324-8E38-41A7-9012-ECAD795A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4B87-01F2-4F34-A60B-9785D519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69A3AC-ED4D-4446-96D9-493A48B26C46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4DFE77-5030-4BA0-ADF3-49C00268D19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lgebraic Ru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457200" y="1676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, here is what we know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57200" y="3048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Number of people on the b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Number of sto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457200" y="48006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ing Value: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: Increase by 4 students per sto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5257800" y="1536840"/>
            <a:ext cx="3429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can control the number of stops so that means N is our independent variable. We can use this value to find P, the number of people on the bu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228600" y="1447920"/>
            <a:ext cx="4572000" cy="5181480"/>
          </a:xfrm>
          <a:custGeom>
            <a:avLst/>
            <a:gdLst>
              <a:gd name="textAreaLeft" fmla="*/ 223200 w 4572000"/>
              <a:gd name="textAreaRight" fmla="*/ 4348800 w 4572000"/>
              <a:gd name="textAreaTop" fmla="*/ 223200 h 5181480"/>
              <a:gd name="textAreaBottom" fmla="*/ 4958280 h 5181480"/>
            </a:gdLst>
            <a:ahLst/>
            <a:rect l="textAreaLeft" t="textAreaTop" r="textAreaRight" b="textAreaBottom"/>
            <a:pathLst>
              <a:path w="21600" h="24479">
                <a:moveTo>
                  <a:pt x="3600" y="0"/>
                </a:moveTo>
                <a:arcTo wR="3600" hR="3600" stAng="16200000" swAng="-5400000"/>
                <a:lnTo>
                  <a:pt x="0" y="20879"/>
                </a:lnTo>
                <a:arcTo wR="3600" hR="3600" stAng="10800000" swAng="-5400000"/>
                <a:lnTo>
                  <a:pt x="18000" y="244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457200" y="1676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, here is what we know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57200" y="3048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Number of people on the b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Number of sto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57200" y="48006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ing Value: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: Increase by 4 students per sto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5257800" y="1536840"/>
            <a:ext cx="342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r rule will start with your dependent variable then an equal sig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Rounded Rectangle 7"/>
          <p:cNvSpPr/>
          <p:nvPr/>
        </p:nvSpPr>
        <p:spPr>
          <a:xfrm>
            <a:off x="228600" y="1447920"/>
            <a:ext cx="4572000" cy="5181480"/>
          </a:xfrm>
          <a:custGeom>
            <a:avLst/>
            <a:gdLst>
              <a:gd name="textAreaLeft" fmla="*/ 223200 w 4572000"/>
              <a:gd name="textAreaRight" fmla="*/ 4348800 w 4572000"/>
              <a:gd name="textAreaTop" fmla="*/ 223200 h 5181480"/>
              <a:gd name="textAreaBottom" fmla="*/ 4958280 h 5181480"/>
            </a:gdLst>
            <a:ahLst/>
            <a:rect l="textAreaLeft" t="textAreaTop" r="textAreaRight" b="textAreaBottom"/>
            <a:pathLst>
              <a:path w="21600" h="24479">
                <a:moveTo>
                  <a:pt x="3600" y="0"/>
                </a:moveTo>
                <a:arcTo wR="3600" hR="3600" stAng="16200000" swAng="-5400000"/>
                <a:lnTo>
                  <a:pt x="0" y="20879"/>
                </a:lnTo>
                <a:arcTo wR="3600" hR="3600" stAng="10800000" swAng="-5400000"/>
                <a:lnTo>
                  <a:pt x="18000" y="244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5257800" y="46180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57200" y="1676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, here is what we know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57200" y="3048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Number of people on the b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Number of sto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457200" y="48006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ing Value: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: Increase by 4 students per sto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5257800" y="153684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you’ll add your starting poi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ounded Rectangle 7"/>
          <p:cNvSpPr/>
          <p:nvPr/>
        </p:nvSpPr>
        <p:spPr>
          <a:xfrm>
            <a:off x="228600" y="1447920"/>
            <a:ext cx="4572000" cy="5181480"/>
          </a:xfrm>
          <a:custGeom>
            <a:avLst/>
            <a:gdLst>
              <a:gd name="textAreaLeft" fmla="*/ 223200 w 4572000"/>
              <a:gd name="textAreaRight" fmla="*/ 4348800 w 4572000"/>
              <a:gd name="textAreaTop" fmla="*/ 223200 h 5181480"/>
              <a:gd name="textAreaBottom" fmla="*/ 4958280 h 5181480"/>
            </a:gdLst>
            <a:ahLst/>
            <a:rect l="textAreaLeft" t="textAreaTop" r="textAreaRight" b="textAreaBottom"/>
            <a:pathLst>
              <a:path w="21600" h="24479">
                <a:moveTo>
                  <a:pt x="3600" y="0"/>
                </a:moveTo>
                <a:arcTo wR="3600" hR="3600" stAng="16200000" swAng="-5400000"/>
                <a:lnTo>
                  <a:pt x="0" y="20879"/>
                </a:lnTo>
                <a:arcTo wR="3600" hR="3600" stAng="10800000" swAng="-5400000"/>
                <a:lnTo>
                  <a:pt x="18000" y="244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5257800" y="46180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1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457200" y="1676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, here is what we know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57200" y="3048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Number of people on the b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Number of sto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57200" y="48006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ing Value: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: Increase by 4 students per sto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5257800" y="1536840"/>
            <a:ext cx="342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ally, you’ll add an expression for how your values are changing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228600" y="1447920"/>
            <a:ext cx="4572000" cy="5181480"/>
          </a:xfrm>
          <a:custGeom>
            <a:avLst/>
            <a:gdLst>
              <a:gd name="textAreaLeft" fmla="*/ 223200 w 4572000"/>
              <a:gd name="textAreaRight" fmla="*/ 4348800 w 4572000"/>
              <a:gd name="textAreaTop" fmla="*/ 223200 h 5181480"/>
              <a:gd name="textAreaBottom" fmla="*/ 4958280 h 5181480"/>
            </a:gdLst>
            <a:ahLst/>
            <a:rect l="textAreaLeft" t="textAreaTop" r="textAreaRight" b="textAreaBottom"/>
            <a:pathLst>
              <a:path w="21600" h="24479">
                <a:moveTo>
                  <a:pt x="3600" y="0"/>
                </a:moveTo>
                <a:arcTo wR="3600" hR="3600" stAng="16200000" swAng="-5400000"/>
                <a:lnTo>
                  <a:pt x="0" y="20879"/>
                </a:lnTo>
                <a:arcTo wR="3600" hR="3600" stAng="10800000" swAng="-5400000"/>
                <a:lnTo>
                  <a:pt x="18000" y="244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5257800" y="46180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1 + 4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457200" y="1676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, here is what we know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57200" y="3048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Number of people on the b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Number of sto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457200" y="48006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ing Value: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: Increase by 4 students per sto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257800" y="1536840"/>
            <a:ext cx="3429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’re increasing the number of people by 4 per stop so you multiply 4 by 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Rounded Rectangle 7"/>
          <p:cNvSpPr/>
          <p:nvPr/>
        </p:nvSpPr>
        <p:spPr>
          <a:xfrm>
            <a:off x="228600" y="1447920"/>
            <a:ext cx="4572000" cy="5181480"/>
          </a:xfrm>
          <a:custGeom>
            <a:avLst/>
            <a:gdLst>
              <a:gd name="textAreaLeft" fmla="*/ 223200 w 4572000"/>
              <a:gd name="textAreaRight" fmla="*/ 4348800 w 4572000"/>
              <a:gd name="textAreaTop" fmla="*/ 223200 h 5181480"/>
              <a:gd name="textAreaBottom" fmla="*/ 4958280 h 5181480"/>
            </a:gdLst>
            <a:ahLst/>
            <a:rect l="textAreaLeft" t="textAreaTop" r="textAreaRight" b="textAreaBottom"/>
            <a:pathLst>
              <a:path w="21600" h="24479">
                <a:moveTo>
                  <a:pt x="3600" y="0"/>
                </a:moveTo>
                <a:arcTo wR="3600" hR="3600" stAng="16200000" swAng="-5400000"/>
                <a:lnTo>
                  <a:pt x="0" y="20879"/>
                </a:lnTo>
                <a:arcTo wR="3600" hR="3600" stAng="10800000" swAng="-5400000"/>
                <a:lnTo>
                  <a:pt x="18000" y="244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5257800" y="46180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1 + 4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that we have our rule, we can use it to make tables and graph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457200" y="304956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Y= then enter your equati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57200" y="4525920"/>
            <a:ext cx="358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’ll need to replace your independent variable, N, with X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8" descr="Picture 3.png"/>
          <p:cNvPicPr/>
          <p:nvPr/>
        </p:nvPicPr>
        <p:blipFill>
          <a:blip r:embed="rId2"/>
          <a:stretch/>
        </p:blipFill>
        <p:spPr>
          <a:xfrm>
            <a:off x="4495680" y="3008160"/>
            <a:ext cx="4191120" cy="3353040"/>
          </a:xfrm>
          <a:prstGeom prst="rect">
            <a:avLst/>
          </a:prstGeom>
          <a:ln w="0">
            <a:noFill/>
          </a:ln>
        </p:spPr>
      </p:pic>
      <p:sp>
        <p:nvSpPr>
          <p:cNvPr id="115" name="Right Arrow 9"/>
          <p:cNvSpPr/>
          <p:nvPr/>
        </p:nvSpPr>
        <p:spPr>
          <a:xfrm>
            <a:off x="3886200" y="3200400"/>
            <a:ext cx="990720" cy="531720"/>
          </a:xfrm>
          <a:prstGeom prst="rightArrow">
            <a:avLst>
              <a:gd name="adj1" fmla="val 50000"/>
              <a:gd name="adj2" fmla="val 50066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Right Arrow 10"/>
          <p:cNvSpPr/>
          <p:nvPr/>
        </p:nvSpPr>
        <p:spPr>
          <a:xfrm rot="20589600">
            <a:off x="3519000" y="5102280"/>
            <a:ext cx="2068560" cy="531720"/>
          </a:xfrm>
          <a:prstGeom prst="rightArrow">
            <a:avLst>
              <a:gd name="adj1" fmla="val 50000"/>
              <a:gd name="adj2" fmla="val 50070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that we have our rule, we can use it to make tables and graph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685800" y="410364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r rule should look like thi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11" descr="Picture 1.png"/>
          <p:cNvPicPr/>
          <p:nvPr/>
        </p:nvPicPr>
        <p:blipFill>
          <a:blip r:embed="rId2"/>
          <a:stretch/>
        </p:blipFill>
        <p:spPr>
          <a:xfrm>
            <a:off x="4648320" y="3243240"/>
            <a:ext cx="4233600" cy="3157560"/>
          </a:xfrm>
          <a:prstGeom prst="rect">
            <a:avLst/>
          </a:prstGeom>
          <a:ln w="0">
            <a:noFill/>
          </a:ln>
        </p:spPr>
      </p:pic>
      <p:sp>
        <p:nvSpPr>
          <p:cNvPr id="121" name="Right Arrow 12"/>
          <p:cNvSpPr/>
          <p:nvPr/>
        </p:nvSpPr>
        <p:spPr>
          <a:xfrm rot="20367000">
            <a:off x="3863880" y="4140000"/>
            <a:ext cx="1677960" cy="533160"/>
          </a:xfrm>
          <a:prstGeom prst="rightArrow">
            <a:avLst>
              <a:gd name="adj1" fmla="val 50000"/>
              <a:gd name="adj2" fmla="val 49918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nce the rule is in Y=, we can easily make tables and graph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685800" y="3276720"/>
            <a:ext cx="35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make a table, click the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Key then WIND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Picture 6" descr="Picture 3.png"/>
          <p:cNvPicPr/>
          <p:nvPr/>
        </p:nvPicPr>
        <p:blipFill>
          <a:blip r:embed="rId2"/>
          <a:stretch/>
        </p:blipFill>
        <p:spPr>
          <a:xfrm>
            <a:off x="4495680" y="3027240"/>
            <a:ext cx="4121280" cy="3297240"/>
          </a:xfrm>
          <a:prstGeom prst="rect">
            <a:avLst/>
          </a:prstGeom>
          <a:ln w="0">
            <a:noFill/>
          </a:ln>
        </p:spPr>
      </p:pic>
      <p:sp>
        <p:nvSpPr>
          <p:cNvPr id="126" name="Right Arrow 7"/>
          <p:cNvSpPr/>
          <p:nvPr/>
        </p:nvSpPr>
        <p:spPr>
          <a:xfrm rot="21089400">
            <a:off x="4152960" y="3448080"/>
            <a:ext cx="1311120" cy="395280"/>
          </a:xfrm>
          <a:prstGeom prst="rightArrow">
            <a:avLst>
              <a:gd name="adj1" fmla="val 50000"/>
              <a:gd name="adj2" fmla="val 50092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ight Arrow 8"/>
          <p:cNvSpPr/>
          <p:nvPr/>
        </p:nvSpPr>
        <p:spPr>
          <a:xfrm rot="1355400">
            <a:off x="4095720" y="4074840"/>
            <a:ext cx="798480" cy="396720"/>
          </a:xfrm>
          <a:prstGeom prst="rightArrow">
            <a:avLst>
              <a:gd name="adj1" fmla="val 50000"/>
              <a:gd name="adj2" fmla="val 49889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838080" y="1665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’ll come to this scree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457200" y="2590920"/>
            <a:ext cx="35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blStart will be the x value that your table will start a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9" descr="Picture 2.png"/>
          <p:cNvPicPr/>
          <p:nvPr/>
        </p:nvPicPr>
        <p:blipFill>
          <a:blip r:embed="rId2"/>
          <a:stretch/>
        </p:blipFill>
        <p:spPr>
          <a:xfrm>
            <a:off x="4302000" y="2728800"/>
            <a:ext cx="4537080" cy="3367080"/>
          </a:xfrm>
          <a:prstGeom prst="rect">
            <a:avLst/>
          </a:prstGeom>
          <a:ln w="0">
            <a:noFill/>
          </a:ln>
        </p:spPr>
      </p:pic>
      <p:sp>
        <p:nvSpPr>
          <p:cNvPr id="132" name="Right Arrow 10"/>
          <p:cNvSpPr/>
          <p:nvPr/>
        </p:nvSpPr>
        <p:spPr>
          <a:xfrm rot="21411000">
            <a:off x="3743280" y="3236400"/>
            <a:ext cx="920880" cy="395280"/>
          </a:xfrm>
          <a:prstGeom prst="rightArrow">
            <a:avLst>
              <a:gd name="adj1" fmla="val 50000"/>
              <a:gd name="adj2" fmla="val 50175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533520" y="4343400"/>
            <a:ext cx="358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ΔTbl will be the value that the x column will count by in your tab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Right Arrow 12"/>
          <p:cNvSpPr/>
          <p:nvPr/>
        </p:nvSpPr>
        <p:spPr>
          <a:xfrm rot="19229400">
            <a:off x="3697200" y="4252680"/>
            <a:ext cx="1589040" cy="396720"/>
          </a:xfrm>
          <a:prstGeom prst="rightArrow">
            <a:avLst>
              <a:gd name="adj1" fmla="val 50000"/>
              <a:gd name="adj2" fmla="val 49920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838080" y="1665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, you’ll need to make the tab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457200" y="2590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hen GRAP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13" descr="Picture 3.png"/>
          <p:cNvPicPr/>
          <p:nvPr/>
        </p:nvPicPr>
        <p:blipFill>
          <a:blip r:embed="rId2"/>
          <a:stretch/>
        </p:blipFill>
        <p:spPr>
          <a:xfrm>
            <a:off x="4305240" y="2590920"/>
            <a:ext cx="4381560" cy="3504960"/>
          </a:xfrm>
          <a:prstGeom prst="rect">
            <a:avLst/>
          </a:prstGeom>
          <a:ln w="0">
            <a:noFill/>
          </a:ln>
        </p:spPr>
      </p:pic>
      <p:sp>
        <p:nvSpPr>
          <p:cNvPr id="139" name="Right Arrow 14"/>
          <p:cNvSpPr/>
          <p:nvPr/>
        </p:nvSpPr>
        <p:spPr>
          <a:xfrm rot="1542600">
            <a:off x="3311640" y="3311640"/>
            <a:ext cx="1614240" cy="39672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Curved Up Arrow 16"/>
          <p:cNvSpPr/>
          <p:nvPr/>
        </p:nvSpPr>
        <p:spPr>
          <a:xfrm>
            <a:off x="3200400" y="3352680"/>
            <a:ext cx="5118120" cy="838440"/>
          </a:xfrm>
          <a:custGeom>
            <a:avLst/>
            <a:gdLst>
              <a:gd name="textAreaLeft" fmla="*/ 1200960 w 5118120"/>
              <a:gd name="textAreaRight" fmla="*/ 3812400 w 511812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37" hR="21600" stAng="10800000" swAng="-5400000"/>
                <a:lnTo>
                  <a:pt x="11022" y="21600"/>
                </a:lnTo>
                <a:arcTo wR="10137" hR="21600" stAng="5400000" swAng="-3670826"/>
                <a:lnTo>
                  <a:pt x="21278" y="5400"/>
                </a:lnTo>
                <a:lnTo>
                  <a:pt x="20716" y="0"/>
                </a:lnTo>
                <a:lnTo>
                  <a:pt x="19509" y="5400"/>
                </a:lnTo>
                <a:lnTo>
                  <a:pt x="19951" y="5400"/>
                </a:lnTo>
                <a:arcTo wR="10137" hR="21600" stAng="1729174" swAng="3600343"/>
                <a:lnTo>
                  <a:pt x="10579" y="21579"/>
                </a:lnTo>
                <a:arcTo wR="10137" hR="21600" stAng="5470483" swAng="5329517"/>
                <a:close/>
              </a:path>
              <a:path fill="darkenLess" w="21600" h="21600">
                <a:moveTo>
                  <a:pt x="0" y="0"/>
                </a:moveTo>
                <a:arcTo wR="10137" hR="21600" stAng="10800000" swAng="-5400000"/>
                <a:lnTo>
                  <a:pt x="11022" y="21600"/>
                </a:lnTo>
                <a:arcTo wR="10137" hR="21600" stAng="5400000" swAng="70483"/>
                <a:lnTo>
                  <a:pt x="10579" y="21579"/>
                </a:lnTo>
                <a:arcTo wR="10137" hR="21600" stAng="5470483" swAng="5329517"/>
                <a:close/>
              </a:path>
            </a:pathLst>
          </a:cu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lgebraic Rules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gebraic rules are equations that use variables to model different situatio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will be two variables in these equations; one representing the x information and the other representing the y inform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838080" y="1665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r table will come up on your scree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457200" y="3348000"/>
            <a:ext cx="358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you can scroll down the table to find exact values for x and 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8" descr="Picture 1.png"/>
          <p:cNvPicPr/>
          <p:nvPr/>
        </p:nvPicPr>
        <p:blipFill>
          <a:blip r:embed="rId2"/>
          <a:stretch/>
        </p:blipFill>
        <p:spPr>
          <a:xfrm>
            <a:off x="4249800" y="2743200"/>
            <a:ext cx="46180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imes you’ll be looking for a specific val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304920" y="2819520"/>
            <a:ext cx="4419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you’re looking for a specific x value, go back to TBLSET (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WINDOW) then change your TblStart to the value you are looking fo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4724280" y="3424320"/>
            <a:ext cx="4419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say you want to know how many people will be on the bus after 15 stop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imes you’ll be looking for a specific val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6" descr="Picture 2.png"/>
          <p:cNvPicPr/>
          <p:nvPr/>
        </p:nvPicPr>
        <p:blipFill>
          <a:blip r:embed="rId2"/>
          <a:stretch/>
        </p:blipFill>
        <p:spPr>
          <a:xfrm>
            <a:off x="4757760" y="2743200"/>
            <a:ext cx="2619360" cy="1938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Picture 4.png"/>
          <p:cNvPicPr/>
          <p:nvPr/>
        </p:nvPicPr>
        <p:blipFill>
          <a:blip r:embed="rId3"/>
          <a:stretch/>
        </p:blipFill>
        <p:spPr>
          <a:xfrm>
            <a:off x="5994360" y="4267080"/>
            <a:ext cx="2989440" cy="22100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9"/>
          <p:cNvSpPr/>
          <p:nvPr/>
        </p:nvSpPr>
        <p:spPr>
          <a:xfrm>
            <a:off x="152280" y="289548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 to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WINDOW then change your TblStart to 15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228600" y="475452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go to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GRAPH to look for your answer in the tab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imes you’ll be looking for a specific val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7" name="Picture 7" descr="Picture 4.png"/>
          <p:cNvPicPr/>
          <p:nvPr/>
        </p:nvPicPr>
        <p:blipFill>
          <a:blip r:embed="rId2"/>
          <a:stretch/>
        </p:blipFill>
        <p:spPr>
          <a:xfrm>
            <a:off x="5168880" y="3657600"/>
            <a:ext cx="3814920" cy="28195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9"/>
          <p:cNvSpPr/>
          <p:nvPr/>
        </p:nvSpPr>
        <p:spPr>
          <a:xfrm>
            <a:off x="457200" y="304812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X = 15, Y = 61 so after 15 stops there will be 61 people on the bu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imes you’ll be looking for a specific val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152280" y="3084480"/>
            <a:ext cx="4419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you’re looking for a specific y value, you’ll need to scroll down in the y column of your table to find that valu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5257800" y="2973240"/>
            <a:ext cx="3429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ppose you want to know how many stops it will take until there are 25 people on the bu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imes you’ll be looking for a specific val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152280" y="373392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roll down in your y column until you see the number 25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5" descr="Picture 1.png"/>
          <p:cNvPicPr/>
          <p:nvPr/>
        </p:nvPicPr>
        <p:blipFill>
          <a:blip r:embed="rId2"/>
          <a:stretch/>
        </p:blipFill>
        <p:spPr>
          <a:xfrm>
            <a:off x="4811760" y="3251160"/>
            <a:ext cx="38750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imes you’ll be looking for a specific val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152280" y="373392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y = 25, x = 6 so there will be 25 people on the bus after 6 stop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0" name="Picture 5" descr="Picture 1.png"/>
          <p:cNvPicPr/>
          <p:nvPr/>
        </p:nvPicPr>
        <p:blipFill>
          <a:blip r:embed="rId2"/>
          <a:stretch/>
        </p:blipFill>
        <p:spPr>
          <a:xfrm>
            <a:off x="4811760" y="3251160"/>
            <a:ext cx="38750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imes you’ll be looking for a specific val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4572000" y="2936880"/>
            <a:ext cx="4419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you can’t find the value you are looking for, find the closest value to it then change your ΔTbl to a smaller numb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4" name="Picture 4" descr="Picture 2.png"/>
          <p:cNvPicPr/>
          <p:nvPr/>
        </p:nvPicPr>
        <p:blipFill>
          <a:blip r:embed="rId2"/>
          <a:stretch/>
        </p:blipFill>
        <p:spPr>
          <a:xfrm>
            <a:off x="371520" y="3057480"/>
            <a:ext cx="4124160" cy="3038400"/>
          </a:xfrm>
          <a:prstGeom prst="rect">
            <a:avLst/>
          </a:prstGeom>
          <a:ln w="0">
            <a:noFill/>
          </a:ln>
        </p:spPr>
      </p:pic>
      <p:sp>
        <p:nvSpPr>
          <p:cNvPr id="175" name="Left Arrow 5"/>
          <p:cNvSpPr/>
          <p:nvPr/>
        </p:nvSpPr>
        <p:spPr>
          <a:xfrm>
            <a:off x="2590920" y="3924360"/>
            <a:ext cx="2361960" cy="22860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r x values will now count by .1 since you changed ΔTb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8" name="Picture 4" descr="Picture 2.png"/>
          <p:cNvPicPr/>
          <p:nvPr/>
        </p:nvPicPr>
        <p:blipFill>
          <a:blip r:embed="rId2"/>
          <a:stretch/>
        </p:blipFill>
        <p:spPr>
          <a:xfrm>
            <a:off x="371520" y="3057480"/>
            <a:ext cx="4124160" cy="3038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Picture 3.png"/>
          <p:cNvPicPr/>
          <p:nvPr/>
        </p:nvPicPr>
        <p:blipFill>
          <a:blip r:embed="rId3"/>
          <a:stretch/>
        </p:blipFill>
        <p:spPr>
          <a:xfrm>
            <a:off x="4724280" y="3057480"/>
            <a:ext cx="40942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rst you need to figure out what th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ariables are in your situati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457200" y="3105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you need to find letters to represen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se variabl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3"/>
          <p:cNvSpPr/>
          <p:nvPr/>
        </p:nvSpPr>
        <p:spPr>
          <a:xfrm>
            <a:off x="457200" y="60948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n a plane, there are eighty-three rows that hold six people each. When the plane lands, the flight attendants dismiss passengers in groups of 18 people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ssuming the flight was filled to capacity (meaning it was sold out), how many passengers would there be on the plane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rite an algebraic rule to find the amount of passengers that still need to get off the plane in terms of groups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your calculator, make a table for the number of passengers left on the plane for the first ten groups. (Start at 0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many people still need to get off the plane after 18 groups are dismissed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many groups do they have to dismiss in order for everyone to get off the plane. Explain how you got your answer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2590920" y="167652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ake a look at this example proble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685800" y="338292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bus driver is driving a school bus. He leaves the bus depot and goes on his route. He picks up four students at each stop. Write a rule to determine the number of people on the bus after each number of stop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590920" y="167652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the two variables in this problem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685800" y="338292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bus driver is driving a school bus. He leaves the bus depot and goes on his route. He picks up four students at each stop. Write a rule to determine the number of people on the bus after each number of stop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457200" y="18288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variables are the number of people on the bus and the number of stops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685800" y="48657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                       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number of people                                    number of sto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762120" y="17524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that we know what the variables are, we can assign letters to represent the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371600" y="29671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Number of people on the b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Number of sto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4419720" y="4267080"/>
            <a:ext cx="3352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 think about the important information in your problem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57200" y="155412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many people are initially on the bu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685800" y="35812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bus driver is driving a school bus. He leaves the bus depot and goes on his route. He picks up four students at each stop. Write a rule to determine the number of people on the bus after each number of stop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419720" y="1320840"/>
            <a:ext cx="426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bus driver starts as the only one on the bus so our starting value is 1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973800" y="3581280"/>
            <a:ext cx="604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 bus driver is driving a school bu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533520" y="129528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does the number of people on the bus change at each stop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685800" y="35812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bus driver is driving a school bus. He leaves the bus depot and goes on his route. He picks up four students at each stop. Write a rule to determine the number of people on the bus after each number of stop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4267080" y="1554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 each stop the number of people on the bus increases by 4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2581560" y="4572000"/>
            <a:ext cx="39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icks up four student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indefinite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457200" y="1676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, here is what we know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457200" y="3048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Number of people on the b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Number of sto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457200" y="48006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ing Value: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: Increase by 4 students per sto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5562720" y="1981080"/>
            <a:ext cx="3429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can we control in this situation? The number of stops or the number of people on the bu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Rounded Rectangle 7"/>
          <p:cNvSpPr/>
          <p:nvPr/>
        </p:nvSpPr>
        <p:spPr>
          <a:xfrm>
            <a:off x="228600" y="1447920"/>
            <a:ext cx="4572000" cy="5181480"/>
          </a:xfrm>
          <a:custGeom>
            <a:avLst/>
            <a:gdLst>
              <a:gd name="textAreaLeft" fmla="*/ 223200 w 4572000"/>
              <a:gd name="textAreaRight" fmla="*/ 4348800 w 4572000"/>
              <a:gd name="textAreaTop" fmla="*/ 223200 h 5181480"/>
              <a:gd name="textAreaBottom" fmla="*/ 4958280 h 5181480"/>
            </a:gdLst>
            <a:ahLst/>
            <a:rect l="textAreaLeft" t="textAreaTop" r="textAreaRight" b="textAreaBottom"/>
            <a:pathLst>
              <a:path w="21600" h="24479">
                <a:moveTo>
                  <a:pt x="3600" y="0"/>
                </a:moveTo>
                <a:arcTo wR="3600" hR="3600" stAng="16200000" swAng="-5400000"/>
                <a:lnTo>
                  <a:pt x="0" y="20879"/>
                </a:lnTo>
                <a:arcTo wR="3600" hR="3600" stAng="10800000" swAng="-5400000"/>
                <a:lnTo>
                  <a:pt x="18000" y="244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01:13:31Z</dcterms:created>
  <dc:creator>Jennifer Dugan</dc:creator>
  <dc:description/>
  <dc:language>en-US</dc:language>
  <cp:lastModifiedBy>Jennifer Dugan</cp:lastModifiedBy>
  <dcterms:modified xsi:type="dcterms:W3CDTF">2009-11-23T01:53:52Z</dcterms:modified>
  <cp:revision>39</cp:revision>
  <dc:subject/>
  <dc:title>Algebraic Rules</dc:title>
</cp:coreProperties>
</file>